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99E1F1A-5443-452F-A737-9A02B422C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CC06B7-30C5-4332-9EBC-085624D19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2AEC2D48-9AF4-43FB-A31F-1D230DF449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67E329B3-2F90-4D4F-8344-5577F2CD14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61C8FB11-A2E0-4CE5-BD73-AEADB55E36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66B9EE-E843-4F0F-8758-DA148BE06E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9DBE02-B2D8-48C1-8B20-FC9EB472E2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151BF65-251C-4173-90C5-305CB32DB6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40E7A63-FB41-4384-8AC6-6D280B93E4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E1ACB6F6-8F33-4E36-895A-D9AD0487D1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FB5E4357-5A08-4FF0-80CA-B7EB6BC814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682239DE-3478-43C0-878D-1155FF67FF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619733E1-DA7B-4B6F-A19E-1602E1B0E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78DF1A55-1DFC-455E-9EA6-34E0F14CC0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4591E296-8888-4587-A805-C62561BAEC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13CFAB3-5EFE-4CBE-98FA-3D5F41B2B4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7AE00994-67AD-4673-AF8E-421F0CE21A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BB8CFC2B-AFB7-4260-84A6-F91D56B151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79D40C5-73B5-4A4A-B175-392C850861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F40ED01F-90A7-4E86-8BAD-65C5BB8ED6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4629D450-13A7-4636-9158-4D7F9D0FEE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19D26E27-8427-4348-A2BB-631B6C6120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EBFE5012-D3CF-4148-BD5B-1CA3CF4D12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BA8835D2-DA07-4269-9276-52500C3A0D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096F701A-F4AB-4F20-A774-0E73CBB0E1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8D56-C63B-4264-AC47-2C8B00A2EA43}"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BEAB-A55F-4534-AEC7-4B99F78BF83E}"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990B0-5D7F-4D7A-9DBE-88D698B86BE6}" type="datetime3">
              <a:rPr b="0" lang="en-US" sz="2800" spc="-1" strike="noStrike">
                <a:solidFill>
                  <a:srgbClr val="ffffff"/>
                </a:solidFill>
                <a:latin typeface="Arial"/>
              </a:rPr>
              <a:t>July 28,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6620AE6-3203-4BBE-88DE-468F75EAEEDA}"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A85E835-77CE-44B1-8126-7A14A7EC72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7519E9D6-D5A8-44C1-95E8-1AE38E29CC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85FEB7EC-F598-4A1B-ABAB-94743CA41D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8BE175CF-2ACA-4696-AB9C-A8135AE0E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ED904C9-1525-4EF8-82AB-669F3D7951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E4F1678-9891-4846-9320-BCBE557828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2B65C1E-4F05-4C28-9F39-2A3E70B7BB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E0C2DD1-5AF3-4866-BEB8-9E7075FBD5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3165C866-E25A-4050-887D-6399B109C2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8CD7121-FB07-49C9-ACB5-B34115BB59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CB1BA347-DC65-4768-A2AC-96389EE48D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43945C57-0C63-449E-9C4E-F7B826BDF5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64B3AE19-767B-45ED-9A70-7951A67A63B1}"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EADA6D5-1DB8-432B-90F4-A47327F773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29F29DF6-0736-42C1-AE87-1908BC27EA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FDE461C7-8943-4BB1-B487-17AE3A1E4E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782D923-F042-4612-8A7F-F370AC06AA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7EDAD22F-3BD9-40CC-B96D-330A881E72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3A76C358-98D8-40F9-8D78-116272B145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F6FD9DA-D864-411F-916F-506D714046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