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1A7D-5A70-4894-98BC-37510B42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7240" y="413064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7F03-2DC6-4B8D-AFDC-0C49C774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8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39B7-E7C7-4D9E-A37A-311ACC28E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724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DC52-2327-44F0-AEE3-63F376261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44D3-76C6-4A84-9C68-4A862709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8CCA-9D5D-40EC-A5E2-3C588FE7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B712-221F-41C6-985D-AE8696F6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349B-5681-4E5E-8556-0874C642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7240" y="609120"/>
            <a:ext cx="776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34AA-9904-4FBC-AB6D-C3386FF7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ABE6-568B-4C5A-8A8A-95A9F31B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8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AFC8-6EFD-4038-9806-9BC80DDC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D655-1DCE-4BD8-A370-58921DEF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marL="326880" indent="-326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746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36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0360" indent="-2192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7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640" y="6248520"/>
            <a:ext cx="28987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16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2AF4E100-7F19-4894-9073-3B1061020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New%20Logo" descr=""/>
          <p:cNvPicPr/>
          <p:nvPr/>
        </p:nvPicPr>
        <p:blipFill>
          <a:blip r:embed="rId1"/>
          <a:stretch/>
        </p:blipFill>
        <p:spPr>
          <a:xfrm>
            <a:off x="228600" y="25560"/>
            <a:ext cx="1081080" cy="53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73280" y="662004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2056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7400" y="2043000"/>
            <a:ext cx="7764480" cy="15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LICENSED MULTIPOINT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ategies for Reducing Interference by Effective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valuating and Deploying Directional Anten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29080" y="45720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By: Jim Bry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6520" y="1676520"/>
            <a:ext cx="812952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lowest possible signal power at the receiver will need to be hig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the actual noise floor at the base station is greater than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er’s stated radio receive sensi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4282920"/>
            <a:ext cx="6743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1380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51560" y="463068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44720" y="3343320"/>
            <a:ext cx="1317600" cy="61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nimum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P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6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28320" y="320040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5248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27160" y="4627440"/>
            <a:ext cx="198612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Highest 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7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22560" y="4168800"/>
            <a:ext cx="0" cy="250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84880" y="4626000"/>
            <a:ext cx="9730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00560" y="41655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51040" y="39528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1056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2256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00560" y="39402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98560" y="5791320"/>
            <a:ext cx="3701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70 dBm + (5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65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8900000">
            <a:off x="7607160" y="2520720"/>
            <a:ext cx="290520" cy="28548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48640" y="2867040"/>
            <a:ext cx="0" cy="74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934320" y="3398760"/>
          <a:ext cx="1643040" cy="50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3398760"/>
                    <a:ext cx="16430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5435640" y="353700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854360" y="3535200"/>
            <a:ext cx="181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51640" y="3357720"/>
            <a:ext cx="13960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“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441560" y="3595680"/>
            <a:ext cx="6951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49320" y="2300400"/>
            <a:ext cx="10425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ai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371600"/>
            <a:ext cx="868680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 minimum value for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ceived signal power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n at the base station, the radius of your cell can be calculated by using the standard link budget formu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801720"/>
            <a:ext cx="2895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VERAGE AR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89680" y="2338560"/>
            <a:ext cx="175284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8320" y="38750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40280" y="39006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Prem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8900000">
            <a:off x="1250640" y="2495160"/>
            <a:ext cx="290520" cy="28584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92120" y="2841480"/>
            <a:ext cx="0" cy="74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77800" y="3373560"/>
          <a:ext cx="1643040" cy="50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7800" y="3373560"/>
                    <a:ext cx="164304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753840" y="3570120"/>
            <a:ext cx="13658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cess Poi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85240" y="2274840"/>
            <a:ext cx="105804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ai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520" y="2313000"/>
            <a:ext cx="175248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06360" y="4648320"/>
            <a:ext cx="6743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59000" y="45338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800840" y="45338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38960" y="495792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7640" y="4981680"/>
            <a:ext cx="1409760" cy="61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nimum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P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6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797960" y="48132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55760" y="48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44280" y="5943600"/>
            <a:ext cx="72507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 dBm - (-65 dBm)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5 dBm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gains and losses in the signal between the two ra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97360" y="873000"/>
            <a:ext cx="49363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FERENCE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43320" y="3786120"/>
            <a:ext cx="168120" cy="1500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43320" y="4309920"/>
            <a:ext cx="215640" cy="71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43320" y="3846600"/>
            <a:ext cx="2156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33360" y="5286240"/>
            <a:ext cx="2538720" cy="121464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47640" y="5500800"/>
            <a:ext cx="5810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32120" y="5500800"/>
            <a:ext cx="5792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29160" y="2489040"/>
            <a:ext cx="144360" cy="357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460680" y="2600280"/>
            <a:ext cx="146160" cy="142920"/>
          </a:xfrm>
          <a:prstGeom prst="rect">
            <a:avLst/>
          </a:prstGeom>
          <a:solidFill>
            <a:srgbClr val="c0c0c0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60680" y="260028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26000" y="1779480"/>
            <a:ext cx="144720" cy="357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357160" y="1890720"/>
            <a:ext cx="144360" cy="142920"/>
          </a:xfrm>
          <a:prstGeom prst="rect">
            <a:avLst/>
          </a:prstGeom>
          <a:solidFill>
            <a:srgbClr val="c0c0c0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57880" y="1890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782880" y="2065320"/>
            <a:ext cx="1670040" cy="59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35400" y="1600200"/>
            <a:ext cx="2468520" cy="142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50520" y="2378160"/>
            <a:ext cx="32868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55960" y="2671920"/>
            <a:ext cx="725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0840" rIns="60840" tIns="-30240" bIns="-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2136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31440" y="2112840"/>
            <a:ext cx="32868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21240" y="2049480"/>
            <a:ext cx="229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77640" y="3019320"/>
            <a:ext cx="107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373800" y="3786120"/>
            <a:ext cx="169920" cy="1500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73800" y="4309920"/>
            <a:ext cx="219240" cy="71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73800" y="384660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65640" y="5286240"/>
            <a:ext cx="2540160" cy="121464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79920" y="5500800"/>
            <a:ext cx="57960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61160" y="5500800"/>
            <a:ext cx="5810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32120" y="4114800"/>
            <a:ext cx="3771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7280" y="378792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46560" y="4087800"/>
            <a:ext cx="17773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nnas are a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95920" y="3728880"/>
            <a:ext cx="1526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2200" y="3733920"/>
            <a:ext cx="15228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05960" y="819000"/>
            <a:ext cx="41317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 TILTING AN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28800" y="2909880"/>
            <a:ext cx="243828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22320" y="3024360"/>
            <a:ext cx="15264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0800000">
            <a:off x="4794120" y="2986200"/>
            <a:ext cx="243864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0800000">
            <a:off x="7086240" y="3003120"/>
            <a:ext cx="15228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81080" y="340524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00480" y="3367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72160" y="337356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661400" y="4591080"/>
            <a:ext cx="2594520" cy="1807560"/>
            <a:chOff x="1661400" y="4591080"/>
            <a:chExt cx="2594520" cy="1807560"/>
          </a:xfrm>
        </p:grpSpPr>
        <p:sp>
          <p:nvSpPr>
            <p:cNvPr id="310" name=""/>
            <p:cNvSpPr/>
            <p:nvPr/>
          </p:nvSpPr>
          <p:spPr>
            <a:xfrm rot="1428000">
              <a:off x="1739160" y="5044680"/>
              <a:ext cx="2438640" cy="90000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428000">
              <a:off x="1812600" y="4691520"/>
              <a:ext cx="152280" cy="7617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5943600" y="5067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4752720" y="4667040"/>
            <a:ext cx="2596680" cy="1597680"/>
            <a:chOff x="4752720" y="4667040"/>
            <a:chExt cx="2596680" cy="1597680"/>
          </a:xfrm>
        </p:grpSpPr>
        <p:sp>
          <p:nvSpPr>
            <p:cNvPr id="314" name=""/>
            <p:cNvSpPr/>
            <p:nvPr/>
          </p:nvSpPr>
          <p:spPr>
            <a:xfrm rot="9740400">
              <a:off x="4831920" y="5015520"/>
              <a:ext cx="2438280" cy="90036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9740400">
              <a:off x="7054560" y="4686840"/>
              <a:ext cx="152640" cy="762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2819520" y="506736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81080" y="510552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43000" y="144792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educe the amount of interference from external 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the link between your base station and your custo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2819520"/>
            <a:ext cx="6019560" cy="12189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4648320"/>
            <a:ext cx="601956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50000" y="2558880"/>
            <a:ext cx="31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No Ti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levation Pattern Show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60080" y="43941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With Ti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19360" y="379872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20800" y="601992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91760" y="380988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893200" y="601992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3320" y="32385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8640" y="4876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702560" y="32385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97520" y="4876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716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5067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731520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7324200" y="50576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928800" y="2539440"/>
            <a:ext cx="2562120" cy="1996560"/>
            <a:chOff x="928800" y="2539440"/>
            <a:chExt cx="2562120" cy="1996560"/>
          </a:xfrm>
        </p:grpSpPr>
        <p:sp>
          <p:nvSpPr>
            <p:cNvPr id="336" name=""/>
            <p:cNvSpPr/>
            <p:nvPr/>
          </p:nvSpPr>
          <p:spPr>
            <a:xfrm rot="1795800">
              <a:off x="1036440" y="3200760"/>
              <a:ext cx="609120" cy="330120"/>
            </a:xfrm>
            <a:custGeom>
              <a:avLst/>
              <a:gdLst/>
              <a:ahLst/>
              <a:rect l="l" t="t" r="r" b="b"/>
              <a:pathLst>
                <a:path w="384" h="208">
                  <a:moveTo>
                    <a:pt x="48" y="8"/>
                  </a:moveTo>
                  <a:cubicBezTo>
                    <a:pt x="96" y="16"/>
                    <a:pt x="288" y="72"/>
                    <a:pt x="336" y="104"/>
                  </a:cubicBezTo>
                  <a:cubicBezTo>
                    <a:pt x="384" y="136"/>
                    <a:pt x="384" y="208"/>
                    <a:pt x="336" y="200"/>
                  </a:cubicBezTo>
                  <a:cubicBezTo>
                    <a:pt x="288" y="192"/>
                    <a:pt x="96" y="88"/>
                    <a:pt x="48" y="56"/>
                  </a:cubicBezTo>
                  <a:cubicBezTo>
                    <a:pt x="0" y="24"/>
                    <a:pt x="0" y="0"/>
                    <a:pt x="48" y="8"/>
                  </a:cubicBezTo>
                  <a:close/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795800">
              <a:off x="990360" y="3087360"/>
              <a:ext cx="2438280" cy="90000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155600" y="3135240"/>
            <a:ext cx="609840" cy="330120"/>
          </a:xfrm>
          <a:custGeom>
            <a:avLst/>
            <a:gdLst/>
            <a:ahLst/>
            <a:rect l="l" t="t" r="r" b="b"/>
            <a:pathLst>
              <a:path w="384" h="208">
                <a:moveTo>
                  <a:pt x="48" y="8"/>
                </a:moveTo>
                <a:cubicBezTo>
                  <a:pt x="96" y="16"/>
                  <a:pt x="288" y="72"/>
                  <a:pt x="336" y="104"/>
                </a:cubicBezTo>
                <a:cubicBezTo>
                  <a:pt x="384" y="136"/>
                  <a:pt x="384" y="208"/>
                  <a:pt x="336" y="200"/>
                </a:cubicBezTo>
                <a:cubicBezTo>
                  <a:pt x="288" y="192"/>
                  <a:pt x="96" y="88"/>
                  <a:pt x="48" y="56"/>
                </a:cubicBezTo>
                <a:cubicBezTo>
                  <a:pt x="0" y="24"/>
                  <a:pt x="0" y="0"/>
                  <a:pt x="48" y="8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05960" y="819000"/>
            <a:ext cx="41317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 TILTING AN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95600" y="338940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143000" y="144792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the amount of interference from external 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mprove the link between your base station and your custo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79640" y="2565360"/>
            <a:ext cx="243828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7640" y="250200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2882880"/>
            <a:ext cx="7596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2971800"/>
            <a:ext cx="152280" cy="76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81000" y="3133800"/>
            <a:ext cx="152640" cy="75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6000" y="4876920"/>
            <a:ext cx="8686800" cy="1657080"/>
          </a:xfrm>
          <a:custGeom>
            <a:avLst/>
            <a:gdLst/>
            <a:ahLst/>
            <a:rect l="l" t="t" r="r" b="b"/>
            <a:pathLst>
              <a:path w="5472" h="1044">
                <a:moveTo>
                  <a:pt x="0" y="0"/>
                </a:moveTo>
                <a:cubicBezTo>
                  <a:pt x="93" y="31"/>
                  <a:pt x="273" y="21"/>
                  <a:pt x="352" y="24"/>
                </a:cubicBezTo>
                <a:cubicBezTo>
                  <a:pt x="509" y="76"/>
                  <a:pt x="875" y="47"/>
                  <a:pt x="912" y="48"/>
                </a:cubicBezTo>
                <a:cubicBezTo>
                  <a:pt x="920" y="56"/>
                  <a:pt x="930" y="63"/>
                  <a:pt x="936" y="72"/>
                </a:cubicBezTo>
                <a:cubicBezTo>
                  <a:pt x="941" y="79"/>
                  <a:pt x="939" y="89"/>
                  <a:pt x="944" y="96"/>
                </a:cubicBezTo>
                <a:cubicBezTo>
                  <a:pt x="988" y="151"/>
                  <a:pt x="1045" y="194"/>
                  <a:pt x="1112" y="216"/>
                </a:cubicBezTo>
                <a:cubicBezTo>
                  <a:pt x="1117" y="232"/>
                  <a:pt x="1116" y="252"/>
                  <a:pt x="1128" y="264"/>
                </a:cubicBezTo>
                <a:cubicBezTo>
                  <a:pt x="1221" y="357"/>
                  <a:pt x="1146" y="224"/>
                  <a:pt x="1192" y="304"/>
                </a:cubicBezTo>
                <a:cubicBezTo>
                  <a:pt x="1212" y="340"/>
                  <a:pt x="1213" y="381"/>
                  <a:pt x="1232" y="416"/>
                </a:cubicBezTo>
                <a:cubicBezTo>
                  <a:pt x="1246" y="441"/>
                  <a:pt x="1270" y="472"/>
                  <a:pt x="1288" y="496"/>
                </a:cubicBezTo>
                <a:cubicBezTo>
                  <a:pt x="1304" y="543"/>
                  <a:pt x="1285" y="498"/>
                  <a:pt x="1328" y="552"/>
                </a:cubicBezTo>
                <a:cubicBezTo>
                  <a:pt x="1355" y="585"/>
                  <a:pt x="1367" y="629"/>
                  <a:pt x="1400" y="656"/>
                </a:cubicBezTo>
                <a:cubicBezTo>
                  <a:pt x="1433" y="684"/>
                  <a:pt x="1524" y="697"/>
                  <a:pt x="1568" y="704"/>
                </a:cubicBezTo>
                <a:cubicBezTo>
                  <a:pt x="1686" y="783"/>
                  <a:pt x="1787" y="919"/>
                  <a:pt x="1936" y="944"/>
                </a:cubicBezTo>
                <a:cubicBezTo>
                  <a:pt x="2011" y="957"/>
                  <a:pt x="2082" y="956"/>
                  <a:pt x="2160" y="960"/>
                </a:cubicBezTo>
                <a:cubicBezTo>
                  <a:pt x="2251" y="971"/>
                  <a:pt x="2331" y="986"/>
                  <a:pt x="2424" y="992"/>
                </a:cubicBezTo>
                <a:cubicBezTo>
                  <a:pt x="2682" y="1044"/>
                  <a:pt x="3385" y="1015"/>
                  <a:pt x="3480" y="1016"/>
                </a:cubicBezTo>
                <a:cubicBezTo>
                  <a:pt x="4659" y="1027"/>
                  <a:pt x="4246" y="1024"/>
                  <a:pt x="5472" y="102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943600" y="6172200"/>
            <a:ext cx="304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86440" y="62197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134040" y="62197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986440" y="6338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34040" y="6338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8100000">
            <a:off x="5942880" y="6019920"/>
            <a:ext cx="304920" cy="304560"/>
          </a:xfrm>
          <a:prstGeom prst="rtTriangl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19320" y="3073320"/>
            <a:ext cx="4724280" cy="3276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136520" y="2884320"/>
            <a:ext cx="77760" cy="392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59200" y="4267080"/>
            <a:ext cx="75960" cy="76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52840" y="281952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Tilt (Shown in Bla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31520" y="382428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After Tilt (Shown in Gre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363040" y="873000"/>
            <a:ext cx="42840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UNTING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88040" y="2143080"/>
            <a:ext cx="144720" cy="192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26120" y="267984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26120" y="221472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878440" y="4071960"/>
            <a:ext cx="2540160" cy="221472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192720" y="4286160"/>
            <a:ext cx="57960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473960" y="4286160"/>
            <a:ext cx="58104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92720" y="5227560"/>
            <a:ext cx="57960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473960" y="5227560"/>
            <a:ext cx="58104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6928920" y="1571400"/>
            <a:ext cx="21924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7169040" y="1568160"/>
            <a:ext cx="200520" cy="577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0" y="178596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7319520" y="1785960"/>
            <a:ext cx="289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161120" y="156024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5659560" y="3489120"/>
            <a:ext cx="21888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899320" y="3485520"/>
            <a:ext cx="198000" cy="579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587920" y="370368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46560" y="370368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888160" y="347652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28800" y="2490840"/>
            <a:ext cx="3571920" cy="11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mounting an antenna on an object such as a pole and/or a building, be sure to consider movement of the object(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92240" y="4572000"/>
            <a:ext cx="3411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« Vertical Beam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015920" y="4572000"/>
            <a:ext cx="326556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93200" y="1841400"/>
            <a:ext cx="841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02680" y="1285920"/>
            <a:ext cx="13032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530680" y="3098880"/>
            <a:ext cx="8067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26120" y="2571840"/>
            <a:ext cx="130644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67360" y="2104920"/>
            <a:ext cx="1526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891080" y="1087560"/>
            <a:ext cx="5401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TENNA ELECTRICAL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50720" y="2801880"/>
            <a:ext cx="2842200" cy="24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nt-to-Back Rat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zimuth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vation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per Lob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turn Lo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27200" y="1801800"/>
            <a:ext cx="602604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ollowing electrical parameters will chan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an antenna’s designed bandwidth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61440" y="1087560"/>
            <a:ext cx="4703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LOYMENT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" y="2071800"/>
            <a:ext cx="830592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 the Ramifications of Various Resolutions on Patter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All Points on an Azimuth and Elevation Patt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Proper Isolation Between Antennas at Base S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a Worst Case Link Budg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Worst Case Interference from Neighboring Anten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 Tilt When Possi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into Account Movement of the Object(s) the Antennas are Mounted 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How the Antenna Parameters Change Over the Bandwid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61440" y="1087560"/>
            <a:ext cx="4703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LOYMENT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71880" y="2367000"/>
            <a:ext cx="5219640" cy="17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nna Elevation and Azimuth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Station Deployment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Budget and Inter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nna Electrica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77800" y="2389320"/>
          <a:ext cx="2540160" cy="33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7800" y="2389320"/>
                    <a:ext cx="254016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292560" y="2389320"/>
          <a:ext cx="2544840" cy="335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92560" y="238932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989680" y="2389320"/>
          <a:ext cx="2544840" cy="335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89680" y="238932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765360" y="586908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71120" y="587052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6520" y="587052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54920" y="1144440"/>
            <a:ext cx="582804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ICH ANTENNA WOULD YOU CHOOS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87520" y="2460600"/>
          <a:ext cx="2539800" cy="33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7520" y="2460600"/>
                    <a:ext cx="253980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303720" y="2460600"/>
          <a:ext cx="2544480" cy="335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03720" y="2460600"/>
                    <a:ext cx="254448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000840" y="2460600"/>
          <a:ext cx="2544840" cy="335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00840" y="246060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884160" y="59403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5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7400" y="59421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94240" y="59421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56160" y="1233360"/>
            <a:ext cx="544104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Y ARE FROM THE SAME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84120" y="2151000"/>
          <a:ext cx="8380440" cy="442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4120" y="2151000"/>
                    <a:ext cx="838044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156320" y="990720"/>
            <a:ext cx="6820200" cy="7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PER EVALUATION OF PATTERNS REQUI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0 dB OF PATTERN RESOL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7086240" y="3416400"/>
            <a:ext cx="520200" cy="344880"/>
            <a:chOff x="7086240" y="3416400"/>
            <a:chExt cx="520200" cy="344880"/>
          </a:xfrm>
        </p:grpSpPr>
        <p:sp>
          <p:nvSpPr>
            <p:cNvPr id="88" name=""/>
            <p:cNvSpPr/>
            <p:nvPr/>
          </p:nvSpPr>
          <p:spPr>
            <a:xfrm>
              <a:off x="7183440" y="3416400"/>
              <a:ext cx="3049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86240" y="3430440"/>
              <a:ext cx="52020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895640" y="6248520"/>
            <a:ext cx="468360" cy="344880"/>
            <a:chOff x="4895640" y="6248520"/>
            <a:chExt cx="468360" cy="344880"/>
          </a:xfrm>
        </p:grpSpPr>
        <p:sp>
          <p:nvSpPr>
            <p:cNvPr id="91" name=""/>
            <p:cNvSpPr/>
            <p:nvPr/>
          </p:nvSpPr>
          <p:spPr>
            <a:xfrm>
              <a:off x="4964760" y="6248520"/>
              <a:ext cx="3063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95640" y="626256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2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222880" y="5884920"/>
            <a:ext cx="468360" cy="345240"/>
            <a:chOff x="5222880" y="5884920"/>
            <a:chExt cx="468360" cy="345240"/>
          </a:xfrm>
        </p:grpSpPr>
        <p:sp>
          <p:nvSpPr>
            <p:cNvPr id="94" name=""/>
            <p:cNvSpPr/>
            <p:nvPr/>
          </p:nvSpPr>
          <p:spPr>
            <a:xfrm>
              <a:off x="5292360" y="5884920"/>
              <a:ext cx="303480" cy="30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22880" y="589932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1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578560" y="5472000"/>
            <a:ext cx="468360" cy="344880"/>
            <a:chOff x="5578560" y="5472000"/>
            <a:chExt cx="468360" cy="344880"/>
          </a:xfrm>
        </p:grpSpPr>
        <p:sp>
          <p:nvSpPr>
            <p:cNvPr id="97" name=""/>
            <p:cNvSpPr/>
            <p:nvPr/>
          </p:nvSpPr>
          <p:spPr>
            <a:xfrm>
              <a:off x="5649840" y="5472000"/>
              <a:ext cx="304920" cy="30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78560" y="548604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919840" y="5014800"/>
            <a:ext cx="355680" cy="344880"/>
            <a:chOff x="5919840" y="5014800"/>
            <a:chExt cx="355680" cy="344880"/>
          </a:xfrm>
        </p:grpSpPr>
        <p:sp>
          <p:nvSpPr>
            <p:cNvPr id="100" name=""/>
            <p:cNvSpPr/>
            <p:nvPr/>
          </p:nvSpPr>
          <p:spPr>
            <a:xfrm>
              <a:off x="5937120" y="5014800"/>
              <a:ext cx="303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19840" y="5028840"/>
              <a:ext cx="3556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237360" y="4633920"/>
            <a:ext cx="355680" cy="344880"/>
            <a:chOff x="6237360" y="4633920"/>
            <a:chExt cx="355680" cy="344880"/>
          </a:xfrm>
        </p:grpSpPr>
        <p:sp>
          <p:nvSpPr>
            <p:cNvPr id="103" name=""/>
            <p:cNvSpPr/>
            <p:nvPr/>
          </p:nvSpPr>
          <p:spPr>
            <a:xfrm>
              <a:off x="6254640" y="4633920"/>
              <a:ext cx="303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37360" y="4647960"/>
              <a:ext cx="3556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594120" y="4178160"/>
            <a:ext cx="407160" cy="344880"/>
            <a:chOff x="6594120" y="4178160"/>
            <a:chExt cx="407160" cy="344880"/>
          </a:xfrm>
        </p:grpSpPr>
        <p:sp>
          <p:nvSpPr>
            <p:cNvPr id="106" name=""/>
            <p:cNvSpPr/>
            <p:nvPr/>
          </p:nvSpPr>
          <p:spPr>
            <a:xfrm>
              <a:off x="6636960" y="4178160"/>
              <a:ext cx="30384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94120" y="4192200"/>
              <a:ext cx="4071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870240" y="3797280"/>
            <a:ext cx="407160" cy="344880"/>
            <a:chOff x="6870240" y="3797280"/>
            <a:chExt cx="407160" cy="344880"/>
          </a:xfrm>
        </p:grpSpPr>
        <p:sp>
          <p:nvSpPr>
            <p:cNvPr id="109" name=""/>
            <p:cNvSpPr/>
            <p:nvPr/>
          </p:nvSpPr>
          <p:spPr>
            <a:xfrm>
              <a:off x="6912000" y="3797280"/>
              <a:ext cx="3049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70240" y="3811320"/>
              <a:ext cx="4071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56760" y="635040"/>
            <a:ext cx="482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ARING AZIMUTH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 BEHIND THE ANTENN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61160" y="4332240"/>
            <a:ext cx="72396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54360" bIns="54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6120" y="6049800"/>
            <a:ext cx="12574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Antenna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4040" y="5605560"/>
            <a:ext cx="72360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54360" bIns="54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82600" y="5732640"/>
            <a:ext cx="12574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tenna 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371600" y="1447920"/>
          <a:ext cx="6121440" cy="2286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447920"/>
                    <a:ext cx="61214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SC%209012%20-%20comp%20604" descr=""/>
          <p:cNvPicPr/>
          <p:nvPr/>
        </p:nvPicPr>
        <p:blipFill>
          <a:blip r:embed="rId4"/>
          <a:stretch/>
        </p:blipFill>
        <p:spPr>
          <a:xfrm>
            <a:off x="2362320" y="3632040"/>
            <a:ext cx="4267080" cy="2943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2387520" y="5810040"/>
            <a:ext cx="933480" cy="114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3120" rIns="123120" tIns="52560" bIns="52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362320" y="6095880"/>
            <a:ext cx="101592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638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96200" y="5638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24160" y="5670720"/>
            <a:ext cx="4343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65960" y="551664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98440" y="551196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98720" y="78588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58880" y="6168960"/>
            <a:ext cx="3924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4Sector" descr=""/>
          <p:cNvPicPr/>
          <p:nvPr/>
        </p:nvPicPr>
        <p:blipFill>
          <a:blip r:embed="rId2"/>
          <a:stretch/>
        </p:blipFill>
        <p:spPr>
          <a:xfrm>
            <a:off x="693720" y="2303640"/>
            <a:ext cx="4016520" cy="3938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935440" y="3000240"/>
            <a:ext cx="504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60920" y="3714840"/>
            <a:ext cx="5490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95760" y="4448160"/>
            <a:ext cx="54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35440" y="5170320"/>
            <a:ext cx="504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14480" y="3673440"/>
            <a:ext cx="368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35440" y="4324320"/>
            <a:ext cx="3711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86080" y="3956040"/>
            <a:ext cx="3682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48840" y="233532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06320" y="562932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65360" y="2108160"/>
            <a:ext cx="366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9760" y="4110120"/>
            <a:ext cx="368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8120" y="4129200"/>
            <a:ext cx="366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39880" y="334476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8880" y="473220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08440" y="36320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13000" y="3924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51160" y="4483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4749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31840" y="4221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264200" y="2073240"/>
          <a:ext cx="164304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4200" y="2073240"/>
                    <a:ext cx="16430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039200" y="152388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Point (Ra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enn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92560" y="5029200"/>
            <a:ext cx="32767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enna-to-anten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olation takes into account all gains and losses in the signal between two rad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7007400" y="3825720"/>
          <a:ext cx="1643040" cy="50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07400" y="3825720"/>
                    <a:ext cx="16430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6782400" y="402588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Point (Ra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enna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22480" y="2852640"/>
            <a:ext cx="199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-to-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5257440" y="2362320"/>
            <a:ext cx="76212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10280" y="3403440"/>
            <a:ext cx="673200" cy="3891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89320" y="421632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3962520"/>
            <a:ext cx="6292800" cy="158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67640" y="386388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05400" y="428796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26840" y="289548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49560" y="364824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28880" y="4309920"/>
            <a:ext cx="123156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66068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deal antenna-to-antenna isolation level should produce a noise level that is less than the manufacturer’s stated radio receive sensi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94240" y="5661000"/>
            <a:ext cx="3764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Bm - (-90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0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63560" y="38606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38606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63560" y="414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70880" y="414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7960" y="1577880"/>
            <a:ext cx="81295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worst-case antenna-to-antenna isolation at your base station is 100 dBm, then your actual (or highest) noise floor can be calcula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3770280"/>
            <a:ext cx="6743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1380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51560" y="411804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28320" y="268776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27160" y="4114800"/>
            <a:ext cx="198612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Highest 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7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2256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84880" y="4113360"/>
            <a:ext cx="9730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1040" y="34401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1056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2256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85960" y="5460840"/>
            <a:ext cx="376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Bm - (100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70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7:25:28Z</dcterms:created>
  <dc:creator>Jim Bryant</dc:creator>
  <dc:description/>
  <dc:language>en-US</dc:language>
  <cp:lastModifiedBy>Karen Crain</cp:lastModifiedBy>
  <cp:lastPrinted>2002-02-08T15:36:29Z</cp:lastPrinted>
  <dcterms:modified xsi:type="dcterms:W3CDTF">2002-02-08T19:07:58Z</dcterms:modified>
  <cp:revision>243</cp:revision>
  <dc:subject/>
  <dc:title>No Slide Title</dc:title>
</cp:coreProperties>
</file>