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2B5D-5372-496A-AC76-88B02A89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BF90-E226-44C0-B08E-37D16BE6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6E36-8523-44FF-9ED7-24216FB18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F320-02DF-41C0-BC6C-EF285C09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CDD2-6372-4B97-89DF-2A78C973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0C56-1282-45D1-B7E6-24821A49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D3AA-0C74-4369-9E78-F87CB2D6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8F82-38F0-41DD-9794-1F3D1CA6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7341-45FF-4883-A223-4C0F1E0B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D63F-8DD2-4CCA-ABD7-B476AF0B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CD09-A80D-4C4D-9C6D-8EB1239D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1703-D6FA-4953-B2BD-C233DB96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F065-EB09-4744-A619-E9E968E0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FE22-171B-4A94-B3E0-E18003F1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343A-C322-41FB-A56F-246989E8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0C8D-2AA9-4F8B-9939-3B31B599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79AD-1023-41B6-9D7B-CCEFF370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C481-17D7-4F63-A5B3-7A8D4B9C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EB1F-23E2-4229-925A-A9B80A07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F9AA-45F7-43AA-B6B8-EF76CF4C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7341-5BCF-44D0-AE6E-E82EC081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0629-7C2F-49C9-A19E-D26F6678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0ACD-5E8A-497D-8053-FF6C815B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DE2A-DCAC-4E43-B6CD-72DB3263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880" y="0"/>
            <a:ext cx="1064520" cy="6861240"/>
            <a:chOff x="-11880" y="0"/>
            <a:chExt cx="1064520" cy="6861240"/>
          </a:xfrm>
        </p:grpSpPr>
        <p:sp>
          <p:nvSpPr>
            <p:cNvPr id="1" name=""/>
            <p:cNvSpPr/>
            <p:nvPr/>
          </p:nvSpPr>
          <p:spPr>
            <a:xfrm flipH="1">
              <a:off x="37440" y="0"/>
              <a:ext cx="990360" cy="683748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37440" y="1698480"/>
              <a:ext cx="990360" cy="5018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37440" y="129060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37440" y="15408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37440" y="990720"/>
              <a:ext cx="990360" cy="3492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37440" y="685800"/>
              <a:ext cx="990360" cy="43164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37440" y="377640"/>
              <a:ext cx="1003320" cy="37476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9520" y="3943440"/>
              <a:ext cx="990360" cy="5000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29520" y="354024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9520" y="2400120"/>
              <a:ext cx="990360" cy="3049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9520" y="3236760"/>
              <a:ext cx="990360" cy="349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29520" y="2933640"/>
              <a:ext cx="990360" cy="428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29520" y="262260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37440" y="497520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37440" y="456732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29520" y="567540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 rot="16200000">
              <a:off x="353160" y="6190200"/>
              <a:ext cx="34596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29520" y="6207120"/>
              <a:ext cx="990360" cy="43020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29520" y="589752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6200000">
              <a:off x="-3114000" y="310500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6200000">
              <a:off x="-2525400" y="328104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3047760" y="6048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4952880" y="60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7848360" y="604836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F780-970A-4B8D-B57D-CD4D04F36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2438280" y="650556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ldwide Interoperability for Microwave Access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forum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8" name=""/>
          <p:cNvGraphicFramePr/>
          <p:nvPr/>
        </p:nvGraphicFramePr>
        <p:xfrm>
          <a:off x="1066680" y="6156360"/>
          <a:ext cx="137160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156360"/>
                    <a:ext cx="13716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 rot="5400000">
            <a:off x="4088520" y="-1575720"/>
            <a:ext cx="990720" cy="9120240"/>
          </a:xfrm>
          <a:custGeom>
            <a:avLst/>
            <a:gdLst/>
            <a:ahLst/>
            <a:rect l="l" t="t" r="r" b="b"/>
            <a:pathLst>
              <a:path w="1000" h="720">
                <a:moveTo>
                  <a:pt x="0" y="0"/>
                </a:moveTo>
                <a:lnTo>
                  <a:pt x="0" y="720"/>
                </a:lnTo>
                <a:lnTo>
                  <a:pt x="1000" y="720"/>
                </a:lnTo>
                <a:lnTo>
                  <a:pt x="10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"/>
          <p:cNvSpPr/>
          <p:nvPr/>
        </p:nvSpPr>
        <p:spPr>
          <a:xfrm flipH="1" rot="5400000">
            <a:off x="6049800" y="2649960"/>
            <a:ext cx="990720" cy="6685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"/>
          <p:cNvSpPr/>
          <p:nvPr/>
        </p:nvSpPr>
        <p:spPr>
          <a:xfrm flipH="1" rot="5400000">
            <a:off x="6591240" y="2649600"/>
            <a:ext cx="990720" cy="66960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"/>
          <p:cNvSpPr/>
          <p:nvPr/>
        </p:nvSpPr>
        <p:spPr>
          <a:xfrm flipH="1" rot="5400000">
            <a:off x="8241480" y="278208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"/>
          <p:cNvSpPr/>
          <p:nvPr/>
        </p:nvSpPr>
        <p:spPr>
          <a:xfrm flipH="1" rot="5400000">
            <a:off x="7095240" y="2750760"/>
            <a:ext cx="990720" cy="4669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"/>
          <p:cNvSpPr/>
          <p:nvPr/>
        </p:nvSpPr>
        <p:spPr>
          <a:xfrm flipH="1" rot="5400000">
            <a:off x="7448400" y="2697120"/>
            <a:ext cx="990720" cy="5745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"/>
          <p:cNvSpPr/>
          <p:nvPr/>
        </p:nvSpPr>
        <p:spPr>
          <a:xfrm flipH="1" rot="5400000">
            <a:off x="7890480" y="2739960"/>
            <a:ext cx="1003320" cy="50040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"/>
          <p:cNvSpPr/>
          <p:nvPr/>
        </p:nvSpPr>
        <p:spPr>
          <a:xfrm flipH="1" rot="5400000">
            <a:off x="3053520" y="264240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"/>
          <p:cNvSpPr/>
          <p:nvPr/>
        </p:nvSpPr>
        <p:spPr>
          <a:xfrm flipH="1" rot="5400000">
            <a:off x="3593160" y="264132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"/>
          <p:cNvSpPr/>
          <p:nvPr/>
        </p:nvSpPr>
        <p:spPr>
          <a:xfrm flipH="1" rot="5400000">
            <a:off x="5245920" y="277416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 flipH="1" rot="5400000">
            <a:off x="4100400" y="2743200"/>
            <a:ext cx="990720" cy="4665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"/>
          <p:cNvSpPr/>
          <p:nvPr/>
        </p:nvSpPr>
        <p:spPr>
          <a:xfrm flipH="1" rot="5400000">
            <a:off x="4452120" y="2689920"/>
            <a:ext cx="990720" cy="57312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"/>
          <p:cNvSpPr/>
          <p:nvPr/>
        </p:nvSpPr>
        <p:spPr>
          <a:xfrm flipH="1" rot="5400000">
            <a:off x="48934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 flipH="1" rot="5400000">
            <a:off x="1678680" y="265032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H="1" rot="5400000">
            <a:off x="2218320" y="264924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"/>
          <p:cNvSpPr/>
          <p:nvPr/>
        </p:nvSpPr>
        <p:spPr>
          <a:xfrm flipH="1" rot="5400000">
            <a:off x="873000" y="2773800"/>
            <a:ext cx="990720" cy="40500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-3960" y="2479680"/>
            <a:ext cx="461880" cy="992160"/>
          </a:xfrm>
          <a:custGeom>
            <a:avLst/>
            <a:gdLst/>
            <a:ahLst/>
            <a:rect l="l" t="t" r="r" b="b"/>
            <a:pathLst>
              <a:path w="291" h="625">
                <a:moveTo>
                  <a:pt x="0" y="624"/>
                </a:moveTo>
                <a:lnTo>
                  <a:pt x="291" y="625"/>
                </a:lnTo>
                <a:lnTo>
                  <a:pt x="291" y="6"/>
                </a:lnTo>
                <a:lnTo>
                  <a:pt x="0" y="0"/>
                </a:lnTo>
                <a:cubicBezTo>
                  <a:pt x="39" y="384"/>
                  <a:pt x="0" y="494"/>
                  <a:pt x="0" y="6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"/>
          <p:cNvSpPr/>
          <p:nvPr/>
        </p:nvSpPr>
        <p:spPr>
          <a:xfrm flipH="1" rot="5400000">
            <a:off x="79200" y="2689920"/>
            <a:ext cx="990720" cy="5727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 flipH="1" rot="5400000">
            <a:off x="5212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-3960" y="2438280"/>
            <a:ext cx="9147240" cy="654120"/>
          </a:xfrm>
          <a:custGeom>
            <a:avLst/>
            <a:gdLst/>
            <a:ahLst/>
            <a:rect l="l" t="t" r="r" b="b"/>
            <a:pathLst>
              <a:path w="5762" h="385">
                <a:moveTo>
                  <a:pt x="0" y="196"/>
                </a:moveTo>
                <a:cubicBezTo>
                  <a:pt x="1667" y="385"/>
                  <a:pt x="2275" y="93"/>
                  <a:pt x="5762" y="188"/>
                </a:cubicBezTo>
                <a:lnTo>
                  <a:pt x="5762" y="4"/>
                </a:lnTo>
                <a:lnTo>
                  <a:pt x="0" y="0"/>
                </a:lnTo>
                <a:lnTo>
                  <a:pt x="0" y="19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-3960" y="3201840"/>
            <a:ext cx="9145800" cy="300240"/>
          </a:xfrm>
          <a:custGeom>
            <a:avLst/>
            <a:gdLst/>
            <a:ahLst/>
            <a:rect l="l" t="t" r="r" b="b"/>
            <a:pathLst>
              <a:path w="5761" h="189">
                <a:moveTo>
                  <a:pt x="0" y="28"/>
                </a:moveTo>
                <a:cubicBezTo>
                  <a:pt x="961" y="0"/>
                  <a:pt x="4971" y="161"/>
                  <a:pt x="5761" y="0"/>
                </a:cubicBezTo>
                <a:lnTo>
                  <a:pt x="5761" y="189"/>
                </a:lnTo>
                <a:lnTo>
                  <a:pt x="1" y="189"/>
                </a:lnTo>
                <a:lnTo>
                  <a:pt x="0" y="28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DD80-2ABB-4F3F-969A-48F1D30BB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3600" y="2438280"/>
            <a:ext cx="9147600" cy="1063800"/>
            <a:chOff x="-3600" y="2438280"/>
            <a:chExt cx="9147600" cy="1063800"/>
          </a:xfrm>
        </p:grpSpPr>
        <p:sp>
          <p:nvSpPr>
            <p:cNvPr id="92" name=""/>
            <p:cNvSpPr/>
            <p:nvPr/>
          </p:nvSpPr>
          <p:spPr>
            <a:xfrm flipH="1" rot="5400000">
              <a:off x="4088520" y="-1575720"/>
              <a:ext cx="990720" cy="912024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5400000">
              <a:off x="6049800" y="2649960"/>
              <a:ext cx="990720" cy="6685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5400000">
              <a:off x="6591240" y="2649600"/>
              <a:ext cx="990720" cy="6696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5400000">
              <a:off x="8241480" y="278208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5400000">
              <a:off x="7095240" y="2750760"/>
              <a:ext cx="990720" cy="4669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5400000">
              <a:off x="7448400" y="2697120"/>
              <a:ext cx="990720" cy="5745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5400000">
              <a:off x="7890480" y="2739960"/>
              <a:ext cx="1003320" cy="5004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rot="5400000">
              <a:off x="3053520" y="264240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rot="5400000">
              <a:off x="3593160" y="264132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rot="5400000">
              <a:off x="5245920" y="277416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rot="5400000">
              <a:off x="4100400" y="2743200"/>
              <a:ext cx="990720" cy="466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rot="5400000">
              <a:off x="4452120" y="2689920"/>
              <a:ext cx="990720" cy="57312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5400000">
              <a:off x="48934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5400000">
              <a:off x="1678680" y="265032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5400000">
              <a:off x="2218320" y="264924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rot="5400000">
              <a:off x="873000" y="2773800"/>
              <a:ext cx="990720" cy="40500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-3960" y="2479680"/>
              <a:ext cx="46188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rot="5400000">
              <a:off x="79200" y="2689920"/>
              <a:ext cx="990720" cy="572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rot="5400000">
              <a:off x="5212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WiMAX Forum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a Ska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Organiz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12800" y="2401920"/>
          <a:ext cx="720900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2401920"/>
                    <a:ext cx="720900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SO00286_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2286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iss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deployment broadband wireless access networks by using a global standard and certifying interoperability of products and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ccess profiles to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 known interoperability level inside network and insid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or everyone to particip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IEEE 802.16 standard to achieve global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use of Broadband wireless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HH00173_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14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manufactu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ven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j0150058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60020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competitive BWA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pecifying minimum air-interfa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twork operators this means – interoperability between equipment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quipment vendors this means – less product 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ponent vendors this means – larg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nd-users this means – faster and cheaper access connection, because of compe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j0194812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ofile 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mandatory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optional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can be features that are vendor specific outside mandatory and option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j0245875" descr=""/>
          <p:cNvPicPr/>
          <p:nvPr/>
        </p:nvPicPr>
        <p:blipFill>
          <a:blip r:embed="rId1"/>
          <a:stretch/>
        </p:blipFill>
        <p:spPr>
          <a:xfrm>
            <a:off x="7157880" y="228600"/>
            <a:ext cx="1733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IP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is to create a separate patent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l will be based on separate agreements between participating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technical committee is used as a patent scaling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j0275036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Forum creation mileston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S for 11-66 GHz stabile draft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cedure for 11-66 GHz end of Ap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frequencies introduced to WiMAX starting after March IEEE 802.16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WiMAX press release during Shorecliff Anaheim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AN00775_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hip fe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2880" y="185580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5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fee $ 200 per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5 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rincipl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j0232246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8288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21:35:23Z</dcterms:created>
  <dc:creator>NOKIA</dc:creator>
  <dc:description/>
  <dc:language>en-US</dc:language>
  <cp:lastModifiedBy>Mika Skarp</cp:lastModifiedBy>
  <dcterms:modified xsi:type="dcterms:W3CDTF">2002-01-29T06:18:39Z</dcterms:modified>
  <cp:revision>42</cp:revision>
  <dc:subject/>
  <dc:title>Forum</dc:title>
</cp:coreProperties>
</file>