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png" ContentType="image/png"/>
  <Override PartName="/ppt/media/image3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CD31B-5E90-457E-9B63-F5D1AF4054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C570F-393C-41ED-9373-CC1B39F2D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FC340-CDB2-49E1-B177-55F1EF6D0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74D79-1A70-49FF-A1DC-C5FCE718D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692A08-B171-460B-9473-54F7FEEE90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D71A1-3A80-49D2-BA90-1A39645AA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3ADE23-DC51-4472-B088-20554F9CD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D68F6-94A6-4BC1-9C88-751C5DA15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B2337-4454-4A19-93AA-8E0D2143B5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6DDA1-C8ED-4F92-B3F8-694813978B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008A33-EFFB-4798-983A-23F3E7FCC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E5A0-39CA-45DA-9942-00641F1DA5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B8917-0EE6-498A-AF9A-7A5FCC75C0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DF7A3-0968-4711-98C1-8468DF111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E10608-40B2-481A-9DA9-BB9A0E045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7165E-EB61-4323-8F5F-4A61BE42E8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350028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6190920" y="221436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7" name="PlaceHolder 5"/>
          <p:cNvSpPr>
            <a:spLocks noGrp="1"/>
          </p:cNvSpPr>
          <p:nvPr>
            <p:ph/>
          </p:nvPr>
        </p:nvSpPr>
        <p:spPr>
          <a:xfrm>
            <a:off x="80964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8" name="PlaceHolder 6"/>
          <p:cNvSpPr>
            <a:spLocks noGrp="1"/>
          </p:cNvSpPr>
          <p:nvPr>
            <p:ph/>
          </p:nvPr>
        </p:nvSpPr>
        <p:spPr>
          <a:xfrm>
            <a:off x="350028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9" name="PlaceHolder 7"/>
          <p:cNvSpPr>
            <a:spLocks noGrp="1"/>
          </p:cNvSpPr>
          <p:nvPr>
            <p:ph/>
          </p:nvPr>
        </p:nvSpPr>
        <p:spPr>
          <a:xfrm>
            <a:off x="6190920" y="4241880"/>
            <a:ext cx="25621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C95BE-8267-4838-BB1D-D3B1F2C2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D8E4F-815E-4CD1-86B7-8A3D51DEF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45CB-C3B1-4F99-8A6B-824D7C078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4E15-95CB-4541-AB8E-D4DE54EF84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371600" y="609120"/>
            <a:ext cx="737856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56E9A-3BBF-4098-9914-EE34AB68CC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C4B45-7046-42B6-ABEF-B45D02033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887360" y="424188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AC31-641B-49AC-9816-ECEE32B92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887360" y="2214360"/>
            <a:ext cx="388332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809640" y="4241880"/>
            <a:ext cx="7958160" cy="185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9A321-2537-4128-8597-6E38BEF12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8400"/>
            <a:ext cx="8915400" cy="6713280"/>
            <a:chOff x="0" y="68400"/>
            <a:chExt cx="8915400" cy="6713280"/>
          </a:xfrm>
        </p:grpSpPr>
        <p:grpSp>
          <p:nvGrpSpPr>
            <p:cNvPr id="1" name=""/>
            <p:cNvGrpSpPr/>
            <p:nvPr/>
          </p:nvGrpSpPr>
          <p:grpSpPr>
            <a:xfrm>
              <a:off x="0" y="68400"/>
              <a:ext cx="647640" cy="6713280"/>
              <a:chOff x="0" y="68400"/>
              <a:chExt cx="647640" cy="671328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6672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0" y="672948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0" y="6781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0" y="652932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0" y="6453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0" y="660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0" y="58197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0" y="57769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63817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0" y="6181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0" y="6053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0" y="6348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0" y="5853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" name=""/>
              <p:cNvSpPr/>
              <p:nvPr/>
            </p:nvSpPr>
            <p:spPr>
              <a:xfrm>
                <a:off x="0" y="59389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" name=""/>
              <p:cNvSpPr/>
              <p:nvPr/>
            </p:nvSpPr>
            <p:spPr>
              <a:xfrm>
                <a:off x="0" y="6253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0" y="6219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0" y="55720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0" y="562932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0" y="5681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0" y="54291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0" y="53532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0" y="5500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0" y="47196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0" y="4676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0" y="52815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0" y="508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0" y="49528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0" y="52484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0" y="47530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0" y="4838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0" y="515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0" y="51195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4" name=""/>
              <p:cNvSpPr/>
              <p:nvPr/>
            </p:nvSpPr>
            <p:spPr>
              <a:xfrm>
                <a:off x="0" y="449424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5" name=""/>
              <p:cNvSpPr/>
              <p:nvPr/>
            </p:nvSpPr>
            <p:spPr>
              <a:xfrm>
                <a:off x="0" y="43657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0" y="4251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0" y="45655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0" y="45324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0" y="4054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0" y="4111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0" y="41641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0" y="39117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0" y="3835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0" y="39830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0" y="37638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0" y="35640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0" y="37306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0" y="36352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0" y="36021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0" y="3381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0" y="3438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3490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0" y="32385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0" y="31622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0" y="3309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0" y="25290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24861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0909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0" y="2890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762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305748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0" y="256212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0" y="264780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0" y="29624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0" y="292896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0" y="22813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0" y="23385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0" y="23907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0" y="21384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0" y="22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0" y="161280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0" y="1569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0" y="197496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0" y="18464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0" y="16462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0" y="17319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0" y="20462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>
                <a:off x="0" y="2013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>
                <a:off x="0" y="13651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0" y="14223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0" y="147492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>
                <a:off x="0" y="12222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>
                <a:off x="0" y="129384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0" y="11397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>
                <a:off x="0" y="10256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>
                <a:off x="0" y="828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>
                <a:off x="0" y="8859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>
                <a:off x="0" y="93816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>
                <a:off x="0" y="685800"/>
                <a:ext cx="64764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0" y="60948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>
                <a:off x="0" y="7570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>
                <a:off x="0" y="53820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>
                <a:off x="0" y="50472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0" y="409680"/>
                <a:ext cx="64764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0" y="111240"/>
                <a:ext cx="64764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6" name=""/>
              <p:cNvSpPr/>
              <p:nvPr/>
            </p:nvSpPr>
            <p:spPr>
              <a:xfrm>
                <a:off x="0" y="6840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0" y="14436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0" y="230040"/>
                <a:ext cx="64764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0" y="320760"/>
                <a:ext cx="64764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100" name=""/>
            <p:cNvGrpSpPr/>
            <p:nvPr/>
          </p:nvGrpSpPr>
          <p:grpSpPr>
            <a:xfrm>
              <a:off x="635040" y="325440"/>
              <a:ext cx="8280360" cy="1782720"/>
              <a:chOff x="635040" y="325440"/>
              <a:chExt cx="8280360" cy="1782720"/>
            </a:xfrm>
          </p:grpSpPr>
          <p:sp>
            <p:nvSpPr>
              <p:cNvPr id="101" name=""/>
              <p:cNvSpPr/>
              <p:nvPr/>
            </p:nvSpPr>
            <p:spPr>
              <a:xfrm>
                <a:off x="884160" y="325440"/>
                <a:ext cx="496800" cy="145080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35040" y="4572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7300800" y="1770120"/>
                <a:ext cx="1474920" cy="338040"/>
              </a:xfrm>
              <a:prstGeom prst="rect">
                <a:avLst/>
              </a:prstGeom>
              <a:solidFill>
                <a:srgbClr val="cc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3252960" y="1922400"/>
                <a:ext cx="5662440" cy="77760"/>
              </a:xfrm>
              <a:prstGeom prst="rect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body"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2" marL="1020600" indent="-214560">
              <a:spcBef>
                <a:spcPts val="7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3" marL="1342800" indent="-214560">
              <a:spcBef>
                <a:spcPts val="7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4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5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6" marL="1665000" indent="-214560">
              <a:spcBef>
                <a:spcPts val="799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1"/>
          </p:nvPr>
        </p:nvSpPr>
        <p:spPr>
          <a:xfrm>
            <a:off x="809640" y="6373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ftr" idx="2"/>
          </p:nvPr>
        </p:nvSpPr>
        <p:spPr>
          <a:xfrm>
            <a:off x="6058080" y="6400800"/>
            <a:ext cx="3085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sldNum" idx="3"/>
          </p:nvPr>
        </p:nvSpPr>
        <p:spPr>
          <a:xfrm>
            <a:off x="6589800" y="6377040"/>
            <a:ext cx="2193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A3D37-8792-4446-962D-8CA8F0BC0929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"/>
          <p:cNvGrpSpPr/>
          <p:nvPr/>
        </p:nvGrpSpPr>
        <p:grpSpPr>
          <a:xfrm>
            <a:off x="0" y="68400"/>
            <a:ext cx="8678880" cy="6713280"/>
            <a:chOff x="0" y="68400"/>
            <a:chExt cx="8678880" cy="6713280"/>
          </a:xfrm>
        </p:grpSpPr>
        <p:sp>
          <p:nvSpPr>
            <p:cNvPr id="147" name=""/>
            <p:cNvSpPr/>
            <p:nvPr/>
          </p:nvSpPr>
          <p:spPr>
            <a:xfrm>
              <a:off x="1098720" y="784080"/>
              <a:ext cx="7580160" cy="148608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grpSp>
          <p:nvGrpSpPr>
            <p:cNvPr id="148" name=""/>
            <p:cNvGrpSpPr/>
            <p:nvPr/>
          </p:nvGrpSpPr>
          <p:grpSpPr>
            <a:xfrm>
              <a:off x="0" y="68400"/>
              <a:ext cx="990720" cy="6713280"/>
              <a:chOff x="0" y="68400"/>
              <a:chExt cx="990720" cy="6713280"/>
            </a:xfrm>
          </p:grpSpPr>
          <p:sp>
            <p:nvSpPr>
              <p:cNvPr id="149" name=""/>
              <p:cNvSpPr/>
              <p:nvPr/>
            </p:nvSpPr>
            <p:spPr>
              <a:xfrm>
                <a:off x="0" y="6672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0" y="672948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0" y="6781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0" y="652932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0" y="6453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0" y="660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0" y="58197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0" y="57769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0" y="63817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0" y="6181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0" y="6053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0" y="6348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0" y="5853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0" y="59389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0" y="6253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0" y="6219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0" y="55720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0" y="562932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0" y="5681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0" y="54291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0" y="53532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0" y="5500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0" y="47196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0" y="4676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>
                <a:off x="0" y="52815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>
                <a:off x="0" y="508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5" name=""/>
              <p:cNvSpPr/>
              <p:nvPr/>
            </p:nvSpPr>
            <p:spPr>
              <a:xfrm>
                <a:off x="0" y="49528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6" name=""/>
              <p:cNvSpPr/>
              <p:nvPr/>
            </p:nvSpPr>
            <p:spPr>
              <a:xfrm>
                <a:off x="0" y="52484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0" y="47530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0" y="4838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79" name=""/>
              <p:cNvSpPr/>
              <p:nvPr/>
            </p:nvSpPr>
            <p:spPr>
              <a:xfrm>
                <a:off x="0" y="515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0" name=""/>
              <p:cNvSpPr/>
              <p:nvPr/>
            </p:nvSpPr>
            <p:spPr>
              <a:xfrm>
                <a:off x="0" y="51195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0" y="449424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0" y="43657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0" y="4251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0" y="45655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0" y="45324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0" y="4054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0" y="4111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0" y="41641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0" y="39117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0" y="3835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0" y="39830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0" y="37638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3" name=""/>
              <p:cNvSpPr/>
              <p:nvPr/>
            </p:nvSpPr>
            <p:spPr>
              <a:xfrm>
                <a:off x="0" y="35640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4" name=""/>
              <p:cNvSpPr/>
              <p:nvPr/>
            </p:nvSpPr>
            <p:spPr>
              <a:xfrm>
                <a:off x="0" y="37306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5" name=""/>
              <p:cNvSpPr/>
              <p:nvPr/>
            </p:nvSpPr>
            <p:spPr>
              <a:xfrm>
                <a:off x="0" y="36352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6" name=""/>
              <p:cNvSpPr/>
              <p:nvPr/>
            </p:nvSpPr>
            <p:spPr>
              <a:xfrm>
                <a:off x="0" y="36021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7" name=""/>
              <p:cNvSpPr/>
              <p:nvPr/>
            </p:nvSpPr>
            <p:spPr>
              <a:xfrm>
                <a:off x="0" y="3381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8" name=""/>
              <p:cNvSpPr/>
              <p:nvPr/>
            </p:nvSpPr>
            <p:spPr>
              <a:xfrm>
                <a:off x="0" y="3438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199" name=""/>
              <p:cNvSpPr/>
              <p:nvPr/>
            </p:nvSpPr>
            <p:spPr>
              <a:xfrm>
                <a:off x="0" y="3490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0" y="32385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1" name=""/>
              <p:cNvSpPr/>
              <p:nvPr/>
            </p:nvSpPr>
            <p:spPr>
              <a:xfrm>
                <a:off x="0" y="31622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2" name=""/>
              <p:cNvSpPr/>
              <p:nvPr/>
            </p:nvSpPr>
            <p:spPr>
              <a:xfrm>
                <a:off x="0" y="3309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3" name=""/>
              <p:cNvSpPr/>
              <p:nvPr/>
            </p:nvSpPr>
            <p:spPr>
              <a:xfrm>
                <a:off x="0" y="25290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4" name=""/>
              <p:cNvSpPr/>
              <p:nvPr/>
            </p:nvSpPr>
            <p:spPr>
              <a:xfrm>
                <a:off x="0" y="24861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0" y="30909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6" name=""/>
              <p:cNvSpPr/>
              <p:nvPr/>
            </p:nvSpPr>
            <p:spPr>
              <a:xfrm>
                <a:off x="0" y="2890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7" name=""/>
              <p:cNvSpPr/>
              <p:nvPr/>
            </p:nvSpPr>
            <p:spPr>
              <a:xfrm>
                <a:off x="0" y="2762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0" y="305748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0" y="256212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0" y="264780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1" name=""/>
              <p:cNvSpPr/>
              <p:nvPr/>
            </p:nvSpPr>
            <p:spPr>
              <a:xfrm>
                <a:off x="0" y="29624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0" y="292896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>
                <a:off x="0" y="22813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>
                <a:off x="0" y="23385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0" y="23907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0" y="21384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>
                <a:off x="0" y="22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0" y="161280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>
                <a:off x="0" y="1569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>
                <a:off x="0" y="197496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1" name=""/>
              <p:cNvSpPr/>
              <p:nvPr/>
            </p:nvSpPr>
            <p:spPr>
              <a:xfrm>
                <a:off x="0" y="18464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0" y="16462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0" y="17319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0" y="20462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0" y="2013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0" y="13651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0" y="14223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0" y="147492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0" y="12222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0" y="129384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0" y="11397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0" y="10256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0" y="828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0" y="8859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0" y="93816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0" y="685800"/>
                <a:ext cx="990720" cy="0"/>
              </a:xfrm>
              <a:prstGeom prst="line">
                <a:avLst/>
              </a:prstGeom>
              <a:ln w="2844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0" y="60948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0" y="7570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0" y="53820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0" y="50472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0" y="409680"/>
                <a:ext cx="990720" cy="0"/>
              </a:xfrm>
              <a:prstGeom prst="line">
                <a:avLst/>
              </a:prstGeom>
              <a:ln w="1908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0" y="111240"/>
                <a:ext cx="990720" cy="0"/>
              </a:xfrm>
              <a:prstGeom prst="line">
                <a:avLst/>
              </a:prstGeom>
              <a:ln w="93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0" y="6840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0" y="14436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0" y="230040"/>
                <a:ext cx="990720" cy="0"/>
              </a:xfrm>
              <a:prstGeom prst="line">
                <a:avLst/>
              </a:prstGeom>
              <a:ln w="1260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0" y="320760"/>
                <a:ext cx="990720" cy="0"/>
              </a:xfrm>
              <a:prstGeom prst="line">
                <a:avLst/>
              </a:prstGeom>
              <a:ln w="38160">
                <a:solidFill>
                  <a:srgbClr val="e3e2c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dt" idx="4"/>
          </p:nvPr>
        </p:nvSpPr>
        <p:spPr>
          <a:xfrm>
            <a:off x="1387440" y="6357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5"/>
          </p:nvPr>
        </p:nvSpPr>
        <p:spPr>
          <a:xfrm>
            <a:off x="3722760" y="6357960"/>
            <a:ext cx="22716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6"/>
          </p:nvPr>
        </p:nvSpPr>
        <p:spPr>
          <a:xfrm>
            <a:off x="6464160" y="6361200"/>
            <a:ext cx="19065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8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91E39-EE2D-43B2-9194-C5C82F08D1BB}" type="slidenum">
              <a:rPr b="0" lang="en-US" sz="1400" spc="-1" strike="noStrike">
                <a:solidFill>
                  <a:srgbClr val="8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017880" y="2120760"/>
            <a:ext cx="5662440" cy="7776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1098720" y="861840"/>
            <a:ext cx="5662440" cy="7812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320" bIns="313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857160" algn="ctr">
              <a:spcBef>
                <a:spcPts val="601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3" marL="1200240" algn="ctr">
              <a:spcBef>
                <a:spcPts val="499"/>
              </a:spcBef>
              <a:buClr>
                <a:srgbClr val="003366"/>
              </a:buClr>
              <a:buSzPct val="8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1542960" algn="ctr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5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6" marL="1542960">
              <a:spcBef>
                <a:spcPts val="451"/>
              </a:spcBef>
              <a:buClr>
                <a:srgbClr val="0033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169640" y="1045800"/>
            <a:ext cx="7380360" cy="1012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3366"/>
                </a:solidFill>
                <a:latin typeface="Arial"/>
              </a:rPr>
              <a:t>Next Generation WLAN Clients</a:t>
            </a:r>
            <a:endParaRPr b="0" lang="en-US" sz="4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1566720" y="2693520"/>
            <a:ext cx="6662880" cy="29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Yoram Solom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Vice Presiden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dvanced Communications Product Group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CTEL, Inc.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DR / SRR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63" name=""/>
          <p:cNvGrpSpPr/>
          <p:nvPr/>
        </p:nvGrpSpPr>
        <p:grpSpPr>
          <a:xfrm>
            <a:off x="838080" y="2819520"/>
            <a:ext cx="3353040" cy="3352680"/>
            <a:chOff x="838080" y="2819520"/>
            <a:chExt cx="3353040" cy="3352680"/>
          </a:xfrm>
        </p:grpSpPr>
        <p:sp>
          <p:nvSpPr>
            <p:cNvPr id="364" name=""/>
            <p:cNvSpPr/>
            <p:nvPr/>
          </p:nvSpPr>
          <p:spPr>
            <a:xfrm>
              <a:off x="83808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12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90936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93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3808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90936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9093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83808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90936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9093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83808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0936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9093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83808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90936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9093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83808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90936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9093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83808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90936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9093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3808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90936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9093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83808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90936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9093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83808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90936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9093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83808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90936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9093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83808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90936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9093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112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126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126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140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40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155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155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69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169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83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7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97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12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212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226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226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407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407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255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255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269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9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12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12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26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126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140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140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155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155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169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169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183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83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197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197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212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212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226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226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2407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2407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55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255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269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69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404856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04856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04856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404856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404856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404856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04856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404856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04856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04856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04856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04856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404856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404856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404856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04856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04856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04856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04856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404856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04856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404856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404856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04856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3808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90936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9093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83808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90936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9093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83808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90936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9093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83808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90936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9093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83808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5" name=""/>
            <p:cNvSpPr/>
            <p:nvPr/>
          </p:nvSpPr>
          <p:spPr>
            <a:xfrm>
              <a:off x="90936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9093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83808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90936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9093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83808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90936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9093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83808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90936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9093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2835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2835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297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297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312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312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3263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3263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340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40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3549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3549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3691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9" name=""/>
            <p:cNvSpPr/>
            <p:nvPr/>
          </p:nvSpPr>
          <p:spPr>
            <a:xfrm>
              <a:off x="3691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0" name=""/>
            <p:cNvSpPr/>
            <p:nvPr/>
          </p:nvSpPr>
          <p:spPr>
            <a:xfrm>
              <a:off x="3834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1" name=""/>
            <p:cNvSpPr/>
            <p:nvPr/>
          </p:nvSpPr>
          <p:spPr>
            <a:xfrm>
              <a:off x="3834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404856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404856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404856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404856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404856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404856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404856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404856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04856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404856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404856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>
              <a:off x="404856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404856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404856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404856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404856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835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2835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297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297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312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>
              <a:off x="312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3263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3263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40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340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3549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3549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691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3691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34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3834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98064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98064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119448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47" name=""/>
          <p:cNvGrpSpPr/>
          <p:nvPr/>
        </p:nvGrpSpPr>
        <p:grpSpPr>
          <a:xfrm>
            <a:off x="5105520" y="2819520"/>
            <a:ext cx="3352680" cy="3352680"/>
            <a:chOff x="5105520" y="2819520"/>
            <a:chExt cx="3352680" cy="3352680"/>
          </a:xfrm>
        </p:grpSpPr>
        <p:sp>
          <p:nvSpPr>
            <p:cNvPr id="548" name=""/>
            <p:cNvSpPr/>
            <p:nvPr/>
          </p:nvSpPr>
          <p:spPr>
            <a:xfrm>
              <a:off x="510552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3906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5176800" y="31046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517680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10552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176800" y="3247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517680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10552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5176800" y="33901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17680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10552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5176800" y="35326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17680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10552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176800" y="3675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17680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10552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176800" y="38181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17680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510552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176800" y="39607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517680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510552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5176800" y="4103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517680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510552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5176800" y="42462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517680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510552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5176800" y="43887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517680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510552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5176800" y="4531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517680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10552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176800" y="46742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7680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3906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533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533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56761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56761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58186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58186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5961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961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61041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1041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62467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2467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6389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389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5322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65322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66747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66747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817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6817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69602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9602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53906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3906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533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533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56761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56761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186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186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961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961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1041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61041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2467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2467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6389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6389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65322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65322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6747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66747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6817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6817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69602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69602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8315640" y="31046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8315640" y="3104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8315640" y="3247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8315640" y="3247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8315640" y="33901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8315640" y="33901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8315640" y="35326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8315640" y="35326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8315640" y="3675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8315640" y="3675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8315640" y="38181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8315640" y="38181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8315640" y="39607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8315640" y="39607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8315640" y="4103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8315640" y="4103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315640" y="42462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315640" y="42462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8315640" y="43887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8315640" y="43887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8315640" y="4531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8315640" y="4531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8315640" y="46742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8315640" y="46742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10552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5176800" y="48168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517680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510552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5176800" y="495936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517680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510552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5176800" y="51022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517680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510552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176800" y="52448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17680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10552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176800" y="538740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17680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510552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5176800" y="553032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517680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510552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5176800" y="567288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517680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10552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5176800" y="5815440"/>
              <a:ext cx="0" cy="71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517680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71028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71028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724536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24536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3882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73882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75308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75308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767340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767340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781632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781632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795888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795888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8101440" y="281952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8101440" y="2890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8315640" y="48168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8315640" y="48168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8315640" y="495936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8315640" y="495936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8315640" y="51022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8315640" y="51022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8315640" y="52448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8315640" y="52448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8315640" y="538740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8315640" y="538740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8315640" y="553032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8315640" y="553032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8315640" y="567288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315640" y="567288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15640" y="5815440"/>
              <a:ext cx="142560" cy="712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315640" y="58154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71028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71028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24536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24536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73882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73882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75308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5308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767340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767340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81632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1632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5888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795888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101440" y="6029640"/>
              <a:ext cx="71280" cy="14256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101440" y="6029640"/>
              <a:ext cx="71280" cy="71280"/>
            </a:xfrm>
            <a:prstGeom prst="rect">
              <a:avLst/>
            </a:prstGeom>
            <a:solidFill>
              <a:srgbClr val="969696"/>
            </a:solidFill>
            <a:ln w="936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5248080" y="2962080"/>
              <a:ext cx="3067560" cy="3067560"/>
            </a:xfrm>
            <a:custGeom>
              <a:avLst/>
              <a:gdLst/>
              <a:ahLst/>
              <a:rect l="l" t="t" r="r" b="b"/>
              <a:pathLst>
                <a:path w="6192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6192" y="6192"/>
                  </a:lnTo>
                  <a:lnTo>
                    <a:pt x="6192" y="0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5248080" y="2962080"/>
              <a:ext cx="142560" cy="3067560"/>
            </a:xfrm>
            <a:custGeom>
              <a:avLst/>
              <a:gdLst/>
              <a:ahLst/>
              <a:rect l="l" t="t" r="r" b="b"/>
              <a:pathLst>
                <a:path w="288" h="6192">
                  <a:moveTo>
                    <a:pt x="288" y="0"/>
                  </a:moveTo>
                  <a:lnTo>
                    <a:pt x="0" y="288"/>
                  </a:lnTo>
                  <a:lnTo>
                    <a:pt x="0" y="6192"/>
                  </a:lnTo>
                  <a:lnTo>
                    <a:pt x="288" y="6192"/>
                  </a:lnTo>
                  <a:lnTo>
                    <a:pt x="288" y="0"/>
                  </a:lnTo>
                  <a:close/>
                </a:path>
              </a:pathLst>
            </a:custGeom>
            <a:solidFill>
              <a:srgbClr val="333333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5461920" y="3175920"/>
              <a:ext cx="142560" cy="142560"/>
            </a:xfrm>
            <a:prstGeom prst="ellipse">
              <a:avLst/>
            </a:prstGeom>
            <a:solidFill>
              <a:srgbClr val="333333"/>
            </a:solidFill>
            <a:ln w="9360">
              <a:solidFill>
                <a:srgbClr val="3333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731" name=""/>
          <p:cNvSpPr/>
          <p:nvPr/>
        </p:nvSpPr>
        <p:spPr>
          <a:xfrm>
            <a:off x="2743200" y="4343400"/>
            <a:ext cx="990720" cy="1295280"/>
          </a:xfrm>
          <a:prstGeom prst="rect">
            <a:avLst/>
          </a:prstGeom>
          <a:solidFill>
            <a:srgbClr val="ff9953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Baseband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DSP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1447920" y="4343400"/>
            <a:ext cx="990360" cy="1295280"/>
          </a:xfrm>
          <a:prstGeom prst="rect">
            <a:avLst/>
          </a:prstGeom>
          <a:solidFill>
            <a:srgbClr val="cccc99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IS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>
            <a:off x="1447920" y="3581280"/>
            <a:ext cx="2286000" cy="457200"/>
          </a:xfrm>
          <a:prstGeom prst="rect">
            <a:avLst/>
          </a:prstGeom>
          <a:solidFill>
            <a:srgbClr val="66ff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3366"/>
                </a:solidFill>
                <a:latin typeface="Arial"/>
              </a:rPr>
              <a:t>RAM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2042280" y="3032280"/>
            <a:ext cx="1198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GITA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5688720" y="3048120"/>
            <a:ext cx="2158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adio Front End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5947200" y="4098960"/>
            <a:ext cx="175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2.4 – 5.8 GHz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4267080" y="3886200"/>
            <a:ext cx="762120" cy="1143000"/>
          </a:xfrm>
          <a:prstGeom prst="leftRightArrow">
            <a:avLst>
              <a:gd name="adj1" fmla="val 50000"/>
              <a:gd name="adj2" fmla="val 19907"/>
            </a:avLst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5947200" y="4632480"/>
            <a:ext cx="1976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1.8 – 5.8 GHz 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>
            <a:off x="3983760" y="2362320"/>
            <a:ext cx="150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DR - R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3657960" y="6172200"/>
            <a:ext cx="2094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RR – IF / B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 rot="5400000">
            <a:off x="4038120" y="32763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6320 h 304920"/>
              <a:gd name="textAreaBottom" fmla="*/ 22896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 rot="16200000">
            <a:off x="4038120" y="5333760"/>
            <a:ext cx="1218960" cy="304920"/>
          </a:xfrm>
          <a:custGeom>
            <a:avLst/>
            <a:gdLst>
              <a:gd name="textAreaLeft" fmla="*/ 190440 w 1218960"/>
              <a:gd name="textAreaRight" fmla="*/ 1066680 w 1218960"/>
              <a:gd name="textAreaTop" fmla="*/ 75960 h 304920"/>
              <a:gd name="textAreaBottom" fmla="*/ 228600 h 304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66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nlicensed Bands, Interfer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are the “unlicensed bands?”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CC’s NPRM 99-231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urces of Interfer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us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Other technologie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hat can be done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ignal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le baseband process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User Experience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7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can channel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SID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P Addres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compatibility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WEP+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Automatic service discovery / smart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ed to –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Authentic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il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9" name="j0315559" descr=""/>
          <p:cNvPicPr/>
          <p:nvPr/>
        </p:nvPicPr>
        <p:blipFill>
          <a:blip r:embed="rId1"/>
          <a:stretch/>
        </p:blipFill>
        <p:spPr>
          <a:xfrm>
            <a:off x="5105520" y="2190600"/>
            <a:ext cx="3657600" cy="2610000"/>
          </a:xfrm>
          <a:prstGeom prst="rect">
            <a:avLst/>
          </a:prstGeom>
          <a:ln w="0">
            <a:noFill/>
          </a:ln>
        </p:spPr>
      </p:pic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table standard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Multi-mode telephones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imple operation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66"/>
                </a:solidFill>
                <a:latin typeface="Arial"/>
              </a:rPr>
              <a:t>Seamless roaming</a:t>
            </a:r>
            <a:endParaRPr b="0" lang="en-US" sz="32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91440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ing bands (a, b, g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n multiple environment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>
            <a:off x="4724280" y="27432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Multi-mode, servi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Discovery &amp; selec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>
            <a:off x="91440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n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>
            <a:off x="4724280" y="2209680"/>
            <a:ext cx="3733920" cy="457200"/>
          </a:xfrm>
          <a:prstGeom prst="rect">
            <a:avLst/>
          </a:prstGeom>
          <a:solidFill>
            <a:srgbClr val="003366"/>
          </a:soli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positio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>
            <a:off x="4114800" y="2209680"/>
            <a:ext cx="1295280" cy="457200"/>
          </a:xfrm>
          <a:custGeom>
            <a:avLst/>
            <a:gdLst>
              <a:gd name="textAreaLeft" fmla="*/ 202320 w 1295280"/>
              <a:gd name="textAreaRight" fmla="*/ 1133640 w 1295280"/>
              <a:gd name="textAreaTop" fmla="*/ 114120 h 457200"/>
              <a:gd name="textAreaBottom" fmla="*/ 343080 h 4572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>
            <a:off x="91440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liferating Standard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(802.11e, f, h, i, etc.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>
            <a:off x="4724280" y="373392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Upgradeable (mor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oftware, less hardware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>
            <a:off x="91440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Growing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>
            <a:off x="4724280" y="472428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Improved signal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Processing, adapt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>
            <a:off x="91440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mplicate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>
            <a:off x="4724280" y="5715000"/>
            <a:ext cx="3733920" cy="914400"/>
          </a:xfrm>
          <a:prstGeom prst="rect">
            <a:avLst/>
          </a:prstGeom>
          <a:gradFill rotWithShape="0">
            <a:gsLst>
              <a:gs pos="0">
                <a:srgbClr val="cccc99"/>
              </a:gs>
              <a:gs pos="100000">
                <a:srgbClr val="6699ff"/>
              </a:gs>
            </a:gsLst>
            <a:lin ang="5400000"/>
          </a:gradFill>
          <a:ln w="93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Seamless us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Experience, zero config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228600" y="28195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228600" y="380988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228600" y="4800600"/>
            <a:ext cx="609480" cy="76212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228600" y="5791320"/>
            <a:ext cx="60948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Roaming – cellular /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amless user experien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otal cost of deployment / TCO – enterpris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deband RF front end (1.8GHz to 5.9GHz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oftware Defined Radio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292" name=""/>
              <p:cNvSpPr txBox="1"/>
              <p:nvPr/>
            </p:nvSpPr>
            <p:spPr>
              <a:xfrm>
                <a:off x="3962520" y="2057400"/>
                <a:ext cx="109224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T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3" name=""/>
          <p:cNvSpPr/>
          <p:nvPr/>
        </p:nvSpPr>
        <p:spPr>
          <a:xfrm>
            <a:off x="3506760" y="4191120"/>
            <a:ext cx="212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ime = Mone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281760" y="4952880"/>
            <a:ext cx="289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nowledge = Power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295" name=""/>
              <p:cNvSpPr txBox="1"/>
              <p:nvPr/>
            </p:nvSpPr>
            <p:spPr>
              <a:xfrm>
                <a:off x="3975120" y="3124080"/>
                <a:ext cx="1066680" cy="93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W</m:t>
                        </m:r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296" name=""/>
              <p:cNvSpPr txBox="1"/>
              <p:nvPr/>
            </p:nvSpPr>
            <p:spPr>
              <a:xfrm>
                <a:off x="2781360" y="5562720"/>
                <a:ext cx="3429000" cy="1028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Money</m:t>
                    </m:r>
                    <m:r>
                      <m:t xml:space="preserve">=</m:t>
                    </m:r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Work</m:t>
                        </m:r>
                      </m:num>
                      <m:den>
                        <m:r>
                          <m:rPr>
                            <m:lit/>
                            <m:nor/>
                          </m:rPr>
                          <m:t xml:space="preserve">Knowledge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297" name=""/>
          <p:cNvSpPr/>
          <p:nvPr/>
        </p:nvSpPr>
        <p:spPr>
          <a:xfrm>
            <a:off x="1509480" y="228600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1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1525320" y="33526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2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1525320" y="419112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3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1525320" y="49528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4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1525320" y="5829480"/>
            <a:ext cx="80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(1.5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do marketers make </a:t>
            </a:r>
            <a:br>
              <a:rPr sz="2400"/>
            </a:b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re money than engineer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Agenda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Generation WLA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1. Frequencies, PHY, and 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2. Security, QoS, Upgradeability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3. Unlicensed bands and Interfer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4. User Experi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ell Phone Adop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nclusion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800000"/>
                </a:solidFill>
                <a:latin typeface="Arial"/>
              </a:rPr>
              <a:t>Appendix – WLAN Opportunities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Will WLAN Get Adopted?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hy WLAN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AC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obility!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Getting WLAN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etail, bundling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rvices?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08520" indent="-3085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Drivers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Interoperabilit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amles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verag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urity / Privac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668520" indent="-25704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ri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07" name=""/>
          <p:cNvGraphicFramePr/>
          <p:nvPr/>
        </p:nvGraphicFramePr>
        <p:xfrm>
          <a:off x="2438280" y="1981080"/>
          <a:ext cx="6553440" cy="4800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38280" y="1981080"/>
                    <a:ext cx="6553440" cy="4800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191120" y="649116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3366"/>
                </a:solidFill>
                <a:latin typeface="Times New Roman"/>
              </a:rPr>
              <a:t>Source: In-Stat 2001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Value to the different buyer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graphicFrame>
        <p:nvGraphicFramePr>
          <p:cNvPr id="311" name=""/>
          <p:cNvGraphicFramePr/>
          <p:nvPr/>
        </p:nvGraphicFramePr>
        <p:xfrm>
          <a:off x="1066680" y="2133720"/>
          <a:ext cx="7772400" cy="4314600"/>
        </p:xfrm>
        <a:graphic>
          <a:graphicData uri="http://schemas.openxmlformats.org/drawingml/2006/table">
            <a:tbl>
              <a:tblPr/>
              <a:tblGrid>
                <a:gridCol w="3886200"/>
                <a:gridCol w="3886200"/>
              </a:tblGrid>
              <a:tr h="886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User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verage / Mo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1368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169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rporate IT Manager (Buy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Lower TCO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erforman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OS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Future Standard Guarante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operabil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ecur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C OEM (Direct Custom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Design-in Support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Total Cost of Ownership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Support Level Required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5760">
                      <a:solidFill>
                        <a:srgbClr val="003366"/>
                      </a:solidFill>
                    </a:lnB>
                    <a:noFill/>
                  </a:tcPr>
                </a:tc>
              </a:tr>
              <a:tr h="866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Consumer (non-Enterprise User)</a:t>
                      </a:r>
                      <a:endParaRPr b="0" lang="en-US" sz="22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3366"/>
                      </a:solidFill>
                    </a:lnL>
                    <a:lnR w="576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solidFill>
                      <a:srgbClr val="9fffe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Pric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Ease of Use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0000"/>
                        </a:lnSpc>
                        <a:spcBef>
                          <a:spcPts val="451"/>
                        </a:spcBef>
                        <a:buClr>
                          <a:srgbClr val="003366"/>
                        </a:buClr>
                        <a:buFont typeface="Wingdings" charset="2"/>
                        <a:buChar char="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1800" spc="-1" strike="noStrike">
                          <a:solidFill>
                            <a:srgbClr val="003366"/>
                          </a:solidFill>
                          <a:latin typeface="Arial"/>
                        </a:rPr>
                        <a:t>Interference Immunity</a:t>
                      </a:r>
                      <a:endParaRPr b="0" lang="en-US" sz="1800" spc="-1" strike="noStrike">
                        <a:solidFill>
                          <a:srgbClr val="003366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3366"/>
                      </a:solidFill>
                    </a:lnL>
                    <a:lnR w="13680">
                      <a:solidFill>
                        <a:srgbClr val="003366"/>
                      </a:solidFill>
                    </a:lnR>
                    <a:lnT w="5760">
                      <a:solidFill>
                        <a:srgbClr val="003366"/>
                      </a:solidFill>
                    </a:lnT>
                    <a:lnB w="13680">
                      <a:solidFill>
                        <a:srgbClr val="003366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802.11 Family of Standard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762120" y="1447920"/>
            <a:ext cx="1066680" cy="510516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Service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asi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ata rates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(1-2 Mbps)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S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FHSS,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IR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209680" y="1447920"/>
            <a:ext cx="6248520" cy="1295280"/>
          </a:xfrm>
          <a:prstGeom prst="rect">
            <a:avLst/>
          </a:prstGeom>
          <a:solidFill>
            <a:srgbClr val="cc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bove MAC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209680" y="2743200"/>
            <a:ext cx="6248520" cy="129528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MAC Layer (applies to all PHY)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09680" y="4038480"/>
            <a:ext cx="6248520" cy="1295640"/>
          </a:xfrm>
          <a:prstGeom prst="rect">
            <a:avLst/>
          </a:prstGeom>
          <a:solidFill>
            <a:srgbClr val="ff995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2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209680" y="5334120"/>
            <a:ext cx="6248520" cy="1295280"/>
          </a:xfrm>
          <a:prstGeom prst="rect">
            <a:avLst/>
          </a:prstGeom>
          <a:solidFill>
            <a:srgbClr val="ce5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5.4GHz PHY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1828800" y="19051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828800" y="312408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1828800" y="4419720"/>
            <a:ext cx="304920" cy="53316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160"/>
              <a:gd name="textAreaBottom" fmla="*/ 533520 h 533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828800" y="5715000"/>
            <a:ext cx="304920" cy="533520"/>
          </a:xfrm>
          <a:custGeom>
            <a:avLst/>
            <a:gdLst>
              <a:gd name="textAreaLeft" fmla="*/ 0 w 304920"/>
              <a:gd name="textAreaRight" fmla="*/ 305280 w 304920"/>
              <a:gd name="textAreaTop" fmla="*/ 0 h 533520"/>
              <a:gd name="textAreaBottom" fmla="*/ 533880 h 5335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09880" y="17524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f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IAPP - Acces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Point Roaming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286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d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untr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gulation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0988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QoS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334120" y="3048120"/>
            <a:ext cx="144756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i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Enhanced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curity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858000" y="304812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5.2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Bluetooth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oexistence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80988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b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11Mbps CCK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5715000" y="4343400"/>
            <a:ext cx="1447920" cy="83808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g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22Mbps PBCC?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590920" y="56386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a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54Mbps OFD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45720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h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pectrum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Management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629400" y="5638680"/>
            <a:ext cx="144792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1j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HiperLAN2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6019920" y="1752480"/>
            <a:ext cx="1447560" cy="838440"/>
          </a:xfrm>
          <a:prstGeom prst="rect">
            <a:avLst/>
          </a:prstGeom>
          <a:solidFill>
            <a:srgbClr val="003366"/>
          </a:solidFill>
          <a:ln w="0">
            <a:noFill/>
          </a:ln>
          <a:effectLst>
            <a:outerShdw dist="107932" dir="2700000" blurRad="0" rotWithShape="0">
              <a:srgbClr val="e3e2c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802.1x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Authentication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943240" y="4724280"/>
            <a:ext cx="114300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 flipH="1" flipV="1">
            <a:off x="5943240" y="4723920"/>
            <a:ext cx="1066680" cy="2286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286000" y="4191120"/>
            <a:ext cx="6095880" cy="259056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33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 rot="5400000">
            <a:off x="7698240" y="5180400"/>
            <a:ext cx="197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66"/>
                </a:solidFill>
                <a:latin typeface="Arial"/>
              </a:rPr>
              <a:t>Coexist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Frequencies, PHY, and 802.11g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b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“hot-spot”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low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consumer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Throughpu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Cost – enterprise 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Range – 20 log(f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12120" indent="-31212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g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676080" indent="-25992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Interference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grpSp>
        <p:nvGrpSpPr>
          <p:cNvPr id="339" name=""/>
          <p:cNvGrpSpPr/>
          <p:nvPr/>
        </p:nvGrpSpPr>
        <p:grpSpPr>
          <a:xfrm>
            <a:off x="5943600" y="4724280"/>
            <a:ext cx="2895480" cy="1752840"/>
            <a:chOff x="5943600" y="4724280"/>
            <a:chExt cx="2895480" cy="1752840"/>
          </a:xfrm>
        </p:grpSpPr>
        <p:sp>
          <p:nvSpPr>
            <p:cNvPr id="340" name=""/>
            <p:cNvSpPr/>
            <p:nvPr/>
          </p:nvSpPr>
          <p:spPr>
            <a:xfrm>
              <a:off x="5943600" y="4724280"/>
              <a:ext cx="2895480" cy="1752840"/>
            </a:xfrm>
            <a:prstGeom prst="ellipse">
              <a:avLst/>
            </a:prstGeom>
            <a:solidFill>
              <a:srgbClr val="ffc8a3"/>
            </a:solidFill>
            <a:ln w="9360">
              <a:solidFill>
                <a:srgbClr val="ffc8a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6324480" y="4952880"/>
              <a:ext cx="1219320" cy="609840"/>
            </a:xfrm>
            <a:prstGeom prst="ellipse">
              <a:avLst/>
            </a:prstGeom>
            <a:solidFill>
              <a:srgbClr val="009999"/>
            </a:solid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Enterpris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6400800" y="5715000"/>
              <a:ext cx="1218960" cy="609480"/>
            </a:xfrm>
            <a:prstGeom prst="ellipse">
              <a:avLst/>
            </a:prstGeom>
            <a:solidFill>
              <a:srgbClr val="003366"/>
            </a:solidFill>
            <a:ln w="93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Residenc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543800" y="5334120"/>
              <a:ext cx="1218960" cy="609480"/>
            </a:xfrm>
            <a:prstGeom prst="ellipse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Hot Spo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344" name=""/>
          <p:cNvGrpSpPr/>
          <p:nvPr/>
        </p:nvGrpSpPr>
        <p:grpSpPr>
          <a:xfrm>
            <a:off x="6023520" y="2146320"/>
            <a:ext cx="2751480" cy="2502720"/>
            <a:chOff x="6023520" y="2146320"/>
            <a:chExt cx="2751480" cy="2502720"/>
          </a:xfrm>
        </p:grpSpPr>
        <p:sp>
          <p:nvSpPr>
            <p:cNvPr id="345" name=""/>
            <p:cNvSpPr/>
            <p:nvPr/>
          </p:nvSpPr>
          <p:spPr>
            <a:xfrm>
              <a:off x="6248520" y="4311720"/>
              <a:ext cx="2438280" cy="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6248520" y="2482920"/>
              <a:ext cx="0" cy="1828800"/>
            </a:xfrm>
            <a:prstGeom prst="line">
              <a:avLst/>
            </a:prstGeom>
            <a:ln w="28440">
              <a:solidFill>
                <a:srgbClr val="0033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248520" y="2787840"/>
              <a:ext cx="990360" cy="1523880"/>
            </a:xfrm>
            <a:prstGeom prst="line">
              <a:avLst/>
            </a:prstGeom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248520" y="3778560"/>
              <a:ext cx="2057400" cy="533160"/>
            </a:xfrm>
            <a:prstGeom prst="line">
              <a:avLst/>
            </a:prstGeom>
            <a:ln w="38160">
              <a:solidFill>
                <a:srgbClr val="003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6248520" y="2711520"/>
              <a:ext cx="838080" cy="121932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086600" y="3930840"/>
              <a:ext cx="1371600" cy="380880"/>
            </a:xfrm>
            <a:prstGeom prst="line">
              <a:avLst/>
            </a:prstGeom>
            <a:ln w="38160">
              <a:solidFill>
                <a:srgbClr val="ff995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850520" y="3899160"/>
              <a:ext cx="924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802.11b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6326280" y="2559240"/>
              <a:ext cx="913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9999"/>
                  </a:solidFill>
                  <a:latin typeface="Arial"/>
                </a:rPr>
                <a:t>802.11a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937200" y="3473640"/>
              <a:ext cx="1204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9953"/>
                  </a:solidFill>
                  <a:latin typeface="Arial"/>
                </a:rPr>
                <a:t>Dual Mod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6023520" y="2146320"/>
              <a:ext cx="1314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Throughput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7961400" y="4311720"/>
              <a:ext cx="799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3366"/>
                  </a:solidFill>
                  <a:latin typeface="Arial"/>
                </a:rPr>
                <a:t>Range</a:t>
              </a:r>
              <a:endParaRPr b="0" lang="en-US" sz="16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356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Multi-Mode Clients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09640" y="2209680"/>
            <a:ext cx="7958160" cy="388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Multiple environment – coverag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Lower risk of standard uncertain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hard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ommon Interfa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rvice discovery / smart selection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a / b / g (baseband/a, radio/b)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Backward compatibility – Wi-Fi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KISS !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371600" y="609120"/>
            <a:ext cx="73785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Arial"/>
              </a:rPr>
              <a:t>Security, QoS, Upgradeability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809640" y="2214360"/>
            <a:ext cx="7958160" cy="388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i – security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WEP, WEP2, AES?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802.11e – Quality of Servic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ultimedia / convergence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tandard evolution is an adoption inhibitor !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Hardware vs. Software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Flexibility vs. Cost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66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Arial"/>
              </a:rPr>
              <a:t>Moore’s law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066680" y="762120"/>
            <a:ext cx="609840" cy="761760"/>
          </a:xfrm>
          <a:prstGeom prst="rect">
            <a:avLst/>
          </a:prstGeom>
          <a:solidFill>
            <a:srgbClr val="3399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Yoram Solomon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2-04T10:42:06Z</dcterms:created>
  <dc:creator>Yoram Solomon</dc:creator>
  <dc:description/>
  <dc:language>en-US</dc:language>
  <cp:lastModifiedBy>Yoram Solomon</cp:lastModifiedBy>
  <dcterms:modified xsi:type="dcterms:W3CDTF">2002-02-12T23:49:28Z</dcterms:modified>
  <cp:revision>56</cp:revision>
  <dc:subject/>
  <dc:title>PowerPoint Presentation</dc:title>
</cp:coreProperties>
</file>