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wmf" ContentType="image/x-wmf"/>
  <Override PartName="/ppt/media/image20.png" ContentType="image/png"/>
  <Override PartName="/ppt/media/image18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28.png" ContentType="image/png"/>
  <Override PartName="/ppt/media/image30.png" ContentType="image/png"/>
  <Override PartName="/ppt/media/image13.wmf" ContentType="image/x-wmf"/>
  <Override PartName="/ppt/media/image9.wmf" ContentType="image/x-wmf"/>
  <Override PartName="/ppt/media/image39.wmf" ContentType="image/x-wmf"/>
  <Override PartName="/ppt/media/image32.png" ContentType="image/png"/>
  <Override PartName="/ppt/media/image35.png" ContentType="image/png"/>
  <Override PartName="/ppt/media/image37.png" ContentType="image/png"/>
  <Override PartName="/ppt/media/image34.jpeg" ContentType="image/jpeg"/>
  <Override PartName="/ppt/media/image36.png" ContentType="image/png"/>
  <Override PartName="/ppt/media/image8.wmf" ContentType="image/x-wmf"/>
  <Override PartName="/ppt/media/image33.jpeg" ContentType="image/jpeg"/>
  <Override PartName="/ppt/media/image5.wmf" ContentType="image/x-wmf"/>
  <Override PartName="/ppt/media/image38.png" ContentType="image/png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29.png" ContentType="image/png"/>
  <Override PartName="/ppt/media/image2.wmf" ContentType="image/x-wmf"/>
  <Override PartName="/ppt/media/image14.wmf" ContentType="image/x-wmf"/>
  <Override PartName="/ppt/media/image31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C873-AF90-4634-8EAE-048C3686B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B33F-60F8-4EC1-80AB-2F85FFD7E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38CD-4087-403D-AAB6-9AF67B5C1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3399-37F1-4450-8A6D-2416509D6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9F4C4-99EA-45E8-9E5D-CBA4FBED2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42C4E-F184-4A88-AE6F-4F44AEAFA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05A18-7474-42EB-97C2-70A58E05A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B3582-4A91-44F4-806B-3CBF9F534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9EEE2-171B-4DF4-B70E-D0938416C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D5532-246A-455A-8E1B-6115BB460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2809D-7E7B-43DE-BFF0-AFEDCA52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8C46-0B6E-4FBA-9DC0-8718B6F7A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6956A-D254-491B-A800-DB63696E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40794-044E-4EC7-A32B-B6F4D68D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A16FC-FCBA-4FA0-A7A7-CAF9D068C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A18EA-FA2D-4B63-9B46-212ED6CF5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39EEF-B4CE-4010-A0AA-6B66AEB44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5229-4348-40CC-A4F2-CB0A1B2D6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FE01-094A-4448-8959-1F23B9372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58AF-E8FB-443B-B669-F6C2A1ACD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5FE7-4D6B-4971-9FC1-9E15DD6F5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3608-6C54-457E-8F02-2A789720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962A-43C0-43A9-92F0-0FA1E77E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3320-BFA9-4940-838B-13AFA8CB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56F7A-90C1-49FE-B5A9-8308BE9D03F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8DE77-4977-4879-983E-335C7778726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-Commer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nno W. Purbo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nno@itb.ac.i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nno@indo.net.i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idang Aplikasi E-Com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57200" y="1523880"/>
          <a:ext cx="8686800" cy="53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686800" cy="53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luang &amp; Kendala E-Co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0" y="1828800"/>
          <a:ext cx="9144000" cy="480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9144000" cy="48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-Commerce Teori-nya 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ktifitas di Indones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nseptualisasi Pengembangan Wilaya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s. Business - Custom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1828800"/>
          <a:ext cx="9144000" cy="502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9144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s. Business - Busines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0" y="2057400"/>
          <a:ext cx="914400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57400"/>
                    <a:ext cx="91440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 (EDI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ksi text based melalui jaringa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aksi standard dengan berbagai instansi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ve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ja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unci adalah database &amp; software EDI translat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o Whom EDI Can Be Used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nking / fund transfer / credit / debit trans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stom; Legal 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irline / ticketing; Shipping / carg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nder / contract; Purchase order; Invo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ob or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dical 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x; Reinsur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jor cost to move to EDI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rchase EDI softwa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act with a VAN service provider (or Internet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 the data analysis needed to map information from their application systems into the EDI standard forma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 the programming required to create a file that can interface with EDI translation softwa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atabase dibalik Web Serv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antangan Selanjutnya 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nowledge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ed Knowled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arning Organ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llaborative Lear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tion L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1143000" y="4952880"/>
            <a:ext cx="1066680" cy="990720"/>
          </a:xfrm>
          <a:prstGeom prst="ellipse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2743200" y="4495680"/>
            <a:ext cx="990720" cy="114300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00400" y="1371600"/>
            <a:ext cx="4648320" cy="29718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.2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UN/EDIFAC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4572000" y="4648320"/>
            <a:ext cx="990720" cy="114300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4724280" y="2286000"/>
            <a:ext cx="990720" cy="114300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77120" y="4495680"/>
            <a:ext cx="990360" cy="114300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6019920" y="2286000"/>
            <a:ext cx="1218960" cy="106668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924680" y="4876920"/>
            <a:ext cx="1219320" cy="1218960"/>
          </a:xfrm>
          <a:prstGeom prst="diamond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6477120" y="4419720"/>
            <a:ext cx="990360" cy="114300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4572000" y="4648320"/>
            <a:ext cx="990720" cy="114300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2743200" y="4495680"/>
            <a:ext cx="990720" cy="114300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1143000" y="4952880"/>
            <a:ext cx="1066680" cy="990720"/>
          </a:xfrm>
          <a:prstGeom prst="ellipse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 of EDI Messa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"/>
          <p:cNvSpPr/>
          <p:nvPr/>
        </p:nvSpPr>
        <p:spPr>
          <a:xfrm>
            <a:off x="826200" y="1433520"/>
            <a:ext cx="7086600" cy="52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*850*00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*00*SA*EDI-9966***8508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X*5-67778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1*ST*THE CORNER STORE*09*0799332120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3*601 FIRST STR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4*CROSSROADS*NY*100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3*900 EASY STR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*PD*JOHN JONES**TE*415-744-86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D*01*03*2.000***10**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B*CC*****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TM*002*8510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1*1*16000.00*LB*1.25000*QT*PN*1000201675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T*2*36000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*22*00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-Comm Teori-nya .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 of EDI Messa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"/>
          <p:cNvSpPr/>
          <p:nvPr/>
        </p:nvSpPr>
        <p:spPr>
          <a:xfrm>
            <a:off x="826200" y="1433520"/>
            <a:ext cx="7086600" cy="52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*850*00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*00*SA*EDI-9966***8508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X*5-67778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1*ST*THE CORNER STORE*09*0799332120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3*601 FIRST STR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4*CROSSROADS*NY*100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3*900 EASY STR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*PD*JOHN JONES**TE*415-744-86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D*01*03*2.000***10**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B*CC*****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TM*002*8510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1*1*16000.00*LB*1.25000*QT*PN*1000201675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T*2*36000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*22*00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2521080" y="2139840"/>
            <a:ext cx="6540480" cy="3568680"/>
          </a:xfrm>
          <a:custGeom>
            <a:avLst/>
            <a:gdLst>
              <a:gd name="textAreaLeft" fmla="*/ 360 w 6540480"/>
              <a:gd name="textAreaRight" fmla="*/ 6541200 w 6540480"/>
              <a:gd name="textAreaTop" fmla="*/ 0 h 3568680"/>
              <a:gd name="textAreaBottom" fmla="*/ 3569040 h 3568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SCII Text 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asy To Transport via E-m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asy to Transport via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asy to Protect, 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sing PGP, PEM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c00"/>
                    </a:solidFill>
                    <a:miter/>
                  </a:ln>
                  <a:effectLst>
                    <a:outerShdw dist="107932" dir="2700000" blurRad="0" rotWithShape="0">
                      <a:srgbClr val="808000"/>
                    </a:outerShdw>
                  </a:effectLst>
                </p:spPr>
              </p:pic>
            </p:oleObj>
          </a:graphicData>
        </a:graphic>
      </p:graphicFrame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c00"/>
                    </a:solidFill>
                    <a:miter/>
                  </a:ln>
                  <a:effectLst>
                    <a:outerShdw dist="107932" dir="2700000" blurRad="0" rotWithShape="0">
                      <a:srgbClr val="808000"/>
                    </a:outerShdw>
                  </a:effectLst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 flipH="1" rot="10800000">
            <a:off x="767160" y="3663720"/>
            <a:ext cx="6769080" cy="2501640"/>
          </a:xfrm>
          <a:custGeom>
            <a:avLst/>
            <a:gdLst>
              <a:gd name="textAreaLeft" fmla="*/ 250560 w 6769080"/>
              <a:gd name="textAreaRight" fmla="*/ 6518520 w 6769080"/>
              <a:gd name="textAreaTop" fmla="*/ 92520 h 2501640"/>
              <a:gd name="textAreaBottom" fmla="*/ 1998000 h 25016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llow The User to Connect 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AN &amp; Intern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c00"/>
                    </a:solidFill>
                    <a:miter/>
                  </a:ln>
                  <a:effectLst>
                    <a:outerShdw dist="107932" dir="2700000" blurRad="0" rotWithShape="0">
                      <a:srgbClr val="808000"/>
                    </a:outerShdw>
                  </a:effectLst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4121280" y="1682640"/>
            <a:ext cx="4940280" cy="2425680"/>
          </a:xfrm>
          <a:custGeom>
            <a:avLst/>
            <a:gdLst>
              <a:gd name="textAreaLeft" fmla="*/ 182880 w 4940280"/>
              <a:gd name="textAreaRight" fmla="*/ 4757400 w 4940280"/>
              <a:gd name="textAreaTop" fmla="*/ 89640 h 2425680"/>
              <a:gd name="textAreaBottom" fmla="*/ 1937160 h 24256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rewall To Prot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c00"/>
                    </a:solidFill>
                    <a:miter/>
                  </a:ln>
                  <a:effectLst>
                    <a:outerShdw dist="107932" dir="2700000" blurRad="0" rotWithShape="0">
                      <a:srgbClr val="808000"/>
                    </a:outerShdw>
                  </a:effectLst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 flipH="1" rot="10800000">
            <a:off x="4730760" y="3359160"/>
            <a:ext cx="4330800" cy="2882880"/>
          </a:xfrm>
          <a:custGeom>
            <a:avLst/>
            <a:gdLst>
              <a:gd name="textAreaLeft" fmla="*/ 160200 w 4330800"/>
              <a:gd name="textAreaRight" fmla="*/ 4170600 w 4330800"/>
              <a:gd name="textAreaTop" fmla="*/ 106560 h 2882880"/>
              <a:gd name="textAreaBottom" fmla="*/ 2302560 h 28828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unneling &amp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reate ExtraN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Virtual VA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c00"/>
                    </a:solidFill>
                    <a:miter/>
                  </a:ln>
                  <a:effectLst>
                    <a:outerShdw dist="107932" dir="2700000" blurRad="0" rotWithShape="0">
                      <a:srgbClr val="808000"/>
                    </a:outerShdw>
                  </a:effectLst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3968640" y="3206880"/>
            <a:ext cx="5092920" cy="2730240"/>
          </a:xfrm>
          <a:custGeom>
            <a:avLst/>
            <a:gdLst>
              <a:gd name="textAreaLeft" fmla="*/ 188640 w 5092920"/>
              <a:gd name="textAreaRight" fmla="*/ 4904640 w 5092920"/>
              <a:gd name="textAreaTop" fmla="*/ 100800 h 2730240"/>
              <a:gd name="textAreaBottom" fmla="*/ 2180520 h 27302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GP / PEM f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ed Prot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actical Implement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. Houser, J. Griffin &amp; C. Hage, “Request for Comments: 1865: EDI Meets the Internet - Frequently Asked Questions about Electronic Data Interchange (EDI) on the Internet”, January 1996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suk ke Internet .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blinds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urvey Potens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&amp; Profile Us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419360" y="2666520"/>
            <a:ext cx="464796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ffic Web Indones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rvey User Pro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079640" y="1994040"/>
          <a:ext cx="3014640" cy="372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9640" y="1994040"/>
                    <a:ext cx="3014640" cy="372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toh Traffic Web Indonesi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70-80% traffic datangnya dari / ke Indonesi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est informasi Web yang agak banyak datangnya dari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*.com di Amerika Serika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*.edu di Amerika Serika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*.sg di Singapu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sar traffic Web  harian mencapai 80-100Mby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trategi Perdaganga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rga Bersa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tu Tingg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tepatan Waktu sampai ke Pas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toh Profile User Hasil Sebuah Studi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arakteritik 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ference and Perce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tion Sources &amp; Distribution Chann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duc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5842080" y="2454120"/>
          <a:ext cx="3089160" cy="430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42080" y="2454120"/>
                    <a:ext cx="3089160" cy="430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Umum Well Educated .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kar menemukan User Internet yang hanya berpendidikan SD :-)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i dominasi oleh P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mumnya single atau tidak punya ana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si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mumnya Antara 25-35 Tahu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sih Relatif Mud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com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 Amerika Serik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ata-rata US$ 65.000 per tahu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 Erop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ata-rata US$ 42.000 per tahu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5197320" y="4648320"/>
          <a:ext cx="3616560" cy="206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7320" y="4648320"/>
                    <a:ext cx="361656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149400" y="4560840"/>
          <a:ext cx="5178240" cy="222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9400" y="4560840"/>
                    <a:ext cx="5178240" cy="22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ipe Perusahaan Yang Akan di Untungka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lam Waktu Dek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Perusahaan Kec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(&lt;100 Pegawai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Kunci Keberhasila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65120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Creativit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Customizabilit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Convenienc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5000760" y="2097000"/>
          <a:ext cx="3706560" cy="33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760" y="2097000"/>
                    <a:ext cx="3706560" cy="33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ink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Total Customer Satisfa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trategi Umum .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trategi Umu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o a competitive analysis and remember content is 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e name of the game is the domai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on't waste your time, do a timelin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spond, respond, respo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Go on the circu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toh Offensive di Lapanga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ada Indonesia Technology Net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ng-cilik@isnet.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radisional vs Elektronik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lit promosi &amp; akses pas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timpangan persaingan daga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per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konomi biaya tinggi &amp; birokra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edur 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ar kurang kompetiti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kses pasar muda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nilaian independ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siasi &amp; penawaran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mudahan permintaan produk bar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ur informasi transpar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layanan interakti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anada Indonesia TechNet (CITN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power SMEs (Small Medium Enterpris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ucation, Research, NGO, Gov’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adian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tn-ctn@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tnjkt@ibm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ITN - CTN Mapp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219320" y="1486080"/>
          <a:ext cx="7086600" cy="53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486080"/>
                    <a:ext cx="7086600" cy="53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ong-cilik@isnet.itb.ac.i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lman, RCTI, Bank, Dept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ng-cilik@isnet.itb.ac.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ong-cilik mapp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990720" y="1165320"/>
          <a:ext cx="8153280" cy="615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165320"/>
                    <a:ext cx="8153280" cy="61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PAN Agriculture W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griculture@apan.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ed Knowledge on Agricul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upporting Technolog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ound Card Packet Radi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00-9600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 + Sound Card +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home.pages.de/~flexnet/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arch Internet: (Keywor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TT FlexNet via Seria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47" name="ptt_ser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853452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ycom Packet Radi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533520" y="1752480"/>
          <a:ext cx="8610480" cy="464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752480"/>
                    <a:ext cx="8610480" cy="46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1" name=""/>
          <p:cNvGraphicFramePr/>
          <p:nvPr/>
        </p:nvGraphicFramePr>
        <p:xfrm>
          <a:off x="-3240" y="-3240"/>
          <a:ext cx="9074160" cy="678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8816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RADI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RADIO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hared Web Acces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3.6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 Windows / Linux / FreeBSD +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download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arch Internet: (Keywor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g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al Shared Web Acces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0" y="2514600"/>
          <a:ext cx="8839080" cy="27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514600"/>
                    <a:ext cx="883908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irtual Hos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3.6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 Windows / Linux / FreeBSD +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download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arch Internet: (Keywor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g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i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irtual Hos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304920" y="1600200"/>
          <a:ext cx="8839080" cy="431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00200"/>
                    <a:ext cx="8839080" cy="43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aveLAN CDM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-10 km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in Router + Ethernet connec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hydra.carleton.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aveLAN (CDMA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0" y="1774800"/>
          <a:ext cx="9144000" cy="508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74800"/>
                    <a:ext cx="9144000" cy="50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6781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</p:spTree>
  </p:cSld>
  <p:transition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national Tra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762120" y="1504800"/>
          <a:ext cx="8076960" cy="5353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04800"/>
                    <a:ext cx="8076960" cy="5353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mateur Packet Satelli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FOTO-13" descr=""/>
          <p:cNvPicPr/>
          <p:nvPr/>
        </p:nvPicPr>
        <p:blipFill>
          <a:blip r:embed="rId1"/>
          <a:stretch/>
        </p:blipFill>
        <p:spPr>
          <a:xfrm>
            <a:off x="0" y="120600"/>
            <a:ext cx="9144000" cy="661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FOTO-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net Telephon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net Telephon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80" name="ipfax_white1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net Call Wait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82" name="ipfax_white3" descr=""/>
          <p:cNvPicPr/>
          <p:nvPr/>
        </p:nvPicPr>
        <p:blipFill>
          <a:blip r:embed="rId1"/>
          <a:stretch/>
        </p:blipFill>
        <p:spPr>
          <a:xfrm>
            <a:off x="380880" y="1625760"/>
            <a:ext cx="8458200" cy="52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al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84" name="ip5_dialer" descr=""/>
          <p:cNvPicPr/>
          <p:nvPr/>
        </p:nvPicPr>
        <p:blipFill>
          <a:blip r:embed="rId1"/>
          <a:stretch/>
        </p:blipFill>
        <p:spPr>
          <a:xfrm>
            <a:off x="6006960" y="0"/>
            <a:ext cx="3137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-Commerce Globa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066680" y="1674720"/>
          <a:ext cx="7315200" cy="518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674720"/>
                    <a:ext cx="7315200" cy="51832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7e988b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ideo Conferen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86" name="ip5_scrnphone" descr=""/>
          <p:cNvPicPr/>
          <p:nvPr/>
        </p:nvPicPr>
        <p:blipFill>
          <a:blip r:embed="rId1"/>
          <a:stretch/>
        </p:blipFill>
        <p:spPr>
          <a:xfrm>
            <a:off x="5857920" y="0"/>
            <a:ext cx="328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Konseptualisasi .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</p:spTree>
  </p:cSld>
  <p:transition>
    <p:random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294" name=""/>
          <p:cNvSpPr/>
          <p:nvPr/>
        </p:nvSpPr>
        <p:spPr>
          <a:xfrm>
            <a:off x="3892680" y="1911240"/>
            <a:ext cx="5168880" cy="3416400"/>
          </a:xfrm>
          <a:custGeom>
            <a:avLst/>
            <a:gdLst>
              <a:gd name="textAreaLeft" fmla="*/ 191160 w 5168880"/>
              <a:gd name="textAreaRight" fmla="*/ 4977720 w 5168880"/>
              <a:gd name="textAreaTop" fmla="*/ 126360 h 3416400"/>
              <a:gd name="textAreaBottom" fmla="*/ 2728440 h 34164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embangunan Bertump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ada Gerakan Bottom-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i Koperasi-Kopera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298" name=""/>
          <p:cNvSpPr/>
          <p:nvPr/>
        </p:nvSpPr>
        <p:spPr>
          <a:xfrm>
            <a:off x="1758960" y="2063880"/>
            <a:ext cx="6921360" cy="3568680"/>
          </a:xfrm>
          <a:custGeom>
            <a:avLst/>
            <a:gdLst>
              <a:gd name="textAreaLeft" fmla="*/ 256320 w 6921360"/>
              <a:gd name="textAreaRight" fmla="*/ 6665040 w 6921360"/>
              <a:gd name="textAreaTop" fmla="*/ 132120 h 3568680"/>
              <a:gd name="textAreaBottom" fmla="*/ 2850120 h 35686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danya Sistem Informa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emudahkan Interle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ntar Kopera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302" name=""/>
          <p:cNvSpPr/>
          <p:nvPr/>
        </p:nvSpPr>
        <p:spPr>
          <a:xfrm>
            <a:off x="4425840" y="387360"/>
            <a:ext cx="4635720" cy="3645000"/>
          </a:xfrm>
          <a:custGeom>
            <a:avLst/>
            <a:gdLst>
              <a:gd name="textAreaLeft" fmla="*/ 171360 w 4635720"/>
              <a:gd name="textAreaRight" fmla="*/ 4464360 w 4635720"/>
              <a:gd name="textAreaTop" fmla="*/ 135000 h 3645000"/>
              <a:gd name="textAreaBottom" fmla="*/ 2910960 h 36450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teraksi Deng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istem Di Atasny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enjadi lebih muda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306" name=""/>
          <p:cNvSpPr/>
          <p:nvPr/>
        </p:nvSpPr>
        <p:spPr>
          <a:xfrm>
            <a:off x="1835280" y="6480"/>
            <a:ext cx="6769080" cy="2577960"/>
          </a:xfrm>
          <a:custGeom>
            <a:avLst/>
            <a:gdLst>
              <a:gd name="textAreaLeft" fmla="*/ 250560 w 6769080"/>
              <a:gd name="textAreaRight" fmla="*/ 6518520 w 6769080"/>
              <a:gd name="textAreaTop" fmla="*/ 95400 h 2577960"/>
              <a:gd name="textAreaBottom" fmla="*/ 2058840 h 257796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istem Ekonomi Nasio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310" name=""/>
          <p:cNvSpPr/>
          <p:nvPr/>
        </p:nvSpPr>
        <p:spPr>
          <a:xfrm>
            <a:off x="3892680" y="6480"/>
            <a:ext cx="5168880" cy="2654280"/>
          </a:xfrm>
          <a:custGeom>
            <a:avLst/>
            <a:gdLst>
              <a:gd name="textAreaLeft" fmla="*/ 191160 w 5168880"/>
              <a:gd name="textAreaRight" fmla="*/ 4977720 w 5168880"/>
              <a:gd name="textAreaTop" fmla="*/ 98280 h 2654280"/>
              <a:gd name="textAreaBottom" fmla="*/ 2119680 h 26542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Geographics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 flipH="1">
            <a:off x="81720" y="6480"/>
            <a:ext cx="6769080" cy="2425680"/>
          </a:xfrm>
          <a:custGeom>
            <a:avLst/>
            <a:gdLst>
              <a:gd name="textAreaLeft" fmla="*/ 250560 w 6769080"/>
              <a:gd name="textAreaRight" fmla="*/ 6518520 w 6769080"/>
              <a:gd name="textAreaTop" fmla="*/ 89640 h 2425680"/>
              <a:gd name="textAreaBottom" fmla="*/ 1937160 h 24256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and Information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 rot="16200000">
            <a:off x="-69480" y="2825280"/>
            <a:ext cx="2501640" cy="2349360"/>
          </a:xfrm>
          <a:prstGeom prst="rightArrow">
            <a:avLst>
              <a:gd name="adj1" fmla="val 50000"/>
              <a:gd name="adj2" fmla="val 53245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2368440" y="1378080"/>
            <a:ext cx="6693120" cy="5244840"/>
          </a:xfrm>
          <a:custGeom>
            <a:avLst/>
            <a:gdLst>
              <a:gd name="textAreaLeft" fmla="*/ 360 w 6693120"/>
              <a:gd name="textAreaRight" fmla="*/ 6693840 w 6693120"/>
              <a:gd name="textAreaTop" fmla="*/ 0 h 5244840"/>
              <a:gd name="textAreaBottom" fmla="*/ 5245200 h 524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stimasi Tingkat Bunga Yang A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erilaku Masyarakat Dal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enggunaan Sumber Daya Lok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okasi Dana Tingkat Kelu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udy Pola Investas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ase Inovasi E-Commer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ation: penghematan biay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ansion:peningkatan performan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formation: nilai tambah bar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62120" y="2133720"/>
          <a:ext cx="7084800" cy="527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133720"/>
                    <a:ext cx="708480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323" name=""/>
          <p:cNvSpPr/>
          <p:nvPr/>
        </p:nvSpPr>
        <p:spPr>
          <a:xfrm flipH="1" rot="16200000">
            <a:off x="-546840" y="2844720"/>
            <a:ext cx="3492360" cy="2311560"/>
          </a:xfrm>
          <a:prstGeom prst="rightArrow">
            <a:avLst>
              <a:gd name="adj1" fmla="val 50000"/>
              <a:gd name="adj2" fmla="val 75548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2521080" y="463680"/>
            <a:ext cx="6387840" cy="6311880"/>
          </a:xfrm>
          <a:custGeom>
            <a:avLst/>
            <a:gdLst>
              <a:gd name="textAreaLeft" fmla="*/ 360 w 6387840"/>
              <a:gd name="textAreaRight" fmla="*/ 6388560 w 6387840"/>
              <a:gd name="textAreaTop" fmla="*/ 0 h 6311880"/>
              <a:gd name="textAreaBottom" fmla="*/ 6312240 h 631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asar Komodi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gulasi &amp; Peratur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eknologi Tepat Gu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akwa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formasi Management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rganiz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re Patter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ople Networ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r Empower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mand Creat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tion Technology Suppl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9T09:48:31Z</dcterms:created>
  <dc:creator>Onno W. Purbo</dc:creator>
  <dc:description/>
  <dc:language>en-US</dc:language>
  <cp:lastModifiedBy>Onno W. Purbo</cp:lastModifiedBy>
  <dcterms:modified xsi:type="dcterms:W3CDTF">1999-06-29T02:23:48Z</dcterms:modified>
  <cp:revision>24</cp:revision>
  <dc:subject/>
  <dc:title>No Slide Title</dc:title>
</cp:coreProperties>
</file>