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wmf" ContentType="image/x-wmf"/>
  <Override PartName="/ppt/media/image19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A7AE-43E1-4EA4-B44E-4D1FB9C6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6419-5744-449C-800F-9EE7175B5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E870-31B4-47D2-9B13-B4DAB13C7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B25A-02AC-4DAA-8DFC-43F0CA428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5731-DA95-4B6D-8BF9-973CEA71C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355E8-AA97-403F-B383-564630F2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FE77-A5C4-485A-AC9D-75D6DBFB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883A-2C72-4A69-AD8D-2BA0C279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6A63-313A-45EA-9074-62B2A807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51BB9-D6BC-4468-98EA-8D539238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9C882-EEEF-4813-B71B-705A189C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BF3F-A3DD-4660-8102-25B95763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33D58-4526-4A71-A1C0-9617F09B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DCA6-71D5-42AF-892F-B0DDF076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C174-9EFA-4269-AEFF-9A589A04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9477-7788-499E-B9AD-85A07D52D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F831-2B3E-4995-935B-247A17BCD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3A37-EC4A-483D-BB5D-4A16281B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E52C-2145-4FCF-96B8-24A4426D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C52E-86E7-45FC-AB5D-95873C86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2D1C-A727-446F-9739-85804A83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6E5F-1CA4-4FFC-832A-3EC45DC0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C696-9220-4F74-B494-FDA78BDF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B6BC-196F-418E-B58D-246F81CE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3B5D-CE94-4784-8FFF-3F1258ED3A1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F9E0-A54A-41F0-84EE-C90BE72C909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indonesia-panel@itb.ac.id" TargetMode="External"/><Relationship Id="rId2" Type="http://schemas.openxmlformats.org/officeDocument/2006/relationships/hyperlink" Target="http://www.mdaemon.com/" TargetMode="External"/><Relationship Id="rId3" Type="http://schemas.openxmlformats.org/officeDocument/2006/relationships/hyperlink" Target="http://www.wingate.com/" TargetMode="Externa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hyperlink" Target="mailto:onno@indo.net.id" TargetMode="External"/><Relationship Id="rId2" Type="http://schemas.openxmlformats.org/officeDocument/2006/relationships/hyperlink" Target="mailto:onno@itb.ac.id" TargetMode="External"/><Relationship Id="rId3" Type="http://schemas.openxmlformats.org/officeDocument/2006/relationships/hyperlink" Target="mailto:onno@itb.ac.id" TargetMode="External"/><Relationship Id="rId4" Type="http://schemas.openxmlformats.org/officeDocument/2006/relationships/slideLayout" Target="../slideLayouts/slideLayout14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 &amp; Web Mura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 W. Purb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I3/ITB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no@itb.ac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lkomNet Insta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dak perlu registra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rge langsung ke telepon bi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aya Rp. 150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sa Brow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Perlu akal-akalan utk E-mail …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lkomNet Insta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150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Bandung / Jakarta – 1Mbyte / 5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0-1000 e-mail / 5 me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kup 5-10 menit / hari utk satu institusi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 Ujung Pandang – 400Kbyte / 7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Rp. 50-200.000 / bulan / institusi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Dial up Network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main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al-up Network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dial1" descr=""/>
          <p:cNvPicPr/>
          <p:nvPr/>
        </p:nvPicPr>
        <p:blipFill>
          <a:blip r:embed="rId1"/>
          <a:stretch/>
        </p:blipFill>
        <p:spPr>
          <a:xfrm>
            <a:off x="685800" y="15840"/>
            <a:ext cx="845820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dial5" descr=""/>
          <p:cNvPicPr/>
          <p:nvPr/>
        </p:nvPicPr>
        <p:blipFill>
          <a:blip r:embed="rId1"/>
          <a:stretch/>
        </p:blipFill>
        <p:spPr>
          <a:xfrm>
            <a:off x="2362320" y="0"/>
            <a:ext cx="6576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dial2" descr=""/>
          <p:cNvPicPr/>
          <p:nvPr/>
        </p:nvPicPr>
        <p:blipFill>
          <a:blip r:embed="rId1"/>
          <a:stretch/>
        </p:blipFill>
        <p:spPr>
          <a:xfrm>
            <a:off x="838080" y="-27000"/>
            <a:ext cx="830592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rung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ty Access Cent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letakan di konsentrasi mass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kola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guruan Tingg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sant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arget Biay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10.000 / bulan untuk e-mai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00-1000 mail / ha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5-7.000 / jam untuk We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I ~ 1-2 tahu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erens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xxx.itb.ac.id/~yc1dav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digital.lib.itb.ac.id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op-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3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indonesia-pane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http://www.mdaemon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Tahoma"/>
                <a:hlinkClick r:id="rId3"/>
              </a:rPr>
              <a:t>http://www.wingate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usiness Overview (x Rp. juta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43000" y="2743200"/>
          <a:ext cx="7812000" cy="2076480"/>
        </p:xfrm>
        <a:graphic>
          <a:graphicData uri="http://schemas.openxmlformats.org/drawingml/2006/table">
            <a:tbl>
              <a:tblPr/>
              <a:tblGrid>
                <a:gridCol w="2717640"/>
                <a:gridCol w="1301760"/>
                <a:gridCol w="1225800"/>
                <a:gridCol w="1377720"/>
                <a:gridCol w="11890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sin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v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-mail 300 us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b 10 P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b 3 P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toh Detail –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ondisi Um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estasi Rp. 21 ju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-300 penggu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0-2000 mail / ha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-15 menit connect ke ISP / ha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hitung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 user x Rp.10.000/bln = Rp.3 juta/b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 mnt/hr x Rp.150/mnt x 30 = Rp.70.000/bl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mbahan Operasional Rp. 1 juta / bula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sa uang Rp. 2 juta / bulan utk balik mod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erensi Lebih Lanju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ku “Teknologi Warung Internet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ku “TCP/IP Disain &amp; Implementasi” Elexmedia Komputin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9 January 2000 – Seminar / workshop WARNET di IT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70000" y="2266920"/>
          <a:ext cx="8874000" cy="32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2266920"/>
                    <a:ext cx="8874000" cy="32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4495680" y="5105520"/>
            <a:ext cx="4419720" cy="581400"/>
          </a:xfrm>
          <a:prstGeom prst="borderCallout1">
            <a:avLst>
              <a:gd name="adj1" fmla="val 18750"/>
              <a:gd name="adj2" fmla="val -8333"/>
              <a:gd name="adj3" fmla="val -163486"/>
              <a:gd name="adj4" fmla="val -1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ndows95 + Win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teway P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dows9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g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shareware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download.c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wingate-password" descr=""/>
          <p:cNvPicPr/>
          <p:nvPr/>
        </p:nvPicPr>
        <p:blipFill>
          <a:blip r:embed="rId1"/>
          <a:stretch/>
        </p:blipFill>
        <p:spPr>
          <a:xfrm>
            <a:off x="1295280" y="-6480"/>
            <a:ext cx="784872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wingate-service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wingate-syste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wingate-dialer" descr=""/>
          <p:cNvPicPr/>
          <p:nvPr/>
        </p:nvPicPr>
        <p:blipFill>
          <a:blip r:embed="rId1"/>
          <a:stretch/>
        </p:blipFill>
        <p:spPr>
          <a:xfrm>
            <a:off x="2543040" y="0"/>
            <a:ext cx="660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skusi di Internet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jordomo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i beri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 (mailing-li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 sysop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onds sesuai permintaan majordo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IE 5.0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ie-connection" descr=""/>
          <p:cNvPicPr/>
          <p:nvPr/>
        </p:nvPicPr>
        <p:blipFill>
          <a:blip r:embed="rId1"/>
          <a:stretch/>
        </p:blipFill>
        <p:spPr>
          <a:xfrm>
            <a:off x="2984400" y="0"/>
            <a:ext cx="615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ie-proxy" descr=""/>
          <p:cNvPicPr/>
          <p:nvPr/>
        </p:nvPicPr>
        <p:blipFill>
          <a:blip r:embed="rId1"/>
          <a:stretch/>
        </p:blipFill>
        <p:spPr>
          <a:xfrm>
            <a:off x="1143000" y="0"/>
            <a:ext cx="800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onsekuensi Akses We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Akses Web adalah komoditi mahal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kitar Rp. 10.000 / ja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gunakan FreeWeb 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.yahoo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city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gunakan Warung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ara MAHAL untuk akses E-mail! (sekitar Rp. 500-1000 / e-mail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ount dari ISP (umumnya 1 e-mai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are bersama account dari ISP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beli beberapa account e-mail dari IS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akali satu account dengan banyak Full N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gaimana kalau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atu account ke ISP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nyai domain sendi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ir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un1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pn2-bandung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panegara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yak E-mail addres dengan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@host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gaimana kalau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ANPA account di ISP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nyai domain sendi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ir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un1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pn2-bandung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panegara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nyak E-mail addres dengan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@host.ac-id.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gaimana kalau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p. 150 / me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5-10 menit / hari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kup Rp. 50-200.000 / bul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 biaya service ETRN /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cu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E-mail akse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Web akses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0" y="1676520"/>
          <a:ext cx="9144000" cy="44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9144000" cy="44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5587920"/>
            <a:ext cx="4343400" cy="520560"/>
          </a:xfrm>
          <a:prstGeom prst="borderCallout1">
            <a:avLst>
              <a:gd name="adj1" fmla="val 18750"/>
              <a:gd name="adj2" fmla="val -8333"/>
              <a:gd name="adj3" fmla="val -166620"/>
              <a:gd name="adj4" fmla="val -12055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ndows95 + MDae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ua Alternatif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s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s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dae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alt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mdaemo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nakan command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i servis ETR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daem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alt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mdaemon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nakan command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i servis DomainP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kenario Servis ETR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yer di Mail Serv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257800" y="1066680"/>
            <a:ext cx="3581280" cy="12193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pat Menyimpan Sementara E-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62520" y="3352680"/>
            <a:ext cx="419076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l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l Mail dari ET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2514600"/>
            <a:ext cx="4572000" cy="1066680"/>
          </a:xfrm>
          <a:prstGeom prst="wedgeRoundRectCallout">
            <a:avLst>
              <a:gd name="adj1" fmla="val -43518"/>
              <a:gd name="adj2" fmla="val 785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r Workstation di 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/ Persiapan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4876920" y="304920"/>
            <a:ext cx="3809880" cy="13716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 Se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main di sim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81280" y="2819520"/>
            <a:ext cx="5105520" cy="1371600"/>
          </a:xfrm>
          <a:prstGeom prst="wedgeRoundRectCallout">
            <a:avLst>
              <a:gd name="adj1" fmla="val -43518"/>
              <a:gd name="adj2" fmla="val 95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istrasi Do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X ke host ET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il Server Dial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4648320" y="4038480"/>
            <a:ext cx="3200400" cy="13716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al ke 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57600" y="2666880"/>
            <a:ext cx="3429000" cy="2133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que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114800" y="4267080"/>
            <a:ext cx="3352680" cy="2590920"/>
          </a:xfrm>
          <a:prstGeom prst="rightArrow">
            <a:avLst>
              <a:gd name="adj1" fmla="val 50000"/>
              <a:gd name="adj2" fmla="val 3235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rim Mail 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er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TRN host mengirim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2743200" y="3429000"/>
            <a:ext cx="5486400" cy="1600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TRN h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irim ma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r 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mbil Mail POP3 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il Server Lok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sums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a sebuah institus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nimal sebuah PC window 95 / 98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kur-sukur ada beberapa komputer (dalam dikaitkan dalam LAN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 sebuah PC Windows95 + modem sebagai gateway ke Interne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-mail Soft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S Outlook Exp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udo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kenario DomainPO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yer di Mail Serv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5257800" y="1066680"/>
            <a:ext cx="3581280" cy="12193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pat Menyimpan Sementara E-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3352680"/>
            <a:ext cx="419076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il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mbil Mail dari ET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19320" y="2514600"/>
            <a:ext cx="4572000" cy="1066680"/>
          </a:xfrm>
          <a:prstGeom prst="wedgeRoundRectCallout">
            <a:avLst>
              <a:gd name="adj1" fmla="val -43518"/>
              <a:gd name="adj2" fmla="val 785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r Workstation di 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etup / Persiapan E-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4876920" y="304920"/>
            <a:ext cx="3809880" cy="13716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rator Set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main di simp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2819520"/>
            <a:ext cx="5105520" cy="1371600"/>
          </a:xfrm>
          <a:prstGeom prst="wedgeRoundRectCallout">
            <a:avLst>
              <a:gd name="adj1" fmla="val -43518"/>
              <a:gd name="adj2" fmla="val 956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gistrasi Do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X ke host ET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il Server Dial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4648320" y="4038480"/>
            <a:ext cx="3200400" cy="137160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al ke 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2666880"/>
            <a:ext cx="5181480" cy="2133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main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14800" y="4267080"/>
            <a:ext cx="3352680" cy="2590920"/>
          </a:xfrm>
          <a:prstGeom prst="rightArrow">
            <a:avLst>
              <a:gd name="adj1" fmla="val 50000"/>
              <a:gd name="adj2" fmla="val 3235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rim Mail 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ver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X host mengirim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2743200" y="3429000"/>
            <a:ext cx="5486400" cy="1600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X h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irim ma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r 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mbil Mail POP3 k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il Server Lok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User Mengambil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0" y="1752480"/>
          <a:ext cx="9144000" cy="445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1905120" y="1828800"/>
            <a:ext cx="5715000" cy="2057400"/>
          </a:xfrm>
          <a:prstGeom prst="wedgeRoundRectCallout">
            <a:avLst>
              <a:gd name="adj1" fmla="val -43518"/>
              <a:gd name="adj2" fmla="val 759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-mail Soft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S Outlook Exp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udo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entuk MDaem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mdaemon-home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Internet .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ngakses Web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mpublikasi Home Page 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munikasi E-mail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Komunikasi E-mail jauh lebih penting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mdaemon-setup-ras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mdaemon-setup-isp-logon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mademon-schedul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mdaemon-system-daemo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mdaemon-dns-setup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mdaemon-domain-setup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mdaemon-dns-setup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/windows/hos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7.0.0.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7.205.23.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rn-host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7.205.23.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3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7.205.23.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nesha.itb.ac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59.21.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p.indo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59.32.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.indo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34.0.6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juna.telkom.co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34.0.15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s1.telkom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02.134.2.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s2.telkom.net.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mdaemon-setup-etrn-dequeue" descr=""/>
          <p:cNvPicPr/>
          <p:nvPr/>
        </p:nvPicPr>
        <p:blipFill>
          <a:blip r:embed="rId1"/>
          <a:stretch/>
        </p:blipFill>
        <p:spPr>
          <a:xfrm>
            <a:off x="320364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mdaemon-account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Kunci keberhasil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mber Daya Manusi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dersh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dika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ahli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Sedikit $$$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rima kasi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Arial Black"/>
                <a:hlinkClick r:id="rId1"/>
              </a:rPr>
              <a:t>onno@indo.net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6633"/>
                </a:solidFill>
                <a:uFillTx/>
                <a:latin typeface="Arial Black"/>
                <a:hlinkClick r:id="rId2"/>
              </a:rPr>
              <a:t>onno</a:t>
            </a:r>
            <a:r>
              <a:rPr b="0" lang="en-US" sz="3200" spc="-1" strike="noStrike" u="sng">
                <a:solidFill>
                  <a:srgbClr val="996633"/>
                </a:solidFill>
                <a:uFillTx/>
                <a:latin typeface="Arial Black"/>
                <a:hlinkClick r:id="rId3"/>
              </a:rPr>
              <a:t>@itb.ac.i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ferens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xxx.itb.ac.id/~yc1dav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digital.lib.itb.ac.id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stakawan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op-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y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y-network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i3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onesia-panel@itb.ac.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kses Intern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telit VSAT (64Kbps - 2M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ased Line JAMUS (64Kbps - 2M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veLAN Microwave (2-11 M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lepon (33.6 K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cket radio (1200bps - 9600b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elum pernah akses Internet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ganan ISP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l TelkomNet Instant – 0809 8 9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rabaya, Malang, Madiu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npas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kar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jung Pand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g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jarmas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6T00:47:54Z</dcterms:created>
  <dc:creator>Onno W. Purbo</dc:creator>
  <dc:description/>
  <dc:language>en-US</dc:language>
  <cp:lastModifiedBy>Onno W. Purbo</cp:lastModifiedBy>
  <dcterms:modified xsi:type="dcterms:W3CDTF">2000-03-16T11:37:25Z</dcterms:modified>
  <cp:revision>79</cp:revision>
  <dc:subject/>
  <dc:title>Akses E-mail &amp; Web Murah</dc:title>
</cp:coreProperties>
</file>