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1DA8C-8F9D-4C81-9CC7-1176ACF7E2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2B3E8-BF74-4FD9-8FFD-C737C9D2F8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36153-DFB6-43CF-8CD9-6E925A97FE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32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6056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32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6056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7D2DA-567B-4AA9-881D-107E247C93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337D6-99F9-43B4-A3F5-C85E3A344C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FD2FB-5CDE-414D-BF86-D4A4474F31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439E1-E270-4206-8B9A-BBE1E09ABF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CADDB-4D2F-4C0E-A921-D897BCCF2A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990360"/>
            <a:ext cx="6476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A39B8-19B9-4584-87D8-F0FFF69D6D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64FE0-6B57-4A5B-953D-8118A0DF55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12EAE-EF61-4FBF-A49C-0E7D385686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D1B11-AB7F-4448-A5C0-9F37A894F1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121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18F6-AB4E-466F-9F22-3A5D2F5B37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360" y="1447920"/>
            <a:ext cx="739116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Myth of the Ubiquitous $0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door Install</a:t>
            </a:r>
            <a:br>
              <a:rPr sz="3600"/>
            </a:br>
            <a:br>
              <a:rPr sz="36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r. Malik Audeh</a:t>
            </a:r>
            <a:br>
              <a:rPr sz="3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or of Wireless System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Networks, Inc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ik.audeh@hybrid.com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band Wireless World Foru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bruary 13,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54864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eps Forw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8458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d equalization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-domain equal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 recovery from inevitable deep f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ptive modulation and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ion of RF and modem at C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receive diversity when appropri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y not necessary in all mar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FB4AF-22EF-4E31-B647-47D1F932374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56386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rther Ste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2361960"/>
            <a:ext cx="83822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oor installation where link budget all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grate to standards-based IEEE 802.16a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orous IEEE process, no single-vendor architectural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volume baseband chipsets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volume RF chipsets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65EDF-C74F-41C9-B869-10417A24E5C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5486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service tiers improve operator RO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am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 servi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ology to serve ITFS licensees for more efficient spectrum sha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lled user         no streaming, no multi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8120" y="5603760"/>
            <a:ext cx="6094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E173E-564D-4707-97E5-DBF895BE2E8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5715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G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ally Delayed 3G services are arriving with data as an add-on to v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gh-speed, streaming data may have unknown effects to voice-based protocol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DMA self-interference may have unknown effect on scalabil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deoff processing gain (robustness) for capac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E51BA-0E26-4571-9AB3-3326A76B5F8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58672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arison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27160" y="1905120"/>
          <a:ext cx="8718480" cy="476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7160" y="1905120"/>
                    <a:ext cx="871848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E20D3-950D-4304-BC67-F14C6123722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57913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ors’ goals are cl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ional, economical deployment strategy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complete system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the learning curve of unproven technologies that have not even been deploy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loy a second-generation system that is founded on a reliable, scalable, globally deployed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tantially increases probability of su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B9F67-9897-4102-813E-7461C35FC56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36120" y="914040"/>
            <a:ext cx="5459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6212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or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s demand complete and economical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iques to meet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39B0F-5941-4AF9-9824-34500CDFF4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73915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ustry Requirements for Grow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7848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f-inst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S, 90% co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-cost CPE ($500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stalled co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C75E9-8C7C-4C5A-ADD1-7A6DF66E57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990720"/>
            <a:ext cx="7543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f-Install is a System-Wide Iss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hoice of $0 install affects virtually every architectural system deci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 bud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ha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 in Loaded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F35B6-7C48-4D51-990D-F046D36E249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$0 Install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ossible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amforming, complex phased array anten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ced D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modulation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MO, multi-user det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$0 install is technically possible, but is only relevant if the product can be economically deployed to consumers and businesses on a timely basis to maximize market penetr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E8AA3-C8C5-4B93-B1FF-429D0C1D480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6248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our Industry Nee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4876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OFDM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yCDMA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rt antenna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product fits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C900D-B24C-4555-A63D-115D90023B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6248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ployment Strateg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cells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of DSL and cable modem method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+ years beh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rastructure not yet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wed build-as-you-grow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ional layered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 entire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-as-you-grow infra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0D477-F4CA-41D8-82B7-25B69A8C1F3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5486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owth Strate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1965240"/>
            <a:ext cx="3610080" cy="35355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94640" y="3666960"/>
            <a:ext cx="60120" cy="590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7010280" y="2687760"/>
            <a:ext cx="687600" cy="687240"/>
            <a:chOff x="7010280" y="2687760"/>
            <a:chExt cx="687600" cy="687240"/>
          </a:xfrm>
        </p:grpSpPr>
        <p:sp>
          <p:nvSpPr>
            <p:cNvPr id="58" name=""/>
            <p:cNvSpPr/>
            <p:nvPr/>
          </p:nvSpPr>
          <p:spPr>
            <a:xfrm>
              <a:off x="7010280" y="2687760"/>
              <a:ext cx="687600" cy="68724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46520" y="302724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7483320" y="2309760"/>
            <a:ext cx="687600" cy="687600"/>
            <a:chOff x="7483320" y="2309760"/>
            <a:chExt cx="687600" cy="687600"/>
          </a:xfrm>
        </p:grpSpPr>
        <p:sp>
          <p:nvSpPr>
            <p:cNvPr id="61" name=""/>
            <p:cNvSpPr/>
            <p:nvPr/>
          </p:nvSpPr>
          <p:spPr>
            <a:xfrm>
              <a:off x="7483320" y="2309760"/>
              <a:ext cx="687600" cy="6876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19560" y="264960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5389560" y="3195720"/>
            <a:ext cx="687240" cy="687240"/>
            <a:chOff x="5389560" y="3195720"/>
            <a:chExt cx="687240" cy="687240"/>
          </a:xfrm>
        </p:grpSpPr>
        <p:sp>
          <p:nvSpPr>
            <p:cNvPr id="64" name=""/>
            <p:cNvSpPr/>
            <p:nvPr/>
          </p:nvSpPr>
          <p:spPr>
            <a:xfrm>
              <a:off x="5389560" y="3195720"/>
              <a:ext cx="687240" cy="68724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725800" y="353520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6800760" y="4444920"/>
            <a:ext cx="687600" cy="687600"/>
            <a:chOff x="6800760" y="4444920"/>
            <a:chExt cx="687600" cy="687600"/>
          </a:xfrm>
        </p:grpSpPr>
        <p:sp>
          <p:nvSpPr>
            <p:cNvPr id="67" name=""/>
            <p:cNvSpPr/>
            <p:nvPr/>
          </p:nvSpPr>
          <p:spPr>
            <a:xfrm>
              <a:off x="6800760" y="4444920"/>
              <a:ext cx="687600" cy="6876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137000" y="478476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7593120" y="2922480"/>
            <a:ext cx="687240" cy="687600"/>
            <a:chOff x="7593120" y="2922480"/>
            <a:chExt cx="687240" cy="687600"/>
          </a:xfrm>
        </p:grpSpPr>
        <p:sp>
          <p:nvSpPr>
            <p:cNvPr id="70" name=""/>
            <p:cNvSpPr/>
            <p:nvPr/>
          </p:nvSpPr>
          <p:spPr>
            <a:xfrm>
              <a:off x="7593120" y="2922480"/>
              <a:ext cx="687240" cy="6876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929360" y="326232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6156360" y="4457880"/>
            <a:ext cx="687240" cy="687240"/>
            <a:chOff x="6156360" y="4457880"/>
            <a:chExt cx="687240" cy="687240"/>
          </a:xfrm>
        </p:grpSpPr>
        <p:sp>
          <p:nvSpPr>
            <p:cNvPr id="73" name=""/>
            <p:cNvSpPr/>
            <p:nvPr/>
          </p:nvSpPr>
          <p:spPr>
            <a:xfrm>
              <a:off x="6156360" y="4457880"/>
              <a:ext cx="687240" cy="68724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492600" y="479736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2438280" y="2468520"/>
            <a:ext cx="1295640" cy="1295640"/>
            <a:chOff x="2438280" y="2468520"/>
            <a:chExt cx="1295640" cy="1295640"/>
          </a:xfrm>
        </p:grpSpPr>
        <p:sp>
          <p:nvSpPr>
            <p:cNvPr id="76" name=""/>
            <p:cNvSpPr/>
            <p:nvPr/>
          </p:nvSpPr>
          <p:spPr>
            <a:xfrm>
              <a:off x="3408120" y="24685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408120" y="279108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408120" y="311364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408120" y="34362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165480" y="26298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165480" y="295236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165480" y="32749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923200" y="34362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923200" y="311364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923200" y="279108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923200" y="24685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680560" y="26298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680560" y="295236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680560" y="32749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38280" y="24685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38280" y="279108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38280" y="311364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38280" y="34362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20320" y="31042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163320" y="262044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68360" y="32648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25360" y="34268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683800" y="32648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683800" y="29426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925360" y="27806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68360" y="29426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887400" y="5773680"/>
            <a:ext cx="31813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Cells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te to Market, Limited Cove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935000"/>
            <a:ext cx="3610080" cy="3535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97080" y="5773680"/>
            <a:ext cx="4015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nal Layered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oad Market Coverage, Hotspot follow-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50831-FD27-493C-8700-113FDA997F6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69339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ving Ahead from a Solid B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 10,000 CPE proven on one base station, over 2,000 CPE proven on a single 6-MHz s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PEs deployed 1-35 miles from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monstrated high throughput under lo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en disaster recove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ility to function despite interference and human err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 150,000 lines of continually enhanced field-hardened c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uted architecture for stronger secur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monstrated support of multiple backhaul options (many TDMA protocols preclude RF backhau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9121A-54BE-4795-8B08-3167AE011A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0T16:26:27Z</dcterms:created>
  <dc:creator>audeh</dc:creator>
  <dc:description/>
  <dc:language>en-US</dc:language>
  <cp:lastModifiedBy>Karen Crain</cp:lastModifiedBy>
  <cp:lastPrinted>2002-02-08T19:22:59Z</cp:lastPrinted>
  <dcterms:modified xsi:type="dcterms:W3CDTF">2002-02-10T20:28:58Z</dcterms:modified>
  <cp:revision>46</cp:revision>
  <dc:subject/>
  <dc:title>What does the industry need?</dc:title>
</cp:coreProperties>
</file>