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8.xml" ContentType="application/vnd.openxmlformats-officedocument.presentationml.notesSlide+xml"/>
  <Override PartName="/ppt/notesSlides/_rels/notesSlide3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1.wmf" ContentType="image/x-wmf"/>
  <Override PartName="/ppt/media/image17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2.jpeg" ContentType="image/jpeg"/>
  <Override PartName="/ppt/media/image21.png" ContentType="image/png"/>
  <Override PartName="/ppt/media/image19.jpeg" ContentType="image/jpeg"/>
  <Override PartName="/ppt/media/image16.jpeg" ContentType="image/jpeg"/>
  <Override PartName="/ppt/media/image15.jpeg" ContentType="image/jpeg"/>
  <Override PartName="/ppt/media/image14.wmf" ContentType="image/x-wmf"/>
  <Override PartName="/ppt/media/image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8.png" ContentType="image/png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F0293-2578-4AA7-A302-A392AD73EF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r target market for LMDS is Small to Medium s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Greater Green Bay Nearly 6000 company’s in tha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49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yond Green B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usau  ** Eau Claire  ** Stevens Point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eton  ** Sturgeon Bay  ** Oshkosh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inette/Menominee  ** Manitowoc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nd du Lac  ** Sheboygan  ** Marshfield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ughton  ** Marquette  ** Ishpeming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ult Ste. Marie  ** Escanaba  ** Ironwood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on Mountain  ** Rhinelander  **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as cost of equipment drops small towns become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et for business and residenti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51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yond Green B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usau  ** Eau Claire  ** Stevens Point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eton  ** Sturgeon Bay  ** Oshkosh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inette/Menominee  ** Manitowoc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nd du Lac  ** Sheboygan  ** Marshfield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ughton  ** Marquette  ** Ishpeming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ult Ste. Marie  ** Escanaba  ** Ironwood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on Mountain  ** Rhinelander  **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as cost of equipment drops small towns become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et for business and residenti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h can be desig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works can be set up and easily  reconfigu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meet customer demand or work a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obstruction without site visits 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w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55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h can be desig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works can be set up and easily  reconfigu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meet customer demand or work a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obstruction without site visits 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w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57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h can be desig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works can be set up and easily  reconfigu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meet customer demand or work a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obstruction without site visits 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w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h can be desig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works can be set up and easily  reconfigu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meet customer demand or work a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obstruction without site visits 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w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EDA9A-5E51-4B9B-A4FF-B51B8E8339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755DF-1C3A-40A4-93B4-24CF61D644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DDEC4-DAC3-40D4-8182-991FE7FF6B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C8CEF-6986-48B5-8EEA-CFAA1F249E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F9945-B048-4062-8A4C-B2226D9EF2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BAE1F-D506-4D24-A300-461AE92AF4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98428-2541-4269-BA26-3EEBA1549C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998B7-113D-42A2-B47D-21359E305F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46C34-8753-4BA9-8505-69E06DAB46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E96C9-DA96-4C1A-B81E-8D22B0758C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75EE4-2A76-48CB-8FA6-1F120149F0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945AE-1897-48AD-BDD1-6243D71E4D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1EDD6-3517-4BDF-BCB4-92205AB948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header-logo" descr=""/>
          <p:cNvPicPr/>
          <p:nvPr/>
        </p:nvPicPr>
        <p:blipFill>
          <a:blip r:embed="rId2"/>
          <a:stretch/>
        </p:blipFill>
        <p:spPr>
          <a:xfrm>
            <a:off x="152280" y="6019920"/>
            <a:ext cx="1581120" cy="7333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457200" y="1828800"/>
            <a:ext cx="815328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bnr_bwwf02%20copy" descr=""/>
          <p:cNvPicPr/>
          <p:nvPr/>
        </p:nvPicPr>
        <p:blipFill>
          <a:blip r:embed="rId1"/>
          <a:stretch/>
        </p:blipFill>
        <p:spPr>
          <a:xfrm>
            <a:off x="0" y="-14400"/>
            <a:ext cx="929628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f Big Bandwidth Users Not Near Each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996840" y="1981080"/>
            <a:ext cx="2508120" cy="2195640"/>
            <a:chOff x="996840" y="1981080"/>
            <a:chExt cx="2508120" cy="2195640"/>
          </a:xfrm>
        </p:grpSpPr>
        <p:sp>
          <p:nvSpPr>
            <p:cNvPr id="93" name=""/>
            <p:cNvSpPr/>
            <p:nvPr/>
          </p:nvSpPr>
          <p:spPr>
            <a:xfrm>
              <a:off x="1257480" y="21823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736640" y="20674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913040" y="27478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371040" y="198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595960" y="2546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433960" y="2037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850120" y="31024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419120" y="3313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405880" y="3572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441600" y="3668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96840" y="40903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658880" y="400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36120" y="2853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765520" y="3994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877400" y="34002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109160" y="2997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962520" y="2057400"/>
            <a:ext cx="2507760" cy="2195640"/>
            <a:chOff x="3962520" y="2057400"/>
            <a:chExt cx="2507760" cy="2195640"/>
          </a:xfrm>
        </p:grpSpPr>
        <p:sp>
          <p:nvSpPr>
            <p:cNvPr id="110" name=""/>
            <p:cNvSpPr/>
            <p:nvPr/>
          </p:nvSpPr>
          <p:spPr>
            <a:xfrm>
              <a:off x="4223160" y="22586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702320" y="21438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878360" y="28242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336360" y="2057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561640" y="2622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399280" y="2114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815440" y="31788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84800" y="3389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371560" y="3648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06920" y="37447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962520" y="416664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624560" y="4080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301440" y="2930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30840" y="40705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42720" y="347652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074840" y="30733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1752480" y="3809880"/>
            <a:ext cx="2508120" cy="2195640"/>
            <a:chOff x="1752480" y="3809880"/>
            <a:chExt cx="2508120" cy="2195640"/>
          </a:xfrm>
        </p:grpSpPr>
        <p:sp>
          <p:nvSpPr>
            <p:cNvPr id="127" name=""/>
            <p:cNvSpPr/>
            <p:nvPr/>
          </p:nvSpPr>
          <p:spPr>
            <a:xfrm>
              <a:off x="2013120" y="4011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492280" y="38962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668680" y="45766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126680" y="38098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51600" y="4375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189600" y="3866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05760" y="49312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174760" y="5142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61520" y="540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97240" y="54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52480" y="59191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414520" y="5832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091760" y="4682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21160" y="5823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633040" y="52290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864800" y="48258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5105520" y="3581280"/>
            <a:ext cx="2507760" cy="2195640"/>
            <a:chOff x="5105520" y="3581280"/>
            <a:chExt cx="2507760" cy="2195640"/>
          </a:xfrm>
        </p:grpSpPr>
        <p:sp>
          <p:nvSpPr>
            <p:cNvPr id="144" name=""/>
            <p:cNvSpPr/>
            <p:nvPr/>
          </p:nvSpPr>
          <p:spPr>
            <a:xfrm>
              <a:off x="5366160" y="37825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845320" y="36676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021360" y="43480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479360" y="3581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704640" y="4146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542280" y="3638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58440" y="47026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527800" y="4913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14560" y="5172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549920" y="52686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105520" y="56905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767560" y="56041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444440" y="445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73840" y="5594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985720" y="50004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217840" y="45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176480" y="2006640"/>
            <a:ext cx="6824160" cy="4394160"/>
            <a:chOff x="1176480" y="2006640"/>
            <a:chExt cx="6824160" cy="4394160"/>
          </a:xfrm>
        </p:grpSpPr>
        <p:sp>
          <p:nvSpPr>
            <p:cNvPr id="161" name=""/>
            <p:cNvSpPr/>
            <p:nvPr/>
          </p:nvSpPr>
          <p:spPr>
            <a:xfrm>
              <a:off x="1885680" y="240984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189240" y="217980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68760" y="354168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635600" y="20066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527440" y="313848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086080" y="212112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18280" y="425124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325600" y="46735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010120" y="51912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827840" y="538344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176480" y="62276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977920" y="60548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540560" y="375300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987880" y="603576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571920" y="484668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482480" y="404028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f Big Bandwidth Users Not Near Each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996840" y="1981080"/>
            <a:ext cx="2508120" cy="2195640"/>
            <a:chOff x="996840" y="1981080"/>
            <a:chExt cx="2508120" cy="2195640"/>
          </a:xfrm>
        </p:grpSpPr>
        <p:sp>
          <p:nvSpPr>
            <p:cNvPr id="179" name=""/>
            <p:cNvSpPr/>
            <p:nvPr/>
          </p:nvSpPr>
          <p:spPr>
            <a:xfrm>
              <a:off x="1257480" y="21823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736640" y="20674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913040" y="27478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71040" y="198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595960" y="2546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433960" y="2037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850120" y="31024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19120" y="3313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405880" y="3572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441600" y="3668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996840" y="40903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658880" y="400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336120" y="2853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765520" y="3994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877400" y="34002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109160" y="2997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962520" y="2057400"/>
            <a:ext cx="2507760" cy="2195640"/>
            <a:chOff x="3962520" y="2057400"/>
            <a:chExt cx="2507760" cy="2195640"/>
          </a:xfrm>
        </p:grpSpPr>
        <p:sp>
          <p:nvSpPr>
            <p:cNvPr id="196" name=""/>
            <p:cNvSpPr/>
            <p:nvPr/>
          </p:nvSpPr>
          <p:spPr>
            <a:xfrm>
              <a:off x="4223160" y="22586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02320" y="21438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878360" y="28242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336360" y="2057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561640" y="2622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399280" y="2114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815440" y="31788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384800" y="3389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371560" y="3648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06920" y="37447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962520" y="416664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624560" y="4080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301440" y="2930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730840" y="40705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842720" y="347652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074840" y="30733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752480" y="3809880"/>
            <a:ext cx="2508120" cy="2195640"/>
            <a:chOff x="1752480" y="3809880"/>
            <a:chExt cx="2508120" cy="2195640"/>
          </a:xfrm>
        </p:grpSpPr>
        <p:sp>
          <p:nvSpPr>
            <p:cNvPr id="213" name=""/>
            <p:cNvSpPr/>
            <p:nvPr/>
          </p:nvSpPr>
          <p:spPr>
            <a:xfrm>
              <a:off x="2013120" y="4011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92280" y="38962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668680" y="45766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126680" y="38098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351600" y="4375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89600" y="3866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605760" y="49312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174760" y="5142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61520" y="540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197240" y="54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752480" y="59191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414520" y="5832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091760" y="4682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21160" y="5823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633040" y="52290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864800" y="48258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5105520" y="3581280"/>
            <a:ext cx="2507760" cy="2195640"/>
            <a:chOff x="5105520" y="3581280"/>
            <a:chExt cx="2507760" cy="2195640"/>
          </a:xfrm>
        </p:grpSpPr>
        <p:sp>
          <p:nvSpPr>
            <p:cNvPr id="230" name=""/>
            <p:cNvSpPr/>
            <p:nvPr/>
          </p:nvSpPr>
          <p:spPr>
            <a:xfrm>
              <a:off x="5366160" y="37825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845320" y="36676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021360" y="43480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479360" y="3581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704640" y="4146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542280" y="3638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958440" y="47026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527800" y="4913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514560" y="5172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549920" y="52686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105520" y="56905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767560" y="56041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444440" y="445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873840" y="5594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985720" y="50004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17840" y="45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1176480" y="2006640"/>
            <a:ext cx="6824160" cy="4394160"/>
            <a:chOff x="1176480" y="2006640"/>
            <a:chExt cx="6824160" cy="4394160"/>
          </a:xfrm>
        </p:grpSpPr>
        <p:sp>
          <p:nvSpPr>
            <p:cNvPr id="247" name=""/>
            <p:cNvSpPr/>
            <p:nvPr/>
          </p:nvSpPr>
          <p:spPr>
            <a:xfrm>
              <a:off x="1885680" y="240984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189240" y="217980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668760" y="354168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635600" y="20066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527440" y="313848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086080" y="212112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218280" y="425124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325600" y="46735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010120" y="51912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827840" y="538344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176480" y="62276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977920" y="60548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540560" y="375300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987880" y="603576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571920" y="484668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482480" y="404028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2057400" y="2285280"/>
            <a:ext cx="5475600" cy="3658320"/>
            <a:chOff x="2057400" y="2285280"/>
            <a:chExt cx="5475600" cy="3658320"/>
          </a:xfrm>
        </p:grpSpPr>
        <p:cxnSp>
          <p:nvCxnSpPr>
            <p:cNvPr id="264" name=""/>
            <p:cNvCxnSpPr/>
            <p:nvPr/>
          </p:nvCxnSpPr>
          <p:spPr>
            <a:xfrm flipV="1">
              <a:off x="6400800" y="5486040"/>
              <a:ext cx="1132560" cy="4579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5" name=""/>
            <p:cNvCxnSpPr/>
            <p:nvPr/>
          </p:nvCxnSpPr>
          <p:spPr>
            <a:xfrm flipV="1">
              <a:off x="2057400" y="2285280"/>
              <a:ext cx="1132560" cy="23076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6" name=""/>
            <p:cNvCxnSpPr/>
            <p:nvPr/>
          </p:nvCxnSpPr>
          <p:spPr>
            <a:xfrm flipV="1">
              <a:off x="2133720" y="3733200"/>
              <a:ext cx="1132560" cy="23076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7" name=""/>
            <p:cNvCxnSpPr/>
            <p:nvPr/>
          </p:nvCxnSpPr>
          <p:spPr>
            <a:xfrm flipV="1">
              <a:off x="4114800" y="3276000"/>
              <a:ext cx="1132560" cy="23076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8" name=""/>
            <p:cNvCxnSpPr/>
            <p:nvPr/>
          </p:nvCxnSpPr>
          <p:spPr>
            <a:xfrm flipV="1">
              <a:off x="4419720" y="4495320"/>
              <a:ext cx="1132560" cy="2311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9" name=""/>
            <p:cNvCxnSpPr/>
            <p:nvPr/>
          </p:nvCxnSpPr>
          <p:spPr>
            <a:xfrm flipV="1">
              <a:off x="3593880" y="5333760"/>
              <a:ext cx="1130760" cy="52920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70" name=""/>
            <p:cNvCxnSpPr/>
            <p:nvPr/>
          </p:nvCxnSpPr>
          <p:spPr>
            <a:xfrm>
              <a:off x="2514240" y="4724280"/>
              <a:ext cx="1080360" cy="1375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f Big Bandwidth Users Not Near Each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996840" y="1981080"/>
            <a:ext cx="2508120" cy="2195640"/>
            <a:chOff x="996840" y="1981080"/>
            <a:chExt cx="2508120" cy="2195640"/>
          </a:xfrm>
        </p:grpSpPr>
        <p:sp>
          <p:nvSpPr>
            <p:cNvPr id="273" name=""/>
            <p:cNvSpPr/>
            <p:nvPr/>
          </p:nvSpPr>
          <p:spPr>
            <a:xfrm>
              <a:off x="1257480" y="21823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736640" y="20674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913040" y="27478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71040" y="198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595960" y="2546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433960" y="2037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850120" y="31024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419120" y="3313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405880" y="3572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441600" y="3668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996840" y="40903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658880" y="400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336120" y="2853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765520" y="3994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877400" y="34002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109160" y="2997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3962520" y="2057400"/>
            <a:ext cx="2507760" cy="2195640"/>
            <a:chOff x="3962520" y="2057400"/>
            <a:chExt cx="2507760" cy="2195640"/>
          </a:xfrm>
        </p:grpSpPr>
        <p:sp>
          <p:nvSpPr>
            <p:cNvPr id="290" name=""/>
            <p:cNvSpPr/>
            <p:nvPr/>
          </p:nvSpPr>
          <p:spPr>
            <a:xfrm>
              <a:off x="4223160" y="22586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702320" y="21438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878360" y="28242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336360" y="2057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561640" y="2622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399280" y="2114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815440" y="31788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384800" y="3389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371560" y="3648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06920" y="37447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962520" y="416664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24560" y="4080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301440" y="2930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730840" y="40705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842720" y="347652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074840" y="30733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1752480" y="3809880"/>
            <a:ext cx="2508120" cy="2195640"/>
            <a:chOff x="1752480" y="3809880"/>
            <a:chExt cx="2508120" cy="2195640"/>
          </a:xfrm>
        </p:grpSpPr>
        <p:sp>
          <p:nvSpPr>
            <p:cNvPr id="307" name=""/>
            <p:cNvSpPr/>
            <p:nvPr/>
          </p:nvSpPr>
          <p:spPr>
            <a:xfrm>
              <a:off x="2013120" y="4011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492280" y="38962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68680" y="45766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126680" y="38098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351600" y="4375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189600" y="3866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605760" y="49312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174760" y="5142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61520" y="540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197240" y="54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752480" y="59191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414520" y="5832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091760" y="4682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521160" y="5823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633040" y="52290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864800" y="48258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5105520" y="3581280"/>
            <a:ext cx="2507760" cy="2195640"/>
            <a:chOff x="5105520" y="3581280"/>
            <a:chExt cx="2507760" cy="2195640"/>
          </a:xfrm>
        </p:grpSpPr>
        <p:sp>
          <p:nvSpPr>
            <p:cNvPr id="324" name=""/>
            <p:cNvSpPr/>
            <p:nvPr/>
          </p:nvSpPr>
          <p:spPr>
            <a:xfrm>
              <a:off x="5366160" y="37825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845320" y="36676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21360" y="43480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479360" y="3581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704640" y="4146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542280" y="3638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958440" y="47026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527800" y="4913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514560" y="5172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549920" y="52686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105520" y="56905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767560" y="56041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444440" y="445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873840" y="5594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985720" y="50004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217840" y="45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1176480" y="2006640"/>
            <a:ext cx="6824160" cy="4394160"/>
            <a:chOff x="1176480" y="2006640"/>
            <a:chExt cx="6824160" cy="4394160"/>
          </a:xfrm>
        </p:grpSpPr>
        <p:sp>
          <p:nvSpPr>
            <p:cNvPr id="341" name=""/>
            <p:cNvSpPr/>
            <p:nvPr/>
          </p:nvSpPr>
          <p:spPr>
            <a:xfrm>
              <a:off x="1885680" y="240984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189240" y="217980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668760" y="354168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635600" y="20066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527440" y="313848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086080" y="212112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218280" y="425124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325600" y="46735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10120" y="51912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827840" y="538344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176480" y="62276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977920" y="60548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540560" y="375300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987880" y="603576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571920" y="484668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482480" y="404028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7" name=""/>
          <p:cNvCxnSpPr/>
          <p:nvPr/>
        </p:nvCxnSpPr>
        <p:spPr>
          <a:xfrm flipV="1">
            <a:off x="2057400" y="2285280"/>
            <a:ext cx="1132560" cy="230760"/>
          </a:xfrm>
          <a:prstGeom prst="straightConnector1">
            <a:avLst/>
          </a:prstGeom>
          <a:ln w="7632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58" name=""/>
          <p:cNvCxnSpPr/>
          <p:nvPr/>
        </p:nvCxnSpPr>
        <p:spPr>
          <a:xfrm flipV="1">
            <a:off x="2133720" y="3733200"/>
            <a:ext cx="1132560" cy="23076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59" name=""/>
          <p:cNvCxnSpPr/>
          <p:nvPr/>
        </p:nvCxnSpPr>
        <p:spPr>
          <a:xfrm flipV="1">
            <a:off x="4114800" y="3276000"/>
            <a:ext cx="1132560" cy="23076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0" name=""/>
          <p:cNvCxnSpPr/>
          <p:nvPr/>
        </p:nvCxnSpPr>
        <p:spPr>
          <a:xfrm flipV="1">
            <a:off x="4419720" y="4495320"/>
            <a:ext cx="1132560" cy="23112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1" name=""/>
          <p:cNvCxnSpPr/>
          <p:nvPr/>
        </p:nvCxnSpPr>
        <p:spPr>
          <a:xfrm flipV="1">
            <a:off x="6400800" y="5486040"/>
            <a:ext cx="1132560" cy="45792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2" name=""/>
          <p:cNvCxnSpPr>
            <a:stCxn id="320" idx="6"/>
          </p:cNvCxnSpPr>
          <p:nvPr/>
        </p:nvCxnSpPr>
        <p:spPr>
          <a:xfrm flipV="1">
            <a:off x="3593880" y="5333760"/>
            <a:ext cx="1130760" cy="52920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3" name=""/>
          <p:cNvCxnSpPr/>
          <p:nvPr/>
        </p:nvCxnSpPr>
        <p:spPr>
          <a:xfrm>
            <a:off x="2514240" y="4724280"/>
            <a:ext cx="1080360" cy="137520"/>
          </a:xfrm>
          <a:prstGeom prst="straightConnector1">
            <a:avLst/>
          </a:prstGeom>
          <a:ln w="7632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64" name=""/>
          <p:cNvSpPr/>
          <p:nvPr/>
        </p:nvSpPr>
        <p:spPr>
          <a:xfrm>
            <a:off x="2819520" y="5867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133720" y="449568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752480" y="228600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048120" y="198108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429000" y="464832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581280" y="4724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95880" y="4114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696080" y="5257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867280" y="5867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429000" y="34290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371600" y="38862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34120" y="2971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33526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Can Not Serve Them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996840" y="1981080"/>
            <a:ext cx="2508120" cy="2195640"/>
            <a:chOff x="996840" y="1981080"/>
            <a:chExt cx="2508120" cy="2195640"/>
          </a:xfrm>
        </p:grpSpPr>
        <p:sp>
          <p:nvSpPr>
            <p:cNvPr id="379" name=""/>
            <p:cNvSpPr/>
            <p:nvPr/>
          </p:nvSpPr>
          <p:spPr>
            <a:xfrm>
              <a:off x="1257480" y="21823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736640" y="20674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913040" y="27478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71040" y="198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595960" y="2546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433960" y="2037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850120" y="31024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419120" y="3313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405880" y="3572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441600" y="3668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996840" y="40903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658880" y="400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336120" y="2853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765520" y="3994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877400" y="34002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09160" y="2997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3962520" y="2057400"/>
            <a:ext cx="2507760" cy="2195640"/>
            <a:chOff x="3962520" y="2057400"/>
            <a:chExt cx="2507760" cy="2195640"/>
          </a:xfrm>
        </p:grpSpPr>
        <p:sp>
          <p:nvSpPr>
            <p:cNvPr id="396" name=""/>
            <p:cNvSpPr/>
            <p:nvPr/>
          </p:nvSpPr>
          <p:spPr>
            <a:xfrm>
              <a:off x="4223160" y="22586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702320" y="21438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878360" y="28242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336360" y="2057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561640" y="2622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399280" y="2114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815440" y="31788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384800" y="3389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371560" y="3648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06920" y="37447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6664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624560" y="4080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301440" y="2930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730840" y="40705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842720" y="347652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074840" y="30733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1752480" y="3809880"/>
            <a:ext cx="2508120" cy="2195640"/>
            <a:chOff x="1752480" y="3809880"/>
            <a:chExt cx="2508120" cy="2195640"/>
          </a:xfrm>
        </p:grpSpPr>
        <p:sp>
          <p:nvSpPr>
            <p:cNvPr id="413" name=""/>
            <p:cNvSpPr/>
            <p:nvPr/>
          </p:nvSpPr>
          <p:spPr>
            <a:xfrm>
              <a:off x="2013120" y="4011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492280" y="38962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668680" y="45766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126680" y="38098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351600" y="4375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189600" y="3866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605760" y="49312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174760" y="5142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161520" y="540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97240" y="54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752480" y="59191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414520" y="5832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091760" y="4682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21160" y="5823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633040" y="52290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864800" y="48258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5105520" y="3581280"/>
            <a:ext cx="2507760" cy="2195640"/>
            <a:chOff x="5105520" y="3581280"/>
            <a:chExt cx="2507760" cy="2195640"/>
          </a:xfrm>
        </p:grpSpPr>
        <p:sp>
          <p:nvSpPr>
            <p:cNvPr id="430" name=""/>
            <p:cNvSpPr/>
            <p:nvPr/>
          </p:nvSpPr>
          <p:spPr>
            <a:xfrm>
              <a:off x="5366160" y="37825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845320" y="36676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021360" y="43480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479360" y="3581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704640" y="4146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542280" y="3638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958440" y="47026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527800" y="4913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514560" y="5172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549920" y="52686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105520" y="56905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767560" y="56041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444440" y="445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73840" y="5594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985720" y="50004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217840" y="45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1176480" y="2006640"/>
            <a:ext cx="6824160" cy="4394160"/>
            <a:chOff x="1176480" y="2006640"/>
            <a:chExt cx="6824160" cy="4394160"/>
          </a:xfrm>
        </p:grpSpPr>
        <p:sp>
          <p:nvSpPr>
            <p:cNvPr id="447" name=""/>
            <p:cNvSpPr/>
            <p:nvPr/>
          </p:nvSpPr>
          <p:spPr>
            <a:xfrm>
              <a:off x="1885680" y="240984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189240" y="217980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668760" y="354168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635600" y="20066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527440" y="313848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086080" y="212112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218280" y="425124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325600" y="46735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010120" y="51912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827840" y="538344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176480" y="62276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977920" y="60548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540560" y="375300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987880" y="603576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571920" y="484668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482480" y="404028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63" name=""/>
          <p:cNvCxnSpPr/>
          <p:nvPr/>
        </p:nvCxnSpPr>
        <p:spPr>
          <a:xfrm flipV="1">
            <a:off x="2057400" y="2285280"/>
            <a:ext cx="1132560" cy="230760"/>
          </a:xfrm>
          <a:prstGeom prst="straightConnector1">
            <a:avLst/>
          </a:prstGeom>
          <a:ln w="7632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4" name=""/>
          <p:cNvCxnSpPr/>
          <p:nvPr/>
        </p:nvCxnSpPr>
        <p:spPr>
          <a:xfrm flipV="1">
            <a:off x="2133720" y="3733200"/>
            <a:ext cx="1132560" cy="23076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5" name=""/>
          <p:cNvCxnSpPr/>
          <p:nvPr/>
        </p:nvCxnSpPr>
        <p:spPr>
          <a:xfrm flipV="1">
            <a:off x="4114800" y="3276000"/>
            <a:ext cx="1132560" cy="23076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6" name=""/>
          <p:cNvCxnSpPr/>
          <p:nvPr/>
        </p:nvCxnSpPr>
        <p:spPr>
          <a:xfrm flipV="1">
            <a:off x="4419720" y="4495320"/>
            <a:ext cx="1132560" cy="23112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7" name=""/>
          <p:cNvCxnSpPr/>
          <p:nvPr/>
        </p:nvCxnSpPr>
        <p:spPr>
          <a:xfrm flipV="1">
            <a:off x="6400800" y="5486040"/>
            <a:ext cx="1132560" cy="45792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8" name=""/>
          <p:cNvCxnSpPr>
            <a:stCxn id="426" idx="6"/>
          </p:cNvCxnSpPr>
          <p:nvPr/>
        </p:nvCxnSpPr>
        <p:spPr>
          <a:xfrm flipV="1">
            <a:off x="3593880" y="5333760"/>
            <a:ext cx="1130760" cy="52920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9" name=""/>
          <p:cNvCxnSpPr/>
          <p:nvPr/>
        </p:nvCxnSpPr>
        <p:spPr>
          <a:xfrm>
            <a:off x="2514240" y="4724280"/>
            <a:ext cx="1080360" cy="137520"/>
          </a:xfrm>
          <a:prstGeom prst="straightConnector1">
            <a:avLst/>
          </a:prstGeom>
          <a:ln w="7632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70" name=""/>
          <p:cNvSpPr/>
          <p:nvPr/>
        </p:nvSpPr>
        <p:spPr>
          <a:xfrm>
            <a:off x="2819520" y="5867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133720" y="449568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752480" y="228600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048120" y="198108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429000" y="464832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81280" y="4724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095880" y="4114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696080" y="5257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867280" y="5867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429000" y="34290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71600" y="38862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334120" y="2971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657600" y="33526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aditional LMDS Technolog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int to Point    P2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int to Multi-Point     PM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996840" y="2085840"/>
            <a:ext cx="2508120" cy="2195640"/>
            <a:chOff x="996840" y="2085840"/>
            <a:chExt cx="2508120" cy="2195640"/>
          </a:xfrm>
        </p:grpSpPr>
        <p:sp>
          <p:nvSpPr>
            <p:cNvPr id="487" name=""/>
            <p:cNvSpPr/>
            <p:nvPr/>
          </p:nvSpPr>
          <p:spPr>
            <a:xfrm>
              <a:off x="1257480" y="22870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736640" y="21722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913040" y="285264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371040" y="2085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595960" y="2651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433960" y="2142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50120" y="320724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419120" y="34182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405880" y="3677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441600" y="37731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996840" y="419508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58880" y="41086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336120" y="2958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765520" y="40989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877400" y="350496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109160" y="31017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llenge of P2P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3962520" y="2604960"/>
            <a:ext cx="2507760" cy="2195640"/>
            <a:chOff x="3962520" y="2604960"/>
            <a:chExt cx="2507760" cy="2195640"/>
          </a:xfrm>
        </p:grpSpPr>
        <p:sp>
          <p:nvSpPr>
            <p:cNvPr id="506" name=""/>
            <p:cNvSpPr/>
            <p:nvPr/>
          </p:nvSpPr>
          <p:spPr>
            <a:xfrm>
              <a:off x="4223160" y="28062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702320" y="269136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878360" y="337176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336360" y="2604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561640" y="3170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399280" y="2661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815440" y="372636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384800" y="39373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371560" y="4196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406920" y="429228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962520" y="471420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624560" y="46278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301440" y="3477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730840" y="461808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842720" y="402408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074840" y="362088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1752480" y="4357800"/>
            <a:ext cx="2508120" cy="2195280"/>
            <a:chOff x="1752480" y="4357800"/>
            <a:chExt cx="2508120" cy="2195280"/>
          </a:xfrm>
        </p:grpSpPr>
        <p:sp>
          <p:nvSpPr>
            <p:cNvPr id="523" name=""/>
            <p:cNvSpPr/>
            <p:nvPr/>
          </p:nvSpPr>
          <p:spPr>
            <a:xfrm>
              <a:off x="2013120" y="45590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492280" y="44442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668680" y="51246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126680" y="43578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351600" y="49230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189600" y="44146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605760" y="54792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174760" y="5690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161520" y="5948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197240" y="60447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752480" y="646668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414520" y="6380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091760" y="5230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521160" y="63705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633040" y="577656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864800" y="53737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5105520" y="4129200"/>
            <a:ext cx="2507760" cy="2195280"/>
            <a:chOff x="5105520" y="4129200"/>
            <a:chExt cx="2507760" cy="2195280"/>
          </a:xfrm>
        </p:grpSpPr>
        <p:sp>
          <p:nvSpPr>
            <p:cNvPr id="540" name=""/>
            <p:cNvSpPr/>
            <p:nvPr/>
          </p:nvSpPr>
          <p:spPr>
            <a:xfrm>
              <a:off x="5366160" y="43304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845320" y="42156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021360" y="48960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479360" y="41292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704640" y="4694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542280" y="4186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958440" y="52506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527800" y="54615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514560" y="5720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549920" y="58161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105520" y="623808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767560" y="61516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444440" y="5001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873840" y="61419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985720" y="554796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217840" y="51451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1176480" y="2082960"/>
            <a:ext cx="6824160" cy="4394160"/>
            <a:chOff x="1176480" y="2082960"/>
            <a:chExt cx="6824160" cy="4394160"/>
          </a:xfrm>
        </p:grpSpPr>
        <p:sp>
          <p:nvSpPr>
            <p:cNvPr id="557" name=""/>
            <p:cNvSpPr/>
            <p:nvPr/>
          </p:nvSpPr>
          <p:spPr>
            <a:xfrm>
              <a:off x="1885680" y="24861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189240" y="225612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668760" y="361800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635600" y="208296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527440" y="32148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086080" y="219744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218280" y="432756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325600" y="47498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10120" y="52675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827840" y="545976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176480" y="63039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977920" y="613116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540560" y="382932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987880" y="611208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571920" y="492300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482480" y="411660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3" name=""/>
          <p:cNvSpPr/>
          <p:nvPr/>
        </p:nvSpPr>
        <p:spPr>
          <a:xfrm flipV="1">
            <a:off x="1981080" y="2300040"/>
            <a:ext cx="1219320" cy="22860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733920" y="5043600"/>
            <a:ext cx="1295280" cy="30456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 flipV="1">
            <a:off x="5638680" y="3290760"/>
            <a:ext cx="609840" cy="106704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101400" y="2193480"/>
            <a:ext cx="516240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bscriber units are cos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0" y="5515560"/>
            <a:ext cx="9144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Delivers large bands of data up to OC-3 and 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027400" y="4343040"/>
            <a:ext cx="350604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Line of sight on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63160" y="3276000"/>
            <a:ext cx="637128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Need big customers close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C-3 ???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1" name="camera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582" name=""/>
          <p:cNvSpPr/>
          <p:nvPr/>
        </p:nvSpPr>
        <p:spPr>
          <a:xfrm>
            <a:off x="533520" y="2209680"/>
            <a:ext cx="175248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Which of these customers want 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OC-3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996840" y="2133720"/>
            <a:ext cx="2508120" cy="2195280"/>
            <a:chOff x="996840" y="2133720"/>
            <a:chExt cx="2508120" cy="2195280"/>
          </a:xfrm>
        </p:grpSpPr>
        <p:sp>
          <p:nvSpPr>
            <p:cNvPr id="585" name=""/>
            <p:cNvSpPr/>
            <p:nvPr/>
          </p:nvSpPr>
          <p:spPr>
            <a:xfrm>
              <a:off x="1257480" y="233496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736640" y="2220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13040" y="290052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371040" y="2133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595960" y="2698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433960" y="2190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850120" y="325512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419120" y="3466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405880" y="37245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441600" y="382068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996840" y="424260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658880" y="41562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336120" y="30060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765520" y="414648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877400" y="355248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109160" y="31496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1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llenge of P2P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3962520" y="2652840"/>
            <a:ext cx="2507760" cy="2195280"/>
            <a:chOff x="3962520" y="2652840"/>
            <a:chExt cx="2507760" cy="2195280"/>
          </a:xfrm>
        </p:grpSpPr>
        <p:sp>
          <p:nvSpPr>
            <p:cNvPr id="604" name=""/>
            <p:cNvSpPr/>
            <p:nvPr/>
          </p:nvSpPr>
          <p:spPr>
            <a:xfrm>
              <a:off x="4223160" y="28540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702320" y="27392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878360" y="341964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336360" y="2652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561640" y="3218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399280" y="2709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815440" y="377424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384800" y="39852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371560" y="42436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406920" y="43398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962520" y="47617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624560" y="46753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301440" y="35251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30840" y="46656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842720" y="40716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074840" y="36687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1752480" y="4405320"/>
            <a:ext cx="2508120" cy="2195640"/>
            <a:chOff x="1752480" y="4405320"/>
            <a:chExt cx="2508120" cy="2195640"/>
          </a:xfrm>
        </p:grpSpPr>
        <p:sp>
          <p:nvSpPr>
            <p:cNvPr id="621" name=""/>
            <p:cNvSpPr/>
            <p:nvPr/>
          </p:nvSpPr>
          <p:spPr>
            <a:xfrm>
              <a:off x="2013120" y="460656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492280" y="44917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668680" y="517212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126680" y="44053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351600" y="49708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189600" y="44622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605760" y="552672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174760" y="57376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161520" y="5996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197240" y="60926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752480" y="651456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414520" y="6428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091760" y="5277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521160" y="64184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633040" y="582444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64800" y="54212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5105520" y="4176720"/>
            <a:ext cx="2507760" cy="2195640"/>
            <a:chOff x="5105520" y="4176720"/>
            <a:chExt cx="2507760" cy="2195640"/>
          </a:xfrm>
        </p:grpSpPr>
        <p:sp>
          <p:nvSpPr>
            <p:cNvPr id="638" name=""/>
            <p:cNvSpPr/>
            <p:nvPr/>
          </p:nvSpPr>
          <p:spPr>
            <a:xfrm>
              <a:off x="5366160" y="437796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845320" y="4263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021360" y="494352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479360" y="4176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704640" y="4742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542280" y="4233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958440" y="529812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527800" y="5509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514560" y="5767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549920" y="58640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105520" y="628596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767560" y="61995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444440" y="50493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873840" y="61898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985720" y="559584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217840" y="51926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1176480" y="2133720"/>
            <a:ext cx="6824160" cy="4394160"/>
            <a:chOff x="1176480" y="2133720"/>
            <a:chExt cx="6824160" cy="4394160"/>
          </a:xfrm>
        </p:grpSpPr>
        <p:sp>
          <p:nvSpPr>
            <p:cNvPr id="655" name=""/>
            <p:cNvSpPr/>
            <p:nvPr/>
          </p:nvSpPr>
          <p:spPr>
            <a:xfrm>
              <a:off x="1885680" y="253692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189240" y="230688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668760" y="366876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635600" y="21337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527440" y="326556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086080" y="224820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218280" y="437832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325600" y="48006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010120" y="531828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827840" y="551052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176480" y="635472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977920" y="61819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40560" y="388008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987880" y="616284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571920" y="497376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482480" y="416736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1" name=""/>
          <p:cNvSpPr/>
          <p:nvPr/>
        </p:nvSpPr>
        <p:spPr>
          <a:xfrm flipV="1">
            <a:off x="1981080" y="2347560"/>
            <a:ext cx="1219320" cy="22860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733920" y="5091120"/>
            <a:ext cx="1295280" cy="30492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H="1" flipV="1">
            <a:off x="5638680" y="3338280"/>
            <a:ext cx="609840" cy="106668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073520" y="2118240"/>
            <a:ext cx="6936480" cy="280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t can work in large urban cente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here the distance between bi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bandwidth customers is short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customers can support the c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573280" y="5083920"/>
            <a:ext cx="5695920" cy="132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Our company does not ser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any large urban cen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996840" y="2082960"/>
            <a:ext cx="6824880" cy="4394160"/>
            <a:chOff x="996840" y="2082960"/>
            <a:chExt cx="6824880" cy="4394160"/>
          </a:xfrm>
        </p:grpSpPr>
        <p:sp>
          <p:nvSpPr>
            <p:cNvPr id="678" name=""/>
            <p:cNvSpPr/>
            <p:nvPr/>
          </p:nvSpPr>
          <p:spPr>
            <a:xfrm>
              <a:off x="1706400" y="248616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009960" y="225612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489480" y="361800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456320" y="20829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348160" y="3214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906800" y="219744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039000" y="432756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146320" y="47498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830840" y="5267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648560" y="545976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996840" y="630396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798640" y="6131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361280" y="382932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808600" y="611208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392640" y="492300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303200" y="411660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429000" y="313524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057040" y="3344400"/>
            <a:ext cx="3274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ase Station very cos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$$$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llenge of PMP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946160" y="4978440"/>
            <a:ext cx="302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Subscriber Termi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are not free either 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There Enough Customers Close to the Tow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996840" y="2082960"/>
            <a:ext cx="6824880" cy="4394160"/>
            <a:chOff x="996840" y="2082960"/>
            <a:chExt cx="6824880" cy="4394160"/>
          </a:xfrm>
        </p:grpSpPr>
        <p:sp>
          <p:nvSpPr>
            <p:cNvPr id="702" name=""/>
            <p:cNvSpPr/>
            <p:nvPr/>
          </p:nvSpPr>
          <p:spPr>
            <a:xfrm>
              <a:off x="1706400" y="248616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009960" y="225612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489480" y="361800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456320" y="20829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348160" y="3214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906800" y="219744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039000" y="432756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146320" y="47498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830840" y="5267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648560" y="545976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996840" y="630396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798640" y="6131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361280" y="382932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808600" y="611208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392640" y="492300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303200" y="411660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"/>
          <p:cNvSpPr/>
          <p:nvPr/>
        </p:nvSpPr>
        <p:spPr>
          <a:xfrm>
            <a:off x="3429000" y="313524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Green%20air" descr=""/>
          <p:cNvPicPr/>
          <p:nvPr/>
        </p:nvPicPr>
        <p:blipFill>
          <a:blip r:embed="rId1"/>
          <a:stretch/>
        </p:blipFill>
        <p:spPr>
          <a:xfrm>
            <a:off x="-1219320" y="-431640"/>
            <a:ext cx="10896840" cy="7262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4920" y="761760"/>
            <a:ext cx="6324840" cy="1143000"/>
          </a:xfrm>
          <a:prstGeom prst="rect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er 2 and Tier 3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rket Area Econom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H. Riord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ive Vice Presi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header-logo" descr=""/>
          <p:cNvPicPr/>
          <p:nvPr/>
        </p:nvPicPr>
        <p:blipFill>
          <a:blip r:embed="rId2"/>
          <a:stretch/>
        </p:blipFill>
        <p:spPr>
          <a:xfrm>
            <a:off x="3753000" y="4876920"/>
            <a:ext cx="158112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There Enough Customers Close to the Tow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996840" y="2071800"/>
            <a:ext cx="6824880" cy="4394160"/>
            <a:chOff x="996840" y="2071800"/>
            <a:chExt cx="6824880" cy="4394160"/>
          </a:xfrm>
        </p:grpSpPr>
        <p:sp>
          <p:nvSpPr>
            <p:cNvPr id="722" name=""/>
            <p:cNvSpPr/>
            <p:nvPr/>
          </p:nvSpPr>
          <p:spPr>
            <a:xfrm>
              <a:off x="1706400" y="247500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009960" y="22449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489480" y="360684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456320" y="2071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348160" y="32036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906800" y="21862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039000" y="431640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146320" y="47386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830840" y="52563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648560" y="544860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996840" y="629280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798640" y="61200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361280" y="381816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08600" y="610092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392640" y="49118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303200" y="4105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3429000" y="312408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9" name="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612720" cy="1371600"/>
          </a:xfrm>
          <a:prstGeom prst="rect">
            <a:avLst/>
          </a:prstGeom>
          <a:ln w="0">
            <a:noFill/>
          </a:ln>
        </p:spPr>
      </p:pic>
      <p:grpSp>
        <p:nvGrpSpPr>
          <p:cNvPr id="740" name=""/>
          <p:cNvGrpSpPr/>
          <p:nvPr/>
        </p:nvGrpSpPr>
        <p:grpSpPr>
          <a:xfrm>
            <a:off x="838080" y="1905120"/>
            <a:ext cx="7086600" cy="4647600"/>
            <a:chOff x="838080" y="1905120"/>
            <a:chExt cx="7086600" cy="4647600"/>
          </a:xfrm>
        </p:grpSpPr>
        <p:sp>
          <p:nvSpPr>
            <p:cNvPr id="741" name=""/>
            <p:cNvSpPr/>
            <p:nvPr/>
          </p:nvSpPr>
          <p:spPr>
            <a:xfrm>
              <a:off x="7315200" y="190512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162920" y="3657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467480" y="52574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638680" y="5943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666880" y="5943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838080" y="609588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Blind Spo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962520" y="1905120"/>
            <a:ext cx="2647800" cy="3105000"/>
          </a:xfrm>
          <a:custGeom>
            <a:avLst/>
            <a:gdLst/>
            <a:ahLst/>
            <a:rect l="l" t="t" r="r" b="b"/>
            <a:pathLst>
              <a:path w="1668" h="1956">
                <a:moveTo>
                  <a:pt x="0" y="336"/>
                </a:moveTo>
                <a:lnTo>
                  <a:pt x="288" y="0"/>
                </a:lnTo>
                <a:lnTo>
                  <a:pt x="1392" y="192"/>
                </a:lnTo>
                <a:lnTo>
                  <a:pt x="1668" y="1956"/>
                </a:lnTo>
                <a:lnTo>
                  <a:pt x="192" y="1152"/>
                </a:lnTo>
                <a:lnTo>
                  <a:pt x="336" y="1200"/>
                </a:lnTo>
                <a:lnTo>
                  <a:pt x="336" y="432"/>
                </a:lnTo>
                <a:lnTo>
                  <a:pt x="96" y="336"/>
                </a:lnTo>
                <a:lnTo>
                  <a:pt x="0" y="3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"/>
          <p:cNvGrpSpPr/>
          <p:nvPr/>
        </p:nvGrpSpPr>
        <p:grpSpPr>
          <a:xfrm>
            <a:off x="996840" y="2071800"/>
            <a:ext cx="6824880" cy="4394160"/>
            <a:chOff x="996840" y="2071800"/>
            <a:chExt cx="6824880" cy="4394160"/>
          </a:xfrm>
        </p:grpSpPr>
        <p:sp>
          <p:nvSpPr>
            <p:cNvPr id="751" name=""/>
            <p:cNvSpPr/>
            <p:nvPr/>
          </p:nvSpPr>
          <p:spPr>
            <a:xfrm>
              <a:off x="1706400" y="247500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009960" y="22449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489480" y="360684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456320" y="2071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348160" y="32036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906800" y="21862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039000" y="431640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146320" y="47386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830840" y="52563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648560" y="544860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996840" y="629280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798640" y="61200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361280" y="381816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808600" y="610092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392640" y="49118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303200" y="4105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7" name=""/>
          <p:cNvSpPr/>
          <p:nvPr/>
        </p:nvSpPr>
        <p:spPr>
          <a:xfrm>
            <a:off x="3429000" y="312408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8" name="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612720" cy="1371600"/>
          </a:xfrm>
          <a:prstGeom prst="rect">
            <a:avLst/>
          </a:prstGeom>
          <a:ln w="0">
            <a:noFill/>
          </a:ln>
        </p:spPr>
      </p:pic>
      <p:grpSp>
        <p:nvGrpSpPr>
          <p:cNvPr id="769" name=""/>
          <p:cNvGrpSpPr/>
          <p:nvPr/>
        </p:nvGrpSpPr>
        <p:grpSpPr>
          <a:xfrm>
            <a:off x="838080" y="1905120"/>
            <a:ext cx="7086600" cy="4647600"/>
            <a:chOff x="838080" y="1905120"/>
            <a:chExt cx="7086600" cy="4647600"/>
          </a:xfrm>
        </p:grpSpPr>
        <p:sp>
          <p:nvSpPr>
            <p:cNvPr id="770" name=""/>
            <p:cNvSpPr/>
            <p:nvPr/>
          </p:nvSpPr>
          <p:spPr>
            <a:xfrm>
              <a:off x="7315200" y="190512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162920" y="3657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467480" y="52574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638680" y="5943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666880" y="5943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838080" y="609588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6" name=""/>
          <p:cNvGrpSpPr/>
          <p:nvPr/>
        </p:nvGrpSpPr>
        <p:grpSpPr>
          <a:xfrm>
            <a:off x="4800600" y="2057400"/>
            <a:ext cx="1523880" cy="2590920"/>
            <a:chOff x="4800600" y="2057400"/>
            <a:chExt cx="1523880" cy="2590920"/>
          </a:xfrm>
        </p:grpSpPr>
        <p:sp>
          <p:nvSpPr>
            <p:cNvPr id="777" name=""/>
            <p:cNvSpPr/>
            <p:nvPr/>
          </p:nvSpPr>
          <p:spPr>
            <a:xfrm>
              <a:off x="4800600" y="2057400"/>
              <a:ext cx="457200" cy="45720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105520" y="3048120"/>
              <a:ext cx="457200" cy="45720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867280" y="4191120"/>
              <a:ext cx="457200" cy="45720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962520" y="1905120"/>
            <a:ext cx="2647800" cy="3105000"/>
          </a:xfrm>
          <a:custGeom>
            <a:avLst/>
            <a:gdLst/>
            <a:ahLst/>
            <a:rect l="l" t="t" r="r" b="b"/>
            <a:pathLst>
              <a:path w="1668" h="1956">
                <a:moveTo>
                  <a:pt x="0" y="336"/>
                </a:moveTo>
                <a:lnTo>
                  <a:pt x="288" y="0"/>
                </a:lnTo>
                <a:lnTo>
                  <a:pt x="1392" y="192"/>
                </a:lnTo>
                <a:lnTo>
                  <a:pt x="1668" y="1956"/>
                </a:lnTo>
                <a:lnTo>
                  <a:pt x="192" y="1152"/>
                </a:lnTo>
                <a:lnTo>
                  <a:pt x="336" y="1200"/>
                </a:lnTo>
                <a:lnTo>
                  <a:pt x="336" y="432"/>
                </a:lnTo>
                <a:lnTo>
                  <a:pt x="96" y="336"/>
                </a:lnTo>
                <a:lnTo>
                  <a:pt x="0" y="3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962520" y="1752480"/>
            <a:ext cx="5257800" cy="4114800"/>
          </a:xfrm>
          <a:prstGeom prst="ellipse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 MORE TOW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3429000" y="312408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6386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6668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838080" y="609588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6553080" y="3048120"/>
            <a:ext cx="304920" cy="761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996840" y="2071800"/>
            <a:ext cx="6824880" cy="4394160"/>
            <a:chOff x="996840" y="2071800"/>
            <a:chExt cx="6824880" cy="4394160"/>
          </a:xfrm>
        </p:grpSpPr>
        <p:sp>
          <p:nvSpPr>
            <p:cNvPr id="790" name=""/>
            <p:cNvSpPr/>
            <p:nvPr/>
          </p:nvSpPr>
          <p:spPr>
            <a:xfrm>
              <a:off x="1706400" y="247500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009960" y="22449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489480" y="360684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456320" y="2071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348160" y="32036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906800" y="21862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39000" y="431640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146320" y="47386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830840" y="52563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648560" y="544860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996840" y="629280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798640" y="61200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361280" y="381816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808600" y="610092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392640" y="49118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303200" y="4105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6" name=""/>
          <p:cNvSpPr/>
          <p:nvPr/>
        </p:nvSpPr>
        <p:spPr>
          <a:xfrm>
            <a:off x="3809880" y="3352680"/>
            <a:ext cx="533520" cy="457200"/>
          </a:xfrm>
          <a:custGeom>
            <a:avLst/>
            <a:gdLst/>
            <a:ahLst/>
            <a:rect l="l" t="t" r="r" b="b"/>
            <a:pathLst>
              <a:path w="336" h="288">
                <a:moveTo>
                  <a:pt x="96" y="0"/>
                </a:moveTo>
                <a:lnTo>
                  <a:pt x="336" y="288"/>
                </a:lnTo>
                <a:lnTo>
                  <a:pt x="0" y="288"/>
                </a:lnTo>
                <a:lnTo>
                  <a:pt x="96" y="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7" name="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612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962520" y="1905120"/>
            <a:ext cx="2647800" cy="3105000"/>
          </a:xfrm>
          <a:custGeom>
            <a:avLst/>
            <a:gdLst/>
            <a:ahLst/>
            <a:rect l="l" t="t" r="r" b="b"/>
            <a:pathLst>
              <a:path w="1668" h="1956">
                <a:moveTo>
                  <a:pt x="0" y="336"/>
                </a:moveTo>
                <a:lnTo>
                  <a:pt x="288" y="0"/>
                </a:lnTo>
                <a:lnTo>
                  <a:pt x="1392" y="192"/>
                </a:lnTo>
                <a:lnTo>
                  <a:pt x="1668" y="1956"/>
                </a:lnTo>
                <a:lnTo>
                  <a:pt x="192" y="1152"/>
                </a:lnTo>
                <a:lnTo>
                  <a:pt x="336" y="1200"/>
                </a:lnTo>
                <a:lnTo>
                  <a:pt x="336" y="432"/>
                </a:lnTo>
                <a:lnTo>
                  <a:pt x="96" y="336"/>
                </a:lnTo>
                <a:lnTo>
                  <a:pt x="0" y="3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962520" y="1752480"/>
            <a:ext cx="5257800" cy="4114800"/>
          </a:xfrm>
          <a:prstGeom prst="ellipse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s Cost $$$$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429000" y="312408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6386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6668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838080" y="609588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553080" y="3048120"/>
            <a:ext cx="304920" cy="761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996840" y="2071800"/>
            <a:ext cx="6824880" cy="4394160"/>
            <a:chOff x="996840" y="2071800"/>
            <a:chExt cx="6824880" cy="4394160"/>
          </a:xfrm>
        </p:grpSpPr>
        <p:sp>
          <p:nvSpPr>
            <p:cNvPr id="818" name=""/>
            <p:cNvSpPr/>
            <p:nvPr/>
          </p:nvSpPr>
          <p:spPr>
            <a:xfrm>
              <a:off x="1706400" y="247500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009960" y="22449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489480" y="360684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456320" y="2071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348160" y="32036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06800" y="21862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039000" y="431640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146320" y="47386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830840" y="52563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648560" y="544860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996840" y="629280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798640" y="61200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361280" y="381816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808600" y="610092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392640" y="49118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303200" y="4105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4" name=""/>
          <p:cNvSpPr/>
          <p:nvPr/>
        </p:nvSpPr>
        <p:spPr>
          <a:xfrm>
            <a:off x="3809880" y="3352680"/>
            <a:ext cx="533520" cy="457200"/>
          </a:xfrm>
          <a:custGeom>
            <a:avLst/>
            <a:gdLst/>
            <a:ahLst/>
            <a:rect l="l" t="t" r="r" b="b"/>
            <a:pathLst>
              <a:path w="336" h="288">
                <a:moveTo>
                  <a:pt x="96" y="0"/>
                </a:moveTo>
                <a:lnTo>
                  <a:pt x="336" y="288"/>
                </a:lnTo>
                <a:lnTo>
                  <a:pt x="0" y="288"/>
                </a:lnTo>
                <a:lnTo>
                  <a:pt x="96" y="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5" name="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612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962520" y="1905120"/>
            <a:ext cx="2647800" cy="3105000"/>
          </a:xfrm>
          <a:custGeom>
            <a:avLst/>
            <a:gdLst/>
            <a:ahLst/>
            <a:rect l="l" t="t" r="r" b="b"/>
            <a:pathLst>
              <a:path w="1668" h="1956">
                <a:moveTo>
                  <a:pt x="0" y="336"/>
                </a:moveTo>
                <a:lnTo>
                  <a:pt x="288" y="0"/>
                </a:lnTo>
                <a:lnTo>
                  <a:pt x="1392" y="192"/>
                </a:lnTo>
                <a:lnTo>
                  <a:pt x="1668" y="1956"/>
                </a:lnTo>
                <a:lnTo>
                  <a:pt x="192" y="1152"/>
                </a:lnTo>
                <a:lnTo>
                  <a:pt x="336" y="1200"/>
                </a:lnTo>
                <a:lnTo>
                  <a:pt x="336" y="432"/>
                </a:lnTo>
                <a:lnTo>
                  <a:pt x="96" y="336"/>
                </a:lnTo>
                <a:lnTo>
                  <a:pt x="0" y="3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962520" y="1752480"/>
            <a:ext cx="5257800" cy="4114800"/>
          </a:xfrm>
          <a:prstGeom prst="ellipse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Requires Frequency Coordin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429000" y="312408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56386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6668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838080" y="609588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952800" y="3805200"/>
            <a:ext cx="2119320" cy="1728720"/>
          </a:xfrm>
          <a:custGeom>
            <a:avLst/>
            <a:gdLst/>
            <a:ahLst/>
            <a:rect l="l" t="t" r="r" b="b"/>
            <a:pathLst>
              <a:path w="1335" h="1089">
                <a:moveTo>
                  <a:pt x="246" y="3"/>
                </a:moveTo>
                <a:lnTo>
                  <a:pt x="1335" y="579"/>
                </a:lnTo>
                <a:lnTo>
                  <a:pt x="1221" y="738"/>
                </a:lnTo>
                <a:lnTo>
                  <a:pt x="1074" y="879"/>
                </a:lnTo>
                <a:lnTo>
                  <a:pt x="933" y="990"/>
                </a:lnTo>
                <a:lnTo>
                  <a:pt x="759" y="1089"/>
                </a:lnTo>
                <a:lnTo>
                  <a:pt x="534" y="963"/>
                </a:lnTo>
                <a:lnTo>
                  <a:pt x="327" y="777"/>
                </a:lnTo>
                <a:lnTo>
                  <a:pt x="171" y="570"/>
                </a:lnTo>
                <a:lnTo>
                  <a:pt x="72" y="378"/>
                </a:lnTo>
                <a:lnTo>
                  <a:pt x="18" y="180"/>
                </a:lnTo>
                <a:lnTo>
                  <a:pt x="0" y="0"/>
                </a:lnTo>
                <a:lnTo>
                  <a:pt x="246" y="3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553080" y="3048120"/>
            <a:ext cx="304920" cy="761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6" name=""/>
          <p:cNvGrpSpPr/>
          <p:nvPr/>
        </p:nvGrpSpPr>
        <p:grpSpPr>
          <a:xfrm>
            <a:off x="996840" y="2071800"/>
            <a:ext cx="6824880" cy="4394160"/>
            <a:chOff x="996840" y="2071800"/>
            <a:chExt cx="6824880" cy="4394160"/>
          </a:xfrm>
        </p:grpSpPr>
        <p:sp>
          <p:nvSpPr>
            <p:cNvPr id="847" name=""/>
            <p:cNvSpPr/>
            <p:nvPr/>
          </p:nvSpPr>
          <p:spPr>
            <a:xfrm>
              <a:off x="1706400" y="247500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009960" y="22449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489480" y="360684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456320" y="2071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348160" y="32036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906800" y="21862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039000" y="431640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146320" y="47386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830840" y="52563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648560" y="544860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996840" y="629280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798640" y="61200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361280" y="381816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808600" y="610092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392640" y="49118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303200" y="4105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3" name=""/>
          <p:cNvSpPr/>
          <p:nvPr/>
        </p:nvSpPr>
        <p:spPr>
          <a:xfrm>
            <a:off x="3809880" y="3352680"/>
            <a:ext cx="533520" cy="457200"/>
          </a:xfrm>
          <a:custGeom>
            <a:avLst/>
            <a:gdLst/>
            <a:ahLst/>
            <a:rect l="l" t="t" r="r" b="b"/>
            <a:pathLst>
              <a:path w="336" h="288">
                <a:moveTo>
                  <a:pt x="96" y="0"/>
                </a:moveTo>
                <a:lnTo>
                  <a:pt x="336" y="288"/>
                </a:lnTo>
                <a:lnTo>
                  <a:pt x="0" y="288"/>
                </a:lnTo>
                <a:lnTo>
                  <a:pt x="96" y="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4" name="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612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llenge of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99040" y="1980360"/>
            <a:ext cx="803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ction started Wednesday, February 18, 19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 128 rounds ending March 28, 19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601200" y="3366360"/>
            <a:ext cx="71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date very few successful deployme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99400" y="4236120"/>
            <a:ext cx="7515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til now only two options for deploym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int to 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int to Multi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 WE NEED TO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KE IT WOR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st Effective at &lt; 1 meg to 25 M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mit Blind Spo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ver Larger Area (w/ limited big use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p to 99.999% ‘Up Time’ (carrier gra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dundant Routes (multiple path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st Deployment (easy align and mou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lexible Bandwidth (change w/o visit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THE CUSTOMER WA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85800" y="22096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same things customers need in the big 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990720" y="2909880"/>
            <a:ext cx="4572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igh speed connections t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ir office / home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ndors / inven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anch off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f site data storage (9-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791320" y="3124080"/>
            <a:ext cx="259056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Not as fast as large busine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 few meg will do for n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057400" y="601992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of course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6" name=""/>
          <p:cNvGraphicFramePr/>
          <p:nvPr/>
        </p:nvGraphicFramePr>
        <p:xfrm>
          <a:off x="304920" y="932040"/>
          <a:ext cx="8381880" cy="560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32040"/>
                    <a:ext cx="8381880" cy="56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78" name=""/>
          <p:cNvGrpSpPr/>
          <p:nvPr/>
        </p:nvGrpSpPr>
        <p:grpSpPr>
          <a:xfrm>
            <a:off x="840240" y="1186920"/>
            <a:ext cx="7770240" cy="4559760"/>
            <a:chOff x="840240" y="1186920"/>
            <a:chExt cx="7770240" cy="4559760"/>
          </a:xfrm>
        </p:grpSpPr>
        <p:graphicFrame>
          <p:nvGraphicFramePr>
            <p:cNvPr id="879" name=""/>
            <p:cNvGraphicFramePr/>
            <p:nvPr/>
          </p:nvGraphicFramePr>
          <p:xfrm>
            <a:off x="5334120" y="2590920"/>
            <a:ext cx="3276360" cy="3155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8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334120" y="2590920"/>
                      <a:ext cx="3276360" cy="3155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881" name=""/>
            <p:cNvGrpSpPr/>
            <p:nvPr/>
          </p:nvGrpSpPr>
          <p:grpSpPr>
            <a:xfrm>
              <a:off x="840240" y="1186920"/>
              <a:ext cx="7768800" cy="4281840"/>
              <a:chOff x="840240" y="1186920"/>
              <a:chExt cx="7768800" cy="4281840"/>
            </a:xfrm>
          </p:grpSpPr>
          <p:graphicFrame>
            <p:nvGraphicFramePr>
              <p:cNvPr id="882" name=""/>
              <p:cNvGraphicFramePr/>
              <p:nvPr/>
            </p:nvGraphicFramePr>
            <p:xfrm>
              <a:off x="1369800" y="1390680"/>
              <a:ext cx="6097680" cy="40780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883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369800" y="1390680"/>
                        <a:ext cx="6097680" cy="4078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84" name=""/>
              <p:cNvSpPr txBox="1"/>
              <p:nvPr/>
            </p:nvSpPr>
            <p:spPr>
              <a:xfrm>
                <a:off x="5941800" y="3314880"/>
                <a:ext cx="609840" cy="6476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808080"/>
                      </a:outerShdw>
                    </a:effectLst>
                    <a:latin typeface="Arial Black"/>
                  </a:rPr>
                  <a:t>17</a:t>
                </a:r>
                <a:endPara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885" name=""/>
              <p:cNvSpPr txBox="1"/>
              <p:nvPr/>
            </p:nvSpPr>
            <p:spPr>
              <a:xfrm>
                <a:off x="5865840" y="4305240"/>
                <a:ext cx="609480" cy="6476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808080"/>
                      </a:outerShdw>
                    </a:effectLst>
                    <a:latin typeface="Arial Black"/>
                  </a:rPr>
                  <a:t>13</a:t>
                </a:r>
                <a:endPara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886" name=""/>
              <p:cNvSpPr txBox="1"/>
              <p:nvPr/>
            </p:nvSpPr>
            <p:spPr>
              <a:xfrm>
                <a:off x="7008840" y="3848040"/>
                <a:ext cx="609480" cy="6476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808080"/>
                      </a:outerShdw>
                    </a:effectLst>
                    <a:latin typeface="Arial Black"/>
                  </a:rPr>
                  <a:t>36</a:t>
                </a:r>
                <a:endPara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887" name=""/>
              <p:cNvSpPr txBox="1"/>
              <p:nvPr/>
            </p:nvSpPr>
            <p:spPr>
              <a:xfrm>
                <a:off x="1674720" y="3543480"/>
                <a:ext cx="1371600" cy="6476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808080"/>
                      </a:outerShdw>
                    </a:effectLst>
                    <a:latin typeface="Arial Black"/>
                  </a:rPr>
                  <a:t>5,951</a:t>
                </a:r>
                <a:endPara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840240" y="1186920"/>
                <a:ext cx="7075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Green Bay Small/Medium Business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1228320" y="1899720"/>
                <a:ext cx="293472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-250 Employe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51-500 Employe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4417920" y="1964160"/>
                <a:ext cx="4191120" cy="70380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Target Market in Gree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  </a:t>
                </a:r>
                <a:r>
                  <a:rPr b="1" lang="en-US" sz="20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~  6,000 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988920" y="2133720"/>
                <a:ext cx="533520" cy="1295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6780240" y="2743200"/>
                <a:ext cx="380880" cy="9907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flipH="1">
                <a:off x="4188960" y="2743200"/>
                <a:ext cx="25909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988920" y="2133720"/>
                <a:ext cx="3049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5" name=""/>
          <p:cNvGrpSpPr/>
          <p:nvPr/>
        </p:nvGrpSpPr>
        <p:grpSpPr>
          <a:xfrm>
            <a:off x="2438280" y="5409000"/>
            <a:ext cx="5936400" cy="1222920"/>
            <a:chOff x="2438280" y="5409000"/>
            <a:chExt cx="5936400" cy="1222920"/>
          </a:xfrm>
        </p:grpSpPr>
        <p:sp>
          <p:nvSpPr>
            <p:cNvPr id="896" name=""/>
            <p:cNvSpPr/>
            <p:nvPr/>
          </p:nvSpPr>
          <p:spPr>
            <a:xfrm>
              <a:off x="4868640" y="5409000"/>
              <a:ext cx="3506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501-1000 Employees (dark bl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1000+ Employees (light blu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438280" y="6172200"/>
              <a:ext cx="5791320" cy="459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 Large Businesses in Blue Served by Fiber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8" name=""/>
          <p:cNvSpPr/>
          <p:nvPr/>
        </p:nvSpPr>
        <p:spPr>
          <a:xfrm>
            <a:off x="533520" y="45720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RE THERE ANY CUSTOM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lmds" descr=""/>
          <p:cNvPicPr/>
          <p:nvPr/>
        </p:nvPicPr>
        <p:blipFill>
          <a:blip r:embed="rId1"/>
          <a:stretch/>
        </p:blipFill>
        <p:spPr>
          <a:xfrm>
            <a:off x="76320" y="0"/>
            <a:ext cx="9067680" cy="5867280"/>
          </a:xfrm>
          <a:prstGeom prst="rect">
            <a:avLst/>
          </a:prstGeom>
          <a:ln w="0">
            <a:noFill/>
          </a:ln>
        </p:spPr>
      </p:pic>
      <p:sp>
        <p:nvSpPr>
          <p:cNvPr id="900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een B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4038480" y="3352680"/>
            <a:ext cx="457200" cy="3049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1752480" y="3048120"/>
            <a:ext cx="1676520" cy="685800"/>
            <a:chOff x="1752480" y="3048120"/>
            <a:chExt cx="1676520" cy="685800"/>
          </a:xfrm>
        </p:grpSpPr>
        <p:sp>
          <p:nvSpPr>
            <p:cNvPr id="903" name=""/>
            <p:cNvSpPr/>
            <p:nvPr/>
          </p:nvSpPr>
          <p:spPr>
            <a:xfrm>
              <a:off x="2971800" y="30481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752480" y="31240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124080" y="33526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590920" y="3124080"/>
              <a:ext cx="304560" cy="38124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7" name=""/>
          <p:cNvGrpSpPr/>
          <p:nvPr/>
        </p:nvGrpSpPr>
        <p:grpSpPr>
          <a:xfrm>
            <a:off x="2590920" y="1600200"/>
            <a:ext cx="4419360" cy="2743200"/>
            <a:chOff x="2590920" y="1600200"/>
            <a:chExt cx="4419360" cy="2743200"/>
          </a:xfrm>
        </p:grpSpPr>
        <p:sp>
          <p:nvSpPr>
            <p:cNvPr id="908" name=""/>
            <p:cNvSpPr/>
            <p:nvPr/>
          </p:nvSpPr>
          <p:spPr>
            <a:xfrm>
              <a:off x="3886200" y="365760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343400" y="35812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267080" y="3962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419720" y="160020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705720" y="16765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590920" y="16765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505320" y="2438280"/>
              <a:ext cx="304560" cy="38124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5" name=""/>
          <p:cNvGrpSpPr/>
          <p:nvPr/>
        </p:nvGrpSpPr>
        <p:grpSpPr>
          <a:xfrm>
            <a:off x="3581280" y="1219320"/>
            <a:ext cx="1371600" cy="2971800"/>
            <a:chOff x="3581280" y="1219320"/>
            <a:chExt cx="1371600" cy="2971800"/>
          </a:xfrm>
        </p:grpSpPr>
        <p:sp>
          <p:nvSpPr>
            <p:cNvPr id="916" name=""/>
            <p:cNvSpPr/>
            <p:nvPr/>
          </p:nvSpPr>
          <p:spPr>
            <a:xfrm>
              <a:off x="3962520" y="35053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343400" y="2819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038480" y="38098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581280" y="12193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267080" y="1676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648320" y="23623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038480" y="22096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572000" y="297180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A TIER 2 - 3 CITY LOOK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GREENBAY1" descr=""/>
          <p:cNvPicPr/>
          <p:nvPr/>
        </p:nvPicPr>
        <p:blipFill>
          <a:blip r:embed="rId1"/>
          <a:stretch/>
        </p:blipFill>
        <p:spPr>
          <a:xfrm>
            <a:off x="2286000" y="1924200"/>
            <a:ext cx="6249960" cy="46875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80880" y="2286000"/>
            <a:ext cx="182880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ost don’t have a NFL team or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Lambea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Fiel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4876920"/>
            <a:ext cx="373356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ILLAGES &amp; TOWN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5" name="camera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926" name=""/>
          <p:cNvSpPr/>
          <p:nvPr/>
        </p:nvSpPr>
        <p:spPr>
          <a:xfrm>
            <a:off x="685800" y="2209680"/>
            <a:ext cx="1600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If priced right it can work in villages  and small tow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lmds" descr=""/>
          <p:cNvPicPr/>
          <p:nvPr/>
        </p:nvPicPr>
        <p:blipFill>
          <a:blip r:embed="rId1"/>
          <a:stretch/>
        </p:blipFill>
        <p:spPr>
          <a:xfrm>
            <a:off x="76320" y="0"/>
            <a:ext cx="9067680" cy="5867280"/>
          </a:xfrm>
          <a:prstGeom prst="rect">
            <a:avLst/>
          </a:prstGeom>
          <a:ln w="0">
            <a:noFill/>
          </a:ln>
        </p:spPr>
      </p:pic>
      <p:sp>
        <p:nvSpPr>
          <p:cNvPr id="928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een B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4038480" y="3352680"/>
            <a:ext cx="457200" cy="3049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0" name=""/>
          <p:cNvGrpSpPr/>
          <p:nvPr/>
        </p:nvGrpSpPr>
        <p:grpSpPr>
          <a:xfrm>
            <a:off x="1752480" y="3048120"/>
            <a:ext cx="1676520" cy="685800"/>
            <a:chOff x="1752480" y="3048120"/>
            <a:chExt cx="1676520" cy="685800"/>
          </a:xfrm>
        </p:grpSpPr>
        <p:sp>
          <p:nvSpPr>
            <p:cNvPr id="931" name=""/>
            <p:cNvSpPr/>
            <p:nvPr/>
          </p:nvSpPr>
          <p:spPr>
            <a:xfrm>
              <a:off x="2971800" y="30481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752480" y="31240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124080" y="33526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590920" y="3124080"/>
              <a:ext cx="304560" cy="38124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5" name=""/>
          <p:cNvGrpSpPr/>
          <p:nvPr/>
        </p:nvGrpSpPr>
        <p:grpSpPr>
          <a:xfrm>
            <a:off x="2590920" y="1600200"/>
            <a:ext cx="4419360" cy="2743200"/>
            <a:chOff x="2590920" y="1600200"/>
            <a:chExt cx="4419360" cy="2743200"/>
          </a:xfrm>
        </p:grpSpPr>
        <p:sp>
          <p:nvSpPr>
            <p:cNvPr id="936" name=""/>
            <p:cNvSpPr/>
            <p:nvPr/>
          </p:nvSpPr>
          <p:spPr>
            <a:xfrm>
              <a:off x="3886200" y="365760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343400" y="35812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267080" y="3962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419720" y="160020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705720" y="16765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590920" y="16765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3505320" y="2438280"/>
              <a:ext cx="304560" cy="38124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3" name=""/>
          <p:cNvGrpSpPr/>
          <p:nvPr/>
        </p:nvGrpSpPr>
        <p:grpSpPr>
          <a:xfrm>
            <a:off x="3581280" y="1219320"/>
            <a:ext cx="1371600" cy="2971800"/>
            <a:chOff x="3581280" y="1219320"/>
            <a:chExt cx="1371600" cy="2971800"/>
          </a:xfrm>
        </p:grpSpPr>
        <p:sp>
          <p:nvSpPr>
            <p:cNvPr id="944" name=""/>
            <p:cNvSpPr/>
            <p:nvPr/>
          </p:nvSpPr>
          <p:spPr>
            <a:xfrm>
              <a:off x="3962520" y="35053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343400" y="2819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038480" y="38098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3581280" y="12193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267080" y="1676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648320" y="23623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038480" y="22096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572000" y="297180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2" name=""/>
          <p:cNvSpPr/>
          <p:nvPr/>
        </p:nvSpPr>
        <p:spPr>
          <a:xfrm>
            <a:off x="1676520" y="990720"/>
            <a:ext cx="5715000" cy="3352680"/>
          </a:xfrm>
          <a:custGeom>
            <a:avLst/>
            <a:gdLst/>
            <a:ahLst/>
            <a:rect l="l" t="t" r="r" b="b"/>
            <a:pathLst>
              <a:path w="3600" h="2112">
                <a:moveTo>
                  <a:pt x="528" y="480"/>
                </a:moveTo>
                <a:lnTo>
                  <a:pt x="528" y="1104"/>
                </a:lnTo>
                <a:lnTo>
                  <a:pt x="0" y="1200"/>
                </a:lnTo>
                <a:lnTo>
                  <a:pt x="0" y="1584"/>
                </a:lnTo>
                <a:lnTo>
                  <a:pt x="912" y="2064"/>
                </a:lnTo>
                <a:lnTo>
                  <a:pt x="1680" y="2112"/>
                </a:lnTo>
                <a:lnTo>
                  <a:pt x="2112" y="1104"/>
                </a:lnTo>
                <a:lnTo>
                  <a:pt x="2928" y="912"/>
                </a:lnTo>
                <a:lnTo>
                  <a:pt x="3504" y="1104"/>
                </a:lnTo>
                <a:lnTo>
                  <a:pt x="3600" y="816"/>
                </a:lnTo>
                <a:lnTo>
                  <a:pt x="3264" y="384"/>
                </a:lnTo>
                <a:lnTo>
                  <a:pt x="2976" y="336"/>
                </a:lnTo>
                <a:lnTo>
                  <a:pt x="1584" y="0"/>
                </a:lnTo>
                <a:lnTo>
                  <a:pt x="528" y="480"/>
                </a:lnTo>
                <a:close/>
              </a:path>
            </a:pathLst>
          </a:custGeom>
          <a:noFill/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3" name="midwest%20pop" descr=""/>
          <p:cNvPicPr/>
          <p:nvPr/>
        </p:nvPicPr>
        <p:blipFill>
          <a:blip r:embed="rId1"/>
          <a:stretch/>
        </p:blipFill>
        <p:spPr>
          <a:xfrm>
            <a:off x="-4114800" y="-533520"/>
            <a:ext cx="13411080" cy="9753840"/>
          </a:xfrm>
          <a:prstGeom prst="rect">
            <a:avLst/>
          </a:prstGeom>
          <a:ln w="0">
            <a:noFill/>
          </a:ln>
        </p:spPr>
      </p:pic>
      <p:sp>
        <p:nvSpPr>
          <p:cNvPr id="954" name=""/>
          <p:cNvSpPr/>
          <p:nvPr/>
        </p:nvSpPr>
        <p:spPr>
          <a:xfrm>
            <a:off x="2514600" y="990720"/>
            <a:ext cx="5715000" cy="3352680"/>
          </a:xfrm>
          <a:custGeom>
            <a:avLst/>
            <a:gdLst/>
            <a:ahLst/>
            <a:rect l="l" t="t" r="r" b="b"/>
            <a:pathLst>
              <a:path w="3600" h="2112">
                <a:moveTo>
                  <a:pt x="528" y="480"/>
                </a:moveTo>
                <a:lnTo>
                  <a:pt x="528" y="1104"/>
                </a:lnTo>
                <a:lnTo>
                  <a:pt x="0" y="1200"/>
                </a:lnTo>
                <a:lnTo>
                  <a:pt x="0" y="1584"/>
                </a:lnTo>
                <a:lnTo>
                  <a:pt x="912" y="2064"/>
                </a:lnTo>
                <a:lnTo>
                  <a:pt x="1680" y="2112"/>
                </a:lnTo>
                <a:lnTo>
                  <a:pt x="2112" y="1104"/>
                </a:lnTo>
                <a:lnTo>
                  <a:pt x="2928" y="912"/>
                </a:lnTo>
                <a:lnTo>
                  <a:pt x="3504" y="1104"/>
                </a:lnTo>
                <a:lnTo>
                  <a:pt x="3600" y="816"/>
                </a:lnTo>
                <a:lnTo>
                  <a:pt x="3264" y="384"/>
                </a:lnTo>
                <a:lnTo>
                  <a:pt x="2976" y="336"/>
                </a:lnTo>
                <a:lnTo>
                  <a:pt x="1584" y="0"/>
                </a:lnTo>
                <a:lnTo>
                  <a:pt x="528" y="480"/>
                </a:lnTo>
                <a:close/>
              </a:path>
            </a:pathLst>
          </a:custGeom>
          <a:noFill/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Nsight Telservices </a:t>
            </a:r>
            <a:br>
              <a:rPr sz="4400"/>
            </a:br>
            <a:r>
              <a:rPr b="0" lang="en-US" sz="4000" spc="-1" strike="noStrike">
                <a:solidFill>
                  <a:srgbClr val="3333cc"/>
                </a:solidFill>
                <a:latin typeface="Arial Black"/>
              </a:rPr>
              <a:t>Has Chose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1413000" y="4769280"/>
            <a:ext cx="499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entury Gothic"/>
              </a:rPr>
              <a:t>MESH</a:t>
            </a:r>
            <a:r>
              <a:rPr b="0" i="1" lang="en-GB" sz="5400" spc="-1" strike="noStrike">
                <a:solidFill>
                  <a:srgbClr val="000000"/>
                </a:solidFill>
                <a:latin typeface="Century Gothic"/>
              </a:rPr>
              <a:t>WORKS</a:t>
            </a: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™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7" name="Radiant-jpeg2" descr=""/>
          <p:cNvPicPr/>
          <p:nvPr/>
        </p:nvPicPr>
        <p:blipFill>
          <a:blip r:embed="rId1"/>
          <a:stretch/>
        </p:blipFill>
        <p:spPr>
          <a:xfrm>
            <a:off x="914400" y="3200400"/>
            <a:ext cx="3886200" cy="1503360"/>
          </a:xfrm>
          <a:prstGeom prst="rect">
            <a:avLst/>
          </a:prstGeom>
          <a:ln w="0">
            <a:noFill/>
          </a:ln>
        </p:spPr>
      </p:pic>
      <p:pic>
        <p:nvPicPr>
          <p:cNvPr id="958" name="ant3" descr=""/>
          <p:cNvPicPr/>
          <p:nvPr/>
        </p:nvPicPr>
        <p:blipFill>
          <a:blip r:embed="rId2"/>
          <a:stretch/>
        </p:blipFill>
        <p:spPr>
          <a:xfrm>
            <a:off x="4724280" y="2209680"/>
            <a:ext cx="3899160" cy="21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Promise of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om Radia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0" name="oslothumb" descr=""/>
          <p:cNvPicPr/>
          <p:nvPr/>
        </p:nvPicPr>
        <p:blipFill>
          <a:blip r:embed="rId1"/>
          <a:stretch/>
        </p:blipFill>
        <p:spPr>
          <a:xfrm>
            <a:off x="609480" y="1901880"/>
            <a:ext cx="7925040" cy="4292640"/>
          </a:xfrm>
          <a:prstGeom prst="rect">
            <a:avLst/>
          </a:prstGeom>
          <a:ln w="0">
            <a:noFill/>
          </a:ln>
        </p:spPr>
      </p:pic>
      <p:sp>
        <p:nvSpPr>
          <p:cNvPr id="961" name=""/>
          <p:cNvSpPr/>
          <p:nvPr/>
        </p:nvSpPr>
        <p:spPr>
          <a:xfrm>
            <a:off x="1625400" y="1156320"/>
            <a:ext cx="303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MESH</a:t>
            </a:r>
            <a:r>
              <a:rPr b="0" i="1" lang="en-GB" sz="3200" spc="-1" strike="noStrike">
                <a:solidFill>
                  <a:srgbClr val="000000"/>
                </a:solidFill>
                <a:latin typeface="Century Gothic"/>
              </a:rPr>
              <a:t>WORK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963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4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965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1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mise of Mesh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2591640" y="4770000"/>
            <a:ext cx="376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Mesh Subscriber Node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slightly more expens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than today’s PM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Subscriber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1465200" y="3093480"/>
            <a:ext cx="463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Black"/>
              </a:rPr>
              <a:t>No costly PMP </a:t>
            </a:r>
            <a:r>
              <a:rPr b="1" lang="en-US" sz="2800" spc="-1" strike="noStrike">
                <a:solidFill>
                  <a:srgbClr val="ff0000"/>
                </a:solidFill>
                <a:latin typeface="Arial Black"/>
              </a:rPr>
              <a:t>Base S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5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986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3508200" y="3541680"/>
            <a:ext cx="2568600" cy="730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 flipH="1">
            <a:off x="2855520" y="3159000"/>
            <a:ext cx="2530440" cy="2916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782720" y="2390760"/>
            <a:ext cx="1111320" cy="3646440"/>
          </a:xfrm>
          <a:custGeom>
            <a:avLst/>
            <a:gdLst/>
            <a:ahLst/>
            <a:rect l="l" t="t" r="r" b="b"/>
            <a:pathLst>
              <a:path w="58" h="190">
                <a:moveTo>
                  <a:pt x="23" y="119"/>
                </a:moveTo>
                <a:lnTo>
                  <a:pt x="0" y="0"/>
                </a:lnTo>
                <a:lnTo>
                  <a:pt x="58" y="190"/>
                </a:lnTo>
              </a:path>
            </a:pathLst>
          </a:cu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V="1">
            <a:off x="2209680" y="3581280"/>
            <a:ext cx="1295640" cy="10670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2209680" y="4648320"/>
            <a:ext cx="609840" cy="1371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flipH="1" flipV="1">
            <a:off x="1752120" y="2361960"/>
            <a:ext cx="1752840" cy="11430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 flipV="1">
            <a:off x="3581280" y="3123720"/>
            <a:ext cx="1828800" cy="381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flipH="1" flipV="1">
            <a:off x="5409720" y="3124080"/>
            <a:ext cx="685800" cy="10670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flipH="1">
            <a:off x="2285640" y="4267080"/>
            <a:ext cx="3809880" cy="381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H="1">
            <a:off x="2895480" y="4267080"/>
            <a:ext cx="3200400" cy="18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H="1" flipV="1">
            <a:off x="1752480" y="2362320"/>
            <a:ext cx="3657600" cy="7617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9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1000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6" name=""/>
          <p:cNvSpPr/>
          <p:nvPr/>
        </p:nvSpPr>
        <p:spPr>
          <a:xfrm>
            <a:off x="76320" y="1828800"/>
            <a:ext cx="7657920" cy="3543480"/>
          </a:xfrm>
          <a:custGeom>
            <a:avLst/>
            <a:gdLst/>
            <a:ahLst/>
            <a:rect l="l" t="t" r="r" b="b"/>
            <a:pathLst>
              <a:path w="4824" h="2232">
                <a:moveTo>
                  <a:pt x="0" y="336"/>
                </a:moveTo>
                <a:cubicBezTo>
                  <a:pt x="216" y="356"/>
                  <a:pt x="532" y="408"/>
                  <a:pt x="1056" y="384"/>
                </a:cubicBezTo>
                <a:cubicBezTo>
                  <a:pt x="1580" y="360"/>
                  <a:pt x="2688" y="0"/>
                  <a:pt x="3144" y="192"/>
                </a:cubicBezTo>
                <a:cubicBezTo>
                  <a:pt x="3600" y="384"/>
                  <a:pt x="3512" y="1196"/>
                  <a:pt x="3792" y="1536"/>
                </a:cubicBezTo>
                <a:cubicBezTo>
                  <a:pt x="4072" y="1876"/>
                  <a:pt x="4609" y="2087"/>
                  <a:pt x="4824" y="2232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 txBox="1"/>
          <p:nvPr/>
        </p:nvSpPr>
        <p:spPr>
          <a:xfrm>
            <a:off x="5410080" y="2209680"/>
            <a:ext cx="221004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OPTICAL</a:t>
            </a:r>
            <a:endParaRPr b="0" i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FIBER</a:t>
            </a:r>
            <a:endParaRPr b="0" i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OUTE</a:t>
            </a:r>
            <a:endParaRPr b="0" i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1018" name=""/>
          <p:cNvGrpSpPr/>
          <p:nvPr/>
        </p:nvGrpSpPr>
        <p:grpSpPr>
          <a:xfrm>
            <a:off x="1600200" y="2209680"/>
            <a:ext cx="4724280" cy="2286000"/>
            <a:chOff x="1600200" y="2209680"/>
            <a:chExt cx="4724280" cy="2286000"/>
          </a:xfrm>
        </p:grpSpPr>
        <p:sp>
          <p:nvSpPr>
            <p:cNvPr id="1019" name=""/>
            <p:cNvSpPr/>
            <p:nvPr/>
          </p:nvSpPr>
          <p:spPr>
            <a:xfrm>
              <a:off x="1600200" y="2209680"/>
              <a:ext cx="380880" cy="38124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943600" y="4114800"/>
              <a:ext cx="380880" cy="3808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1" name=""/>
          <p:cNvSpPr/>
          <p:nvPr/>
        </p:nvSpPr>
        <p:spPr>
          <a:xfrm>
            <a:off x="457200" y="898560"/>
            <a:ext cx="8153280" cy="70344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sts Grow As Customers Sign Up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1023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4" name=""/>
          <p:cNvGrpSpPr/>
          <p:nvPr/>
        </p:nvGrpSpPr>
        <p:grpSpPr>
          <a:xfrm>
            <a:off x="1054080" y="2025720"/>
            <a:ext cx="6670800" cy="4241520"/>
            <a:chOff x="1054080" y="2025720"/>
            <a:chExt cx="6670800" cy="4241520"/>
          </a:xfrm>
        </p:grpSpPr>
        <p:grpSp>
          <p:nvGrpSpPr>
            <p:cNvPr id="1025" name=""/>
            <p:cNvGrpSpPr/>
            <p:nvPr/>
          </p:nvGrpSpPr>
          <p:grpSpPr>
            <a:xfrm>
              <a:off x="1054080" y="2025720"/>
              <a:ext cx="6670800" cy="4241520"/>
              <a:chOff x="1054080" y="2025720"/>
              <a:chExt cx="6670800" cy="4241520"/>
            </a:xfrm>
          </p:grpSpPr>
          <p:sp>
            <p:nvSpPr>
              <p:cNvPr id="1026" name=""/>
              <p:cNvSpPr/>
              <p:nvPr/>
            </p:nvSpPr>
            <p:spPr>
              <a:xfrm>
                <a:off x="3508200" y="3541680"/>
                <a:ext cx="2568600" cy="730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7" name=""/>
              <p:cNvGrpSpPr/>
              <p:nvPr/>
            </p:nvGrpSpPr>
            <p:grpSpPr>
              <a:xfrm>
                <a:off x="1054080" y="2025720"/>
                <a:ext cx="6670800" cy="4241520"/>
                <a:chOff x="1054080" y="2025720"/>
                <a:chExt cx="6670800" cy="4241520"/>
              </a:xfrm>
            </p:grpSpPr>
            <p:sp>
              <p:nvSpPr>
                <p:cNvPr id="1028" name=""/>
                <p:cNvSpPr/>
                <p:nvPr/>
              </p:nvSpPr>
              <p:spPr>
                <a:xfrm>
                  <a:off x="5424480" y="3159000"/>
                  <a:ext cx="2300400" cy="2244600"/>
                </a:xfrm>
                <a:custGeom>
                  <a:avLst/>
                  <a:gdLst/>
                  <a:ahLst/>
                  <a:rect l="l" t="t" r="r" b="b"/>
                  <a:pathLst>
                    <a:path w="120" h="117">
                      <a:moveTo>
                        <a:pt x="36" y="58"/>
                      </a:moveTo>
                      <a:lnTo>
                        <a:pt x="120" y="11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29" name=""/>
                <p:cNvGrpSpPr/>
                <p:nvPr/>
              </p:nvGrpSpPr>
              <p:grpSpPr>
                <a:xfrm>
                  <a:off x="1054080" y="2025720"/>
                  <a:ext cx="6442200" cy="4241520"/>
                  <a:chOff x="1054080" y="2025720"/>
                  <a:chExt cx="6442200" cy="4241520"/>
                </a:xfrm>
              </p:grpSpPr>
              <p:sp>
                <p:nvSpPr>
                  <p:cNvPr id="1030" name=""/>
                  <p:cNvSpPr/>
                  <p:nvPr/>
                </p:nvSpPr>
                <p:spPr>
                  <a:xfrm flipH="1">
                    <a:off x="2855520" y="3159000"/>
                    <a:ext cx="2530440" cy="2916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1" name=""/>
                  <p:cNvSpPr/>
                  <p:nvPr/>
                </p:nvSpPr>
                <p:spPr>
                  <a:xfrm>
                    <a:off x="3508200" y="3159000"/>
                    <a:ext cx="2587680" cy="29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152">
                        <a:moveTo>
                          <a:pt x="98" y="0"/>
                        </a:moveTo>
                        <a:lnTo>
                          <a:pt x="0" y="87"/>
                        </a:lnTo>
                        <a:lnTo>
                          <a:pt x="126" y="152"/>
                        </a:lnTo>
                        <a:lnTo>
                          <a:pt x="135" y="57"/>
                        </a:lnTo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32" name=""/>
                  <p:cNvGrpSpPr/>
                  <p:nvPr/>
                </p:nvGrpSpPr>
                <p:grpSpPr>
                  <a:xfrm>
                    <a:off x="1054080" y="2025720"/>
                    <a:ext cx="6442200" cy="4241520"/>
                    <a:chOff x="1054080" y="2025720"/>
                    <a:chExt cx="6442200" cy="4241520"/>
                  </a:xfrm>
                </p:grpSpPr>
                <p:sp>
                  <p:nvSpPr>
                    <p:cNvPr id="1033" name=""/>
                    <p:cNvSpPr/>
                    <p:nvPr/>
                  </p:nvSpPr>
                  <p:spPr>
                    <a:xfrm>
                      <a:off x="1341360" y="4021200"/>
                      <a:ext cx="2090880" cy="86364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4" name=""/>
                    <p:cNvSpPr/>
                    <p:nvPr/>
                  </p:nvSpPr>
                  <p:spPr>
                    <a:xfrm>
                      <a:off x="1360440" y="3579840"/>
                      <a:ext cx="3527640" cy="249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4" h="130">
                          <a:moveTo>
                            <a:pt x="0" y="25"/>
                          </a:moveTo>
                          <a:lnTo>
                            <a:pt x="77" y="130"/>
                          </a:lnTo>
                          <a:lnTo>
                            <a:pt x="184" y="83"/>
                          </a:lnTo>
                          <a:lnTo>
                            <a:pt x="113" y="0"/>
                          </a:lnTo>
                          <a:lnTo>
                            <a:pt x="44" y="5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5" name=""/>
                    <p:cNvSpPr/>
                    <p:nvPr/>
                  </p:nvSpPr>
                  <p:spPr>
                    <a:xfrm>
                      <a:off x="4888080" y="2122560"/>
                      <a:ext cx="2549520" cy="305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" h="159">
                          <a:moveTo>
                            <a:pt x="3" y="0"/>
                          </a:moveTo>
                          <a:lnTo>
                            <a:pt x="133" y="86"/>
                          </a:lnTo>
                          <a:lnTo>
                            <a:pt x="0" y="159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6" name=""/>
                    <p:cNvSpPr/>
                    <p:nvPr/>
                  </p:nvSpPr>
                  <p:spPr>
                    <a:xfrm>
                      <a:off x="3508200" y="2025720"/>
                      <a:ext cx="3988080" cy="318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66">
                          <a:moveTo>
                            <a:pt x="72" y="166"/>
                          </a:moveTo>
                          <a:lnTo>
                            <a:pt x="208" y="0"/>
                          </a:lnTo>
                          <a:lnTo>
                            <a:pt x="0" y="7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7" name=""/>
                    <p:cNvSpPr/>
                    <p:nvPr/>
                  </p:nvSpPr>
                  <p:spPr>
                    <a:xfrm flipH="1">
                      <a:off x="3450960" y="2103480"/>
                      <a:ext cx="1514520" cy="272412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8" name=""/>
                    <p:cNvSpPr/>
                    <p:nvPr/>
                  </p:nvSpPr>
                  <p:spPr>
                    <a:xfrm>
                      <a:off x="1360440" y="2141640"/>
                      <a:ext cx="4025880" cy="187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0" h="98">
                          <a:moveTo>
                            <a:pt x="0" y="98"/>
                          </a:moveTo>
                          <a:lnTo>
                            <a:pt x="89" y="0"/>
                          </a:lnTo>
                          <a:lnTo>
                            <a:pt x="210" y="53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9" name=""/>
                    <p:cNvSpPr/>
                    <p:nvPr/>
                  </p:nvSpPr>
                  <p:spPr>
                    <a:xfrm>
                      <a:off x="1054080" y="2217600"/>
                      <a:ext cx="1994040" cy="404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211">
                          <a:moveTo>
                            <a:pt x="57" y="129"/>
                          </a:moveTo>
                          <a:lnTo>
                            <a:pt x="0" y="211"/>
                          </a:lnTo>
                          <a:lnTo>
                            <a:pt x="104" y="0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040" name=""/>
            <p:cNvSpPr/>
            <p:nvPr/>
          </p:nvSpPr>
          <p:spPr>
            <a:xfrm>
              <a:off x="1782720" y="2390760"/>
              <a:ext cx="1111320" cy="3646440"/>
            </a:xfrm>
            <a:custGeom>
              <a:avLst/>
              <a:gdLst/>
              <a:ahLst/>
              <a:rect l="l" t="t" r="r" b="b"/>
              <a:pathLst>
                <a:path w="58" h="190">
                  <a:moveTo>
                    <a:pt x="23" y="119"/>
                  </a:moveTo>
                  <a:lnTo>
                    <a:pt x="0" y="0"/>
                  </a:lnTo>
                  <a:lnTo>
                    <a:pt x="58" y="19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1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1042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8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1828800" y="2133360"/>
            <a:ext cx="1219320" cy="228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 flipH="1">
            <a:off x="1371600" y="2438280"/>
            <a:ext cx="380880" cy="1524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124080" y="2133720"/>
            <a:ext cx="18288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V="1">
            <a:off x="5029200" y="1981080"/>
            <a:ext cx="2514600" cy="1526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H="1">
            <a:off x="7467480" y="1981080"/>
            <a:ext cx="76320" cy="17528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7467480" y="3733920"/>
            <a:ext cx="304920" cy="1676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H="1">
            <a:off x="5943600" y="5410080"/>
            <a:ext cx="1752480" cy="6098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H="1">
            <a:off x="2971440" y="6019920"/>
            <a:ext cx="28954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 flipH="1">
            <a:off x="1066680" y="6019920"/>
            <a:ext cx="1828800" cy="228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609480" y="457200"/>
            <a:ext cx="7875720" cy="131292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s the System Grows the Me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n Be Redesigned Remote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76320" y="1828800"/>
            <a:ext cx="7657920" cy="3543480"/>
          </a:xfrm>
          <a:custGeom>
            <a:avLst/>
            <a:gdLst/>
            <a:ahLst/>
            <a:rect l="l" t="t" r="r" b="b"/>
            <a:pathLst>
              <a:path w="4824" h="2232">
                <a:moveTo>
                  <a:pt x="0" y="336"/>
                </a:moveTo>
                <a:cubicBezTo>
                  <a:pt x="216" y="356"/>
                  <a:pt x="532" y="408"/>
                  <a:pt x="1056" y="384"/>
                </a:cubicBezTo>
                <a:cubicBezTo>
                  <a:pt x="1580" y="360"/>
                  <a:pt x="2688" y="0"/>
                  <a:pt x="3144" y="192"/>
                </a:cubicBezTo>
                <a:cubicBezTo>
                  <a:pt x="3600" y="384"/>
                  <a:pt x="3512" y="1196"/>
                  <a:pt x="3792" y="1536"/>
                </a:cubicBezTo>
                <a:cubicBezTo>
                  <a:pt x="4072" y="1876"/>
                  <a:pt x="4609" y="2087"/>
                  <a:pt x="4824" y="2232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0" name=""/>
          <p:cNvGrpSpPr/>
          <p:nvPr/>
        </p:nvGrpSpPr>
        <p:grpSpPr>
          <a:xfrm>
            <a:off x="1600200" y="2209680"/>
            <a:ext cx="4724280" cy="2286000"/>
            <a:chOff x="1600200" y="2209680"/>
            <a:chExt cx="4724280" cy="2286000"/>
          </a:xfrm>
        </p:grpSpPr>
        <p:sp>
          <p:nvSpPr>
            <p:cNvPr id="1071" name=""/>
            <p:cNvSpPr/>
            <p:nvPr/>
          </p:nvSpPr>
          <p:spPr>
            <a:xfrm>
              <a:off x="1600200" y="2209680"/>
              <a:ext cx="380880" cy="38124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943600" y="4114800"/>
              <a:ext cx="380880" cy="3808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tennas Remotely Move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O TRUCK RO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4" name="ant3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717552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5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1076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7" name=""/>
          <p:cNvGrpSpPr/>
          <p:nvPr/>
        </p:nvGrpSpPr>
        <p:grpSpPr>
          <a:xfrm>
            <a:off x="1054080" y="2025720"/>
            <a:ext cx="6670800" cy="4241520"/>
            <a:chOff x="1054080" y="2025720"/>
            <a:chExt cx="6670800" cy="4241520"/>
          </a:xfrm>
        </p:grpSpPr>
        <p:grpSp>
          <p:nvGrpSpPr>
            <p:cNvPr id="1078" name=""/>
            <p:cNvGrpSpPr/>
            <p:nvPr/>
          </p:nvGrpSpPr>
          <p:grpSpPr>
            <a:xfrm>
              <a:off x="1054080" y="2025720"/>
              <a:ext cx="6670800" cy="4241520"/>
              <a:chOff x="1054080" y="2025720"/>
              <a:chExt cx="6670800" cy="4241520"/>
            </a:xfrm>
          </p:grpSpPr>
          <p:sp>
            <p:nvSpPr>
              <p:cNvPr id="1079" name=""/>
              <p:cNvSpPr/>
              <p:nvPr/>
            </p:nvSpPr>
            <p:spPr>
              <a:xfrm>
                <a:off x="3508200" y="3541680"/>
                <a:ext cx="2568600" cy="730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80" name=""/>
              <p:cNvGrpSpPr/>
              <p:nvPr/>
            </p:nvGrpSpPr>
            <p:grpSpPr>
              <a:xfrm>
                <a:off x="1054080" y="2025720"/>
                <a:ext cx="6670800" cy="4241520"/>
                <a:chOff x="1054080" y="2025720"/>
                <a:chExt cx="6670800" cy="4241520"/>
              </a:xfrm>
            </p:grpSpPr>
            <p:sp>
              <p:nvSpPr>
                <p:cNvPr id="1081" name=""/>
                <p:cNvSpPr/>
                <p:nvPr/>
              </p:nvSpPr>
              <p:spPr>
                <a:xfrm>
                  <a:off x="5424480" y="3159000"/>
                  <a:ext cx="2300400" cy="2244600"/>
                </a:xfrm>
                <a:custGeom>
                  <a:avLst/>
                  <a:gdLst/>
                  <a:ahLst/>
                  <a:rect l="l" t="t" r="r" b="b"/>
                  <a:pathLst>
                    <a:path w="120" h="117">
                      <a:moveTo>
                        <a:pt x="36" y="58"/>
                      </a:moveTo>
                      <a:lnTo>
                        <a:pt x="120" y="11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82" name=""/>
                <p:cNvGrpSpPr/>
                <p:nvPr/>
              </p:nvGrpSpPr>
              <p:grpSpPr>
                <a:xfrm>
                  <a:off x="1054080" y="2025720"/>
                  <a:ext cx="6442200" cy="4241520"/>
                  <a:chOff x="1054080" y="2025720"/>
                  <a:chExt cx="6442200" cy="4241520"/>
                </a:xfrm>
              </p:grpSpPr>
              <p:sp>
                <p:nvSpPr>
                  <p:cNvPr id="1083" name=""/>
                  <p:cNvSpPr/>
                  <p:nvPr/>
                </p:nvSpPr>
                <p:spPr>
                  <a:xfrm flipH="1">
                    <a:off x="2855520" y="3159000"/>
                    <a:ext cx="2530440" cy="2916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>
                    <a:off x="3508200" y="3159000"/>
                    <a:ext cx="2587680" cy="29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152">
                        <a:moveTo>
                          <a:pt x="98" y="0"/>
                        </a:moveTo>
                        <a:lnTo>
                          <a:pt x="0" y="87"/>
                        </a:lnTo>
                        <a:lnTo>
                          <a:pt x="126" y="152"/>
                        </a:lnTo>
                        <a:lnTo>
                          <a:pt x="135" y="57"/>
                        </a:lnTo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85" name=""/>
                  <p:cNvGrpSpPr/>
                  <p:nvPr/>
                </p:nvGrpSpPr>
                <p:grpSpPr>
                  <a:xfrm>
                    <a:off x="1054080" y="2025720"/>
                    <a:ext cx="6442200" cy="4241520"/>
                    <a:chOff x="1054080" y="2025720"/>
                    <a:chExt cx="6442200" cy="4241520"/>
                  </a:xfrm>
                </p:grpSpPr>
                <p:sp>
                  <p:nvSpPr>
                    <p:cNvPr id="1086" name=""/>
                    <p:cNvSpPr/>
                    <p:nvPr/>
                  </p:nvSpPr>
                  <p:spPr>
                    <a:xfrm>
                      <a:off x="1341360" y="4021200"/>
                      <a:ext cx="2090880" cy="86364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7" name=""/>
                    <p:cNvSpPr/>
                    <p:nvPr/>
                  </p:nvSpPr>
                  <p:spPr>
                    <a:xfrm>
                      <a:off x="1360440" y="3579840"/>
                      <a:ext cx="3527640" cy="249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4" h="130">
                          <a:moveTo>
                            <a:pt x="0" y="25"/>
                          </a:moveTo>
                          <a:lnTo>
                            <a:pt x="77" y="130"/>
                          </a:lnTo>
                          <a:lnTo>
                            <a:pt x="184" y="83"/>
                          </a:lnTo>
                          <a:lnTo>
                            <a:pt x="113" y="0"/>
                          </a:lnTo>
                          <a:lnTo>
                            <a:pt x="44" y="5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8" name=""/>
                    <p:cNvSpPr/>
                    <p:nvPr/>
                  </p:nvSpPr>
                  <p:spPr>
                    <a:xfrm>
                      <a:off x="4888080" y="2122560"/>
                      <a:ext cx="2549520" cy="305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" h="159">
                          <a:moveTo>
                            <a:pt x="3" y="0"/>
                          </a:moveTo>
                          <a:lnTo>
                            <a:pt x="133" y="86"/>
                          </a:lnTo>
                          <a:lnTo>
                            <a:pt x="0" y="159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9" name=""/>
                    <p:cNvSpPr/>
                    <p:nvPr/>
                  </p:nvSpPr>
                  <p:spPr>
                    <a:xfrm>
                      <a:off x="3508200" y="2025720"/>
                      <a:ext cx="3988080" cy="318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66">
                          <a:moveTo>
                            <a:pt x="72" y="166"/>
                          </a:moveTo>
                          <a:lnTo>
                            <a:pt x="208" y="0"/>
                          </a:lnTo>
                          <a:lnTo>
                            <a:pt x="0" y="7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0" name=""/>
                    <p:cNvSpPr/>
                    <p:nvPr/>
                  </p:nvSpPr>
                  <p:spPr>
                    <a:xfrm flipH="1">
                      <a:off x="3450960" y="2103480"/>
                      <a:ext cx="1514520" cy="272412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1" name=""/>
                    <p:cNvSpPr/>
                    <p:nvPr/>
                  </p:nvSpPr>
                  <p:spPr>
                    <a:xfrm>
                      <a:off x="1360440" y="2141640"/>
                      <a:ext cx="4025880" cy="187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0" h="98">
                          <a:moveTo>
                            <a:pt x="0" y="98"/>
                          </a:moveTo>
                          <a:lnTo>
                            <a:pt x="89" y="0"/>
                          </a:lnTo>
                          <a:lnTo>
                            <a:pt x="210" y="53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2" name=""/>
                    <p:cNvSpPr/>
                    <p:nvPr/>
                  </p:nvSpPr>
                  <p:spPr>
                    <a:xfrm>
                      <a:off x="1054080" y="2217600"/>
                      <a:ext cx="1994040" cy="404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211">
                          <a:moveTo>
                            <a:pt x="57" y="129"/>
                          </a:moveTo>
                          <a:lnTo>
                            <a:pt x="0" y="211"/>
                          </a:lnTo>
                          <a:lnTo>
                            <a:pt x="104" y="0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093" name=""/>
            <p:cNvSpPr/>
            <p:nvPr/>
          </p:nvSpPr>
          <p:spPr>
            <a:xfrm>
              <a:off x="1782720" y="2390760"/>
              <a:ext cx="1111320" cy="3646440"/>
            </a:xfrm>
            <a:custGeom>
              <a:avLst/>
              <a:gdLst/>
              <a:ahLst/>
              <a:rect l="l" t="t" r="r" b="b"/>
              <a:pathLst>
                <a:path w="58" h="190">
                  <a:moveTo>
                    <a:pt x="23" y="119"/>
                  </a:moveTo>
                  <a:lnTo>
                    <a:pt x="0" y="0"/>
                  </a:lnTo>
                  <a:lnTo>
                    <a:pt x="58" y="19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4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1095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1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76320" y="1828800"/>
            <a:ext cx="7657920" cy="3543480"/>
          </a:xfrm>
          <a:custGeom>
            <a:avLst/>
            <a:gdLst/>
            <a:ahLst/>
            <a:rect l="l" t="t" r="r" b="b"/>
            <a:pathLst>
              <a:path w="4824" h="2232">
                <a:moveTo>
                  <a:pt x="0" y="336"/>
                </a:moveTo>
                <a:cubicBezTo>
                  <a:pt x="216" y="356"/>
                  <a:pt x="532" y="408"/>
                  <a:pt x="1056" y="384"/>
                </a:cubicBezTo>
                <a:cubicBezTo>
                  <a:pt x="1580" y="360"/>
                  <a:pt x="2688" y="0"/>
                  <a:pt x="3144" y="192"/>
                </a:cubicBezTo>
                <a:cubicBezTo>
                  <a:pt x="3600" y="384"/>
                  <a:pt x="3512" y="1196"/>
                  <a:pt x="3792" y="1536"/>
                </a:cubicBezTo>
                <a:cubicBezTo>
                  <a:pt x="4072" y="1876"/>
                  <a:pt x="4609" y="2087"/>
                  <a:pt x="4824" y="2232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609480" y="380880"/>
            <a:ext cx="7772400" cy="131292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s Demand Grows More Capacity Is Inserted Into the Me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4" name=""/>
          <p:cNvGrpSpPr/>
          <p:nvPr/>
        </p:nvGrpSpPr>
        <p:grpSpPr>
          <a:xfrm>
            <a:off x="1600200" y="2209680"/>
            <a:ext cx="4724280" cy="2286000"/>
            <a:chOff x="1600200" y="2209680"/>
            <a:chExt cx="4724280" cy="2286000"/>
          </a:xfrm>
        </p:grpSpPr>
        <p:sp>
          <p:nvSpPr>
            <p:cNvPr id="1115" name=""/>
            <p:cNvSpPr/>
            <p:nvPr/>
          </p:nvSpPr>
          <p:spPr>
            <a:xfrm>
              <a:off x="1600200" y="2209680"/>
              <a:ext cx="380880" cy="38124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943600" y="4114800"/>
              <a:ext cx="380880" cy="3808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7" name=""/>
          <p:cNvGrpSpPr/>
          <p:nvPr/>
        </p:nvGrpSpPr>
        <p:grpSpPr>
          <a:xfrm>
            <a:off x="4800600" y="1905120"/>
            <a:ext cx="3124080" cy="3733560"/>
            <a:chOff x="4800600" y="1905120"/>
            <a:chExt cx="3124080" cy="3733560"/>
          </a:xfrm>
        </p:grpSpPr>
        <p:sp>
          <p:nvSpPr>
            <p:cNvPr id="1118" name=""/>
            <p:cNvSpPr/>
            <p:nvPr/>
          </p:nvSpPr>
          <p:spPr>
            <a:xfrm>
              <a:off x="4800600" y="1905120"/>
              <a:ext cx="380880" cy="4572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543800" y="5181480"/>
              <a:ext cx="380880" cy="4572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A TIER 2 - 3 CITY LOOK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GREENBAY1" descr=""/>
          <p:cNvPicPr/>
          <p:nvPr/>
        </p:nvPicPr>
        <p:blipFill>
          <a:blip r:embed="rId1"/>
          <a:stretch/>
        </p:blipFill>
        <p:spPr>
          <a:xfrm>
            <a:off x="2286000" y="1924200"/>
            <a:ext cx="6249960" cy="46875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80880" y="2286000"/>
            <a:ext cx="18288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They do have a lot of resident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0" y="1905120"/>
            <a:ext cx="6248520" cy="3962160"/>
          </a:xfrm>
          <a:custGeom>
            <a:avLst/>
            <a:gdLst/>
            <a:ahLst/>
            <a:rect l="l" t="t" r="r" b="b"/>
            <a:pathLst>
              <a:path w="3936" h="2496">
                <a:moveTo>
                  <a:pt x="0" y="0"/>
                </a:moveTo>
                <a:lnTo>
                  <a:pt x="3936" y="0"/>
                </a:lnTo>
                <a:lnTo>
                  <a:pt x="3936" y="1584"/>
                </a:lnTo>
                <a:lnTo>
                  <a:pt x="3312" y="2496"/>
                </a:lnTo>
                <a:lnTo>
                  <a:pt x="1344" y="1536"/>
                </a:lnTo>
                <a:lnTo>
                  <a:pt x="816" y="720"/>
                </a:lnTo>
                <a:lnTo>
                  <a:pt x="480" y="1104"/>
                </a:lnTo>
                <a:lnTo>
                  <a:pt x="0" y="8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0" y="3733920"/>
            <a:ext cx="1600200" cy="2590560"/>
          </a:xfrm>
          <a:custGeom>
            <a:avLst/>
            <a:gdLst/>
            <a:ahLst/>
            <a:rect l="l" t="t" r="r" b="b"/>
            <a:pathLst>
              <a:path w="1008" h="1632">
                <a:moveTo>
                  <a:pt x="0" y="0"/>
                </a:moveTo>
                <a:lnTo>
                  <a:pt x="1008" y="528"/>
                </a:lnTo>
                <a:lnTo>
                  <a:pt x="576" y="1488"/>
                </a:lnTo>
                <a:lnTo>
                  <a:pt x="192" y="1296"/>
                </a:lnTo>
                <a:lnTo>
                  <a:pt x="0" y="16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76720" y="5029200"/>
            <a:ext cx="1676160" cy="1523880"/>
          </a:xfrm>
          <a:custGeom>
            <a:avLst/>
            <a:gdLst/>
            <a:ahLst/>
            <a:rect l="l" t="t" r="r" b="b"/>
            <a:pathLst>
              <a:path w="1056" h="960">
                <a:moveTo>
                  <a:pt x="432" y="0"/>
                </a:moveTo>
                <a:lnTo>
                  <a:pt x="0" y="960"/>
                </a:lnTo>
                <a:lnTo>
                  <a:pt x="720" y="960"/>
                </a:lnTo>
                <a:lnTo>
                  <a:pt x="1056" y="288"/>
                </a:lnTo>
                <a:lnTo>
                  <a:pt x="432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905120" y="2742840"/>
            <a:ext cx="3276360" cy="6858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81080" y="3429000"/>
            <a:ext cx="2819520" cy="21337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05120" y="3429000"/>
            <a:ext cx="1447560" cy="17524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0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1121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2" name=""/>
          <p:cNvGrpSpPr/>
          <p:nvPr/>
        </p:nvGrpSpPr>
        <p:grpSpPr>
          <a:xfrm>
            <a:off x="1054080" y="2025720"/>
            <a:ext cx="6670800" cy="4241520"/>
            <a:chOff x="1054080" y="2025720"/>
            <a:chExt cx="6670800" cy="4241520"/>
          </a:xfrm>
        </p:grpSpPr>
        <p:grpSp>
          <p:nvGrpSpPr>
            <p:cNvPr id="1123" name=""/>
            <p:cNvGrpSpPr/>
            <p:nvPr/>
          </p:nvGrpSpPr>
          <p:grpSpPr>
            <a:xfrm>
              <a:off x="1054080" y="2025720"/>
              <a:ext cx="6670800" cy="4241520"/>
              <a:chOff x="1054080" y="2025720"/>
              <a:chExt cx="6670800" cy="4241520"/>
            </a:xfrm>
          </p:grpSpPr>
          <p:sp>
            <p:nvSpPr>
              <p:cNvPr id="1124" name=""/>
              <p:cNvSpPr/>
              <p:nvPr/>
            </p:nvSpPr>
            <p:spPr>
              <a:xfrm>
                <a:off x="3508200" y="3541680"/>
                <a:ext cx="2568600" cy="730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25" name=""/>
              <p:cNvGrpSpPr/>
              <p:nvPr/>
            </p:nvGrpSpPr>
            <p:grpSpPr>
              <a:xfrm>
                <a:off x="1054080" y="2025720"/>
                <a:ext cx="6670800" cy="4241520"/>
                <a:chOff x="1054080" y="2025720"/>
                <a:chExt cx="6670800" cy="4241520"/>
              </a:xfrm>
            </p:grpSpPr>
            <p:sp>
              <p:nvSpPr>
                <p:cNvPr id="1126" name=""/>
                <p:cNvSpPr/>
                <p:nvPr/>
              </p:nvSpPr>
              <p:spPr>
                <a:xfrm>
                  <a:off x="5424480" y="3159000"/>
                  <a:ext cx="2300400" cy="2244600"/>
                </a:xfrm>
                <a:custGeom>
                  <a:avLst/>
                  <a:gdLst/>
                  <a:ahLst/>
                  <a:rect l="l" t="t" r="r" b="b"/>
                  <a:pathLst>
                    <a:path w="120" h="117">
                      <a:moveTo>
                        <a:pt x="36" y="58"/>
                      </a:moveTo>
                      <a:lnTo>
                        <a:pt x="120" y="11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27" name=""/>
                <p:cNvGrpSpPr/>
                <p:nvPr/>
              </p:nvGrpSpPr>
              <p:grpSpPr>
                <a:xfrm>
                  <a:off x="1054080" y="2025720"/>
                  <a:ext cx="6442200" cy="4241520"/>
                  <a:chOff x="1054080" y="2025720"/>
                  <a:chExt cx="6442200" cy="4241520"/>
                </a:xfrm>
              </p:grpSpPr>
              <p:sp>
                <p:nvSpPr>
                  <p:cNvPr id="1128" name=""/>
                  <p:cNvSpPr/>
                  <p:nvPr/>
                </p:nvSpPr>
                <p:spPr>
                  <a:xfrm flipH="1">
                    <a:off x="2855520" y="3159000"/>
                    <a:ext cx="2530440" cy="2916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"/>
                  <p:cNvSpPr/>
                  <p:nvPr/>
                </p:nvSpPr>
                <p:spPr>
                  <a:xfrm>
                    <a:off x="3508200" y="3159000"/>
                    <a:ext cx="2587680" cy="29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152">
                        <a:moveTo>
                          <a:pt x="98" y="0"/>
                        </a:moveTo>
                        <a:lnTo>
                          <a:pt x="0" y="87"/>
                        </a:lnTo>
                        <a:lnTo>
                          <a:pt x="126" y="152"/>
                        </a:lnTo>
                        <a:lnTo>
                          <a:pt x="135" y="57"/>
                        </a:lnTo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30" name=""/>
                  <p:cNvGrpSpPr/>
                  <p:nvPr/>
                </p:nvGrpSpPr>
                <p:grpSpPr>
                  <a:xfrm>
                    <a:off x="1054080" y="2025720"/>
                    <a:ext cx="6442200" cy="4241520"/>
                    <a:chOff x="1054080" y="2025720"/>
                    <a:chExt cx="6442200" cy="4241520"/>
                  </a:xfrm>
                </p:grpSpPr>
                <p:sp>
                  <p:nvSpPr>
                    <p:cNvPr id="1131" name=""/>
                    <p:cNvSpPr/>
                    <p:nvPr/>
                  </p:nvSpPr>
                  <p:spPr>
                    <a:xfrm>
                      <a:off x="1341360" y="4021200"/>
                      <a:ext cx="2090880" cy="86364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2" name=""/>
                    <p:cNvSpPr/>
                    <p:nvPr/>
                  </p:nvSpPr>
                  <p:spPr>
                    <a:xfrm>
                      <a:off x="1360440" y="3579840"/>
                      <a:ext cx="3527640" cy="249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4" h="130">
                          <a:moveTo>
                            <a:pt x="0" y="25"/>
                          </a:moveTo>
                          <a:lnTo>
                            <a:pt x="77" y="130"/>
                          </a:lnTo>
                          <a:lnTo>
                            <a:pt x="184" y="83"/>
                          </a:lnTo>
                          <a:lnTo>
                            <a:pt x="113" y="0"/>
                          </a:lnTo>
                          <a:lnTo>
                            <a:pt x="44" y="5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3" name=""/>
                    <p:cNvSpPr/>
                    <p:nvPr/>
                  </p:nvSpPr>
                  <p:spPr>
                    <a:xfrm>
                      <a:off x="4888080" y="2122560"/>
                      <a:ext cx="2549520" cy="305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" h="159">
                          <a:moveTo>
                            <a:pt x="3" y="0"/>
                          </a:moveTo>
                          <a:lnTo>
                            <a:pt x="133" y="86"/>
                          </a:lnTo>
                          <a:lnTo>
                            <a:pt x="0" y="159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4" name=""/>
                    <p:cNvSpPr/>
                    <p:nvPr/>
                  </p:nvSpPr>
                  <p:spPr>
                    <a:xfrm>
                      <a:off x="3508200" y="2025720"/>
                      <a:ext cx="3988080" cy="318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66">
                          <a:moveTo>
                            <a:pt x="72" y="166"/>
                          </a:moveTo>
                          <a:lnTo>
                            <a:pt x="208" y="0"/>
                          </a:lnTo>
                          <a:lnTo>
                            <a:pt x="0" y="7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5" name=""/>
                    <p:cNvSpPr/>
                    <p:nvPr/>
                  </p:nvSpPr>
                  <p:spPr>
                    <a:xfrm flipH="1">
                      <a:off x="3450960" y="2103480"/>
                      <a:ext cx="1514520" cy="272412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6" name=""/>
                    <p:cNvSpPr/>
                    <p:nvPr/>
                  </p:nvSpPr>
                  <p:spPr>
                    <a:xfrm>
                      <a:off x="1360440" y="2141640"/>
                      <a:ext cx="4025880" cy="187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0" h="98">
                          <a:moveTo>
                            <a:pt x="0" y="98"/>
                          </a:moveTo>
                          <a:lnTo>
                            <a:pt x="89" y="0"/>
                          </a:lnTo>
                          <a:lnTo>
                            <a:pt x="210" y="53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7" name=""/>
                    <p:cNvSpPr/>
                    <p:nvPr/>
                  </p:nvSpPr>
                  <p:spPr>
                    <a:xfrm>
                      <a:off x="1054080" y="2217600"/>
                      <a:ext cx="1994040" cy="404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211">
                          <a:moveTo>
                            <a:pt x="57" y="129"/>
                          </a:moveTo>
                          <a:lnTo>
                            <a:pt x="0" y="211"/>
                          </a:lnTo>
                          <a:lnTo>
                            <a:pt x="104" y="0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138" name=""/>
            <p:cNvSpPr/>
            <p:nvPr/>
          </p:nvSpPr>
          <p:spPr>
            <a:xfrm>
              <a:off x="1782720" y="2390760"/>
              <a:ext cx="1111320" cy="3646440"/>
            </a:xfrm>
            <a:custGeom>
              <a:avLst/>
              <a:gdLst/>
              <a:ahLst/>
              <a:rect l="l" t="t" r="r" b="b"/>
              <a:pathLst>
                <a:path w="58" h="190">
                  <a:moveTo>
                    <a:pt x="23" y="119"/>
                  </a:moveTo>
                  <a:lnTo>
                    <a:pt x="0" y="0"/>
                  </a:lnTo>
                  <a:lnTo>
                    <a:pt x="58" y="19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9" name=""/>
          <p:cNvGrpSpPr/>
          <p:nvPr/>
        </p:nvGrpSpPr>
        <p:grpSpPr>
          <a:xfrm>
            <a:off x="1073160" y="2006640"/>
            <a:ext cx="6670800" cy="4221000"/>
            <a:chOff x="1073160" y="2006640"/>
            <a:chExt cx="6670800" cy="4221000"/>
          </a:xfrm>
        </p:grpSpPr>
        <p:sp>
          <p:nvSpPr>
            <p:cNvPr id="1140" name=""/>
            <p:cNvSpPr/>
            <p:nvPr/>
          </p:nvSpPr>
          <p:spPr>
            <a:xfrm>
              <a:off x="1073160" y="2006640"/>
              <a:ext cx="6670800" cy="4221000"/>
            </a:xfrm>
            <a:custGeom>
              <a:avLst/>
              <a:gdLst/>
              <a:ahLst/>
              <a:rect l="l" t="t" r="r" b="b"/>
              <a:pathLst>
                <a:path w="348" h="220">
                  <a:moveTo>
                    <a:pt x="37" y="22"/>
                  </a:moveTo>
                  <a:lnTo>
                    <a:pt x="107" y="9"/>
                  </a:lnTo>
                  <a:lnTo>
                    <a:pt x="204" y="6"/>
                  </a:lnTo>
                  <a:lnTo>
                    <a:pt x="339" y="0"/>
                  </a:lnTo>
                  <a:lnTo>
                    <a:pt x="227" y="60"/>
                  </a:lnTo>
                  <a:lnTo>
                    <a:pt x="129" y="80"/>
                  </a:lnTo>
                  <a:lnTo>
                    <a:pt x="14" y="106"/>
                  </a:lnTo>
                  <a:lnTo>
                    <a:pt x="60" y="138"/>
                  </a:lnTo>
                  <a:lnTo>
                    <a:pt x="124" y="149"/>
                  </a:lnTo>
                  <a:lnTo>
                    <a:pt x="201" y="167"/>
                  </a:lnTo>
                  <a:lnTo>
                    <a:pt x="265" y="116"/>
                  </a:lnTo>
                  <a:lnTo>
                    <a:pt x="334" y="90"/>
                  </a:lnTo>
                  <a:lnTo>
                    <a:pt x="348" y="177"/>
                  </a:lnTo>
                  <a:lnTo>
                    <a:pt x="249" y="211"/>
                  </a:lnTo>
                  <a:lnTo>
                    <a:pt x="93" y="212"/>
                  </a:lnTo>
                  <a:lnTo>
                    <a:pt x="0" y="220"/>
                  </a:ln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205000" y="2025720"/>
              <a:ext cx="5329440" cy="4011480"/>
            </a:xfrm>
            <a:custGeom>
              <a:avLst/>
              <a:gdLst/>
              <a:ahLst/>
              <a:rect l="l" t="t" r="r" b="b"/>
              <a:pathLst>
                <a:path w="278" h="209">
                  <a:moveTo>
                    <a:pt x="193" y="209"/>
                  </a:moveTo>
                  <a:lnTo>
                    <a:pt x="140" y="165"/>
                  </a:lnTo>
                  <a:lnTo>
                    <a:pt x="169" y="58"/>
                  </a:lnTo>
                  <a:lnTo>
                    <a:pt x="143" y="3"/>
                  </a:lnTo>
                  <a:lnTo>
                    <a:pt x="70" y="79"/>
                  </a:lnTo>
                  <a:lnTo>
                    <a:pt x="47" y="6"/>
                  </a:lnTo>
                  <a:lnTo>
                    <a:pt x="0" y="137"/>
                  </a:lnTo>
                  <a:lnTo>
                    <a:pt x="35" y="209"/>
                  </a:lnTo>
                  <a:lnTo>
                    <a:pt x="66" y="146"/>
                  </a:lnTo>
                  <a:lnTo>
                    <a:pt x="204" y="117"/>
                  </a:lnTo>
                  <a:lnTo>
                    <a:pt x="278" y="0"/>
                  </a:lnTo>
                  <a:lnTo>
                    <a:pt x="273" y="89"/>
                  </a:lnTo>
                  <a:lnTo>
                    <a:pt x="193" y="209"/>
                  </a:lnTo>
                  <a:close/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1092240" y="2390760"/>
              <a:ext cx="690480" cy="3836880"/>
            </a:xfrm>
            <a:custGeom>
              <a:avLst/>
              <a:gdLst/>
              <a:ahLst/>
              <a:rect l="l" t="t" r="r" b="b"/>
              <a:pathLst>
                <a:path w="36" h="200">
                  <a:moveTo>
                    <a:pt x="36" y="0"/>
                  </a:moveTo>
                  <a:lnTo>
                    <a:pt x="14" y="88"/>
                  </a:lnTo>
                  <a:lnTo>
                    <a:pt x="0" y="200"/>
                  </a:ln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3" name=""/>
          <p:cNvGrpSpPr/>
          <p:nvPr/>
        </p:nvGrpSpPr>
        <p:grpSpPr>
          <a:xfrm>
            <a:off x="1054080" y="1987560"/>
            <a:ext cx="6651720" cy="4259160"/>
            <a:chOff x="1054080" y="1987560"/>
            <a:chExt cx="6651720" cy="4259160"/>
          </a:xfrm>
        </p:grpSpPr>
        <p:sp>
          <p:nvSpPr>
            <p:cNvPr id="1144" name=""/>
            <p:cNvSpPr/>
            <p:nvPr/>
          </p:nvSpPr>
          <p:spPr>
            <a:xfrm>
              <a:off x="1073160" y="2390760"/>
              <a:ext cx="6364440" cy="3798720"/>
            </a:xfrm>
            <a:custGeom>
              <a:avLst/>
              <a:gdLst/>
              <a:ahLst/>
              <a:rect l="l" t="t" r="r" b="b"/>
              <a:pathLst>
                <a:path w="332" h="198">
                  <a:moveTo>
                    <a:pt x="332" y="72"/>
                  </a:moveTo>
                  <a:lnTo>
                    <a:pt x="228" y="40"/>
                  </a:lnTo>
                  <a:lnTo>
                    <a:pt x="58" y="119"/>
                  </a:lnTo>
                  <a:lnTo>
                    <a:pt x="253" y="191"/>
                  </a:lnTo>
                  <a:lnTo>
                    <a:pt x="228" y="40"/>
                  </a:lnTo>
                  <a:lnTo>
                    <a:pt x="37" y="2"/>
                  </a:lnTo>
                  <a:lnTo>
                    <a:pt x="126" y="127"/>
                  </a:lnTo>
                  <a:lnTo>
                    <a:pt x="0" y="198"/>
                  </a:lnTo>
                  <a:lnTo>
                    <a:pt x="128" y="60"/>
                  </a:lnTo>
                  <a:lnTo>
                    <a:pt x="36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1054080" y="3522600"/>
              <a:ext cx="6651720" cy="2724120"/>
            </a:xfrm>
            <a:custGeom>
              <a:avLst/>
              <a:gdLst/>
              <a:ahLst/>
              <a:rect l="l" t="t" r="r" b="b"/>
              <a:pathLst>
                <a:path w="347" h="142">
                  <a:moveTo>
                    <a:pt x="0" y="142"/>
                  </a:moveTo>
                  <a:lnTo>
                    <a:pt x="201" y="86"/>
                  </a:lnTo>
                  <a:lnTo>
                    <a:pt x="347" y="97"/>
                  </a:lnTo>
                  <a:lnTo>
                    <a:pt x="130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451320" y="1987560"/>
              <a:ext cx="4101840" cy="4106880"/>
            </a:xfrm>
            <a:custGeom>
              <a:avLst/>
              <a:gdLst/>
              <a:ahLst/>
              <a:rect l="l" t="t" r="r" b="b"/>
              <a:pathLst>
                <a:path w="214" h="214">
                  <a:moveTo>
                    <a:pt x="0" y="147"/>
                  </a:moveTo>
                  <a:lnTo>
                    <a:pt x="214" y="0"/>
                  </a:lnTo>
                  <a:lnTo>
                    <a:pt x="127" y="214"/>
                  </a:lnTo>
                  <a:lnTo>
                    <a:pt x="78" y="8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379520" y="2179440"/>
              <a:ext cx="4735440" cy="3857760"/>
            </a:xfrm>
            <a:custGeom>
              <a:avLst/>
              <a:gdLst/>
              <a:ahLst/>
              <a:rect l="l" t="t" r="r" b="b"/>
              <a:pathLst>
                <a:path w="247" h="201">
                  <a:moveTo>
                    <a:pt x="0" y="97"/>
                  </a:moveTo>
                  <a:lnTo>
                    <a:pt x="247" y="109"/>
                  </a:lnTo>
                  <a:lnTo>
                    <a:pt x="88" y="0"/>
                  </a:lnTo>
                  <a:lnTo>
                    <a:pt x="78" y="201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067200" y="2160360"/>
              <a:ext cx="3780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H="1">
              <a:off x="1399680" y="2122560"/>
              <a:ext cx="3544920" cy="189864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565440" y="3522600"/>
              <a:ext cx="3890880" cy="24912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V="1">
              <a:off x="2894040" y="2025360"/>
              <a:ext cx="4640400" cy="401148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2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1153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9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76320" y="1828800"/>
            <a:ext cx="7657920" cy="3543480"/>
          </a:xfrm>
          <a:custGeom>
            <a:avLst/>
            <a:gdLst/>
            <a:ahLst/>
            <a:rect l="l" t="t" r="r" b="b"/>
            <a:pathLst>
              <a:path w="4824" h="2232">
                <a:moveTo>
                  <a:pt x="0" y="336"/>
                </a:moveTo>
                <a:cubicBezTo>
                  <a:pt x="216" y="356"/>
                  <a:pt x="532" y="408"/>
                  <a:pt x="1056" y="384"/>
                </a:cubicBezTo>
                <a:cubicBezTo>
                  <a:pt x="1580" y="360"/>
                  <a:pt x="2688" y="0"/>
                  <a:pt x="3144" y="192"/>
                </a:cubicBezTo>
                <a:cubicBezTo>
                  <a:pt x="3600" y="384"/>
                  <a:pt x="3512" y="1196"/>
                  <a:pt x="3792" y="1536"/>
                </a:cubicBezTo>
                <a:cubicBezTo>
                  <a:pt x="4072" y="1876"/>
                  <a:pt x="4609" y="2087"/>
                  <a:pt x="4824" y="2232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609480" y="380880"/>
            <a:ext cx="7772400" cy="131292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d the Mesh is Rerouted to Adjust for Customer Dem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2" name=""/>
          <p:cNvGrpSpPr/>
          <p:nvPr/>
        </p:nvGrpSpPr>
        <p:grpSpPr>
          <a:xfrm>
            <a:off x="1600200" y="2209680"/>
            <a:ext cx="4724280" cy="2286000"/>
            <a:chOff x="1600200" y="2209680"/>
            <a:chExt cx="4724280" cy="2286000"/>
          </a:xfrm>
        </p:grpSpPr>
        <p:sp>
          <p:nvSpPr>
            <p:cNvPr id="1173" name=""/>
            <p:cNvSpPr/>
            <p:nvPr/>
          </p:nvSpPr>
          <p:spPr>
            <a:xfrm>
              <a:off x="1600200" y="2209680"/>
              <a:ext cx="380880" cy="38124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943600" y="4114800"/>
              <a:ext cx="380880" cy="3808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5" name=""/>
          <p:cNvGrpSpPr/>
          <p:nvPr/>
        </p:nvGrpSpPr>
        <p:grpSpPr>
          <a:xfrm>
            <a:off x="4800600" y="1905120"/>
            <a:ext cx="3124080" cy="3733560"/>
            <a:chOff x="4800600" y="1905120"/>
            <a:chExt cx="3124080" cy="3733560"/>
          </a:xfrm>
        </p:grpSpPr>
        <p:sp>
          <p:nvSpPr>
            <p:cNvPr id="1176" name=""/>
            <p:cNvSpPr/>
            <p:nvPr/>
          </p:nvSpPr>
          <p:spPr>
            <a:xfrm>
              <a:off x="4800600" y="1905120"/>
              <a:ext cx="380880" cy="4572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7543800" y="5181480"/>
              <a:ext cx="380880" cy="4572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8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1179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0" name=""/>
          <p:cNvGrpSpPr/>
          <p:nvPr/>
        </p:nvGrpSpPr>
        <p:grpSpPr>
          <a:xfrm>
            <a:off x="1054080" y="2025720"/>
            <a:ext cx="6670800" cy="4241520"/>
            <a:chOff x="1054080" y="2025720"/>
            <a:chExt cx="6670800" cy="4241520"/>
          </a:xfrm>
        </p:grpSpPr>
        <p:grpSp>
          <p:nvGrpSpPr>
            <p:cNvPr id="1181" name=""/>
            <p:cNvGrpSpPr/>
            <p:nvPr/>
          </p:nvGrpSpPr>
          <p:grpSpPr>
            <a:xfrm>
              <a:off x="1054080" y="2025720"/>
              <a:ext cx="6670800" cy="4241520"/>
              <a:chOff x="1054080" y="2025720"/>
              <a:chExt cx="6670800" cy="4241520"/>
            </a:xfrm>
          </p:grpSpPr>
          <p:sp>
            <p:nvSpPr>
              <p:cNvPr id="1182" name=""/>
              <p:cNvSpPr/>
              <p:nvPr/>
            </p:nvSpPr>
            <p:spPr>
              <a:xfrm>
                <a:off x="3508200" y="3541680"/>
                <a:ext cx="2568600" cy="730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83" name=""/>
              <p:cNvGrpSpPr/>
              <p:nvPr/>
            </p:nvGrpSpPr>
            <p:grpSpPr>
              <a:xfrm>
                <a:off x="1054080" y="2025720"/>
                <a:ext cx="6670800" cy="4241520"/>
                <a:chOff x="1054080" y="2025720"/>
                <a:chExt cx="6670800" cy="4241520"/>
              </a:xfrm>
            </p:grpSpPr>
            <p:sp>
              <p:nvSpPr>
                <p:cNvPr id="1184" name=""/>
                <p:cNvSpPr/>
                <p:nvPr/>
              </p:nvSpPr>
              <p:spPr>
                <a:xfrm>
                  <a:off x="5424480" y="3159000"/>
                  <a:ext cx="2300400" cy="2244600"/>
                </a:xfrm>
                <a:custGeom>
                  <a:avLst/>
                  <a:gdLst/>
                  <a:ahLst/>
                  <a:rect l="l" t="t" r="r" b="b"/>
                  <a:pathLst>
                    <a:path w="120" h="117">
                      <a:moveTo>
                        <a:pt x="36" y="58"/>
                      </a:moveTo>
                      <a:lnTo>
                        <a:pt x="120" y="11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85" name=""/>
                <p:cNvGrpSpPr/>
                <p:nvPr/>
              </p:nvGrpSpPr>
              <p:grpSpPr>
                <a:xfrm>
                  <a:off x="1054080" y="2025720"/>
                  <a:ext cx="6442200" cy="4241520"/>
                  <a:chOff x="1054080" y="2025720"/>
                  <a:chExt cx="6442200" cy="4241520"/>
                </a:xfrm>
              </p:grpSpPr>
              <p:sp>
                <p:nvSpPr>
                  <p:cNvPr id="1186" name=""/>
                  <p:cNvSpPr/>
                  <p:nvPr/>
                </p:nvSpPr>
                <p:spPr>
                  <a:xfrm flipH="1">
                    <a:off x="2855520" y="3159000"/>
                    <a:ext cx="2530440" cy="2916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7" name=""/>
                  <p:cNvSpPr/>
                  <p:nvPr/>
                </p:nvSpPr>
                <p:spPr>
                  <a:xfrm>
                    <a:off x="3508200" y="3159000"/>
                    <a:ext cx="2587680" cy="29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152">
                        <a:moveTo>
                          <a:pt x="98" y="0"/>
                        </a:moveTo>
                        <a:lnTo>
                          <a:pt x="0" y="87"/>
                        </a:lnTo>
                        <a:lnTo>
                          <a:pt x="126" y="152"/>
                        </a:lnTo>
                        <a:lnTo>
                          <a:pt x="135" y="57"/>
                        </a:lnTo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88" name=""/>
                  <p:cNvGrpSpPr/>
                  <p:nvPr/>
                </p:nvGrpSpPr>
                <p:grpSpPr>
                  <a:xfrm>
                    <a:off x="1054080" y="2025720"/>
                    <a:ext cx="6442200" cy="4241520"/>
                    <a:chOff x="1054080" y="2025720"/>
                    <a:chExt cx="6442200" cy="4241520"/>
                  </a:xfrm>
                </p:grpSpPr>
                <p:sp>
                  <p:nvSpPr>
                    <p:cNvPr id="1189" name=""/>
                    <p:cNvSpPr/>
                    <p:nvPr/>
                  </p:nvSpPr>
                  <p:spPr>
                    <a:xfrm>
                      <a:off x="1341360" y="4021200"/>
                      <a:ext cx="2090880" cy="86364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0" name=""/>
                    <p:cNvSpPr/>
                    <p:nvPr/>
                  </p:nvSpPr>
                  <p:spPr>
                    <a:xfrm>
                      <a:off x="1360440" y="3579840"/>
                      <a:ext cx="3527640" cy="249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4" h="130">
                          <a:moveTo>
                            <a:pt x="0" y="25"/>
                          </a:moveTo>
                          <a:lnTo>
                            <a:pt x="77" y="130"/>
                          </a:lnTo>
                          <a:lnTo>
                            <a:pt x="184" y="83"/>
                          </a:lnTo>
                          <a:lnTo>
                            <a:pt x="113" y="0"/>
                          </a:lnTo>
                          <a:lnTo>
                            <a:pt x="44" y="5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1" name=""/>
                    <p:cNvSpPr/>
                    <p:nvPr/>
                  </p:nvSpPr>
                  <p:spPr>
                    <a:xfrm>
                      <a:off x="4888080" y="2122560"/>
                      <a:ext cx="2549520" cy="305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" h="159">
                          <a:moveTo>
                            <a:pt x="3" y="0"/>
                          </a:moveTo>
                          <a:lnTo>
                            <a:pt x="133" y="86"/>
                          </a:lnTo>
                          <a:lnTo>
                            <a:pt x="0" y="159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2" name=""/>
                    <p:cNvSpPr/>
                    <p:nvPr/>
                  </p:nvSpPr>
                  <p:spPr>
                    <a:xfrm>
                      <a:off x="3508200" y="2025720"/>
                      <a:ext cx="3988080" cy="318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66">
                          <a:moveTo>
                            <a:pt x="72" y="166"/>
                          </a:moveTo>
                          <a:lnTo>
                            <a:pt x="208" y="0"/>
                          </a:lnTo>
                          <a:lnTo>
                            <a:pt x="0" y="7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3" name=""/>
                    <p:cNvSpPr/>
                    <p:nvPr/>
                  </p:nvSpPr>
                  <p:spPr>
                    <a:xfrm flipH="1">
                      <a:off x="3450960" y="2103480"/>
                      <a:ext cx="1514520" cy="272412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4" name=""/>
                    <p:cNvSpPr/>
                    <p:nvPr/>
                  </p:nvSpPr>
                  <p:spPr>
                    <a:xfrm>
                      <a:off x="1360440" y="2141640"/>
                      <a:ext cx="4025880" cy="187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0" h="98">
                          <a:moveTo>
                            <a:pt x="0" y="98"/>
                          </a:moveTo>
                          <a:lnTo>
                            <a:pt x="89" y="0"/>
                          </a:lnTo>
                          <a:lnTo>
                            <a:pt x="210" y="53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5" name=""/>
                    <p:cNvSpPr/>
                    <p:nvPr/>
                  </p:nvSpPr>
                  <p:spPr>
                    <a:xfrm>
                      <a:off x="1054080" y="2217600"/>
                      <a:ext cx="1994040" cy="404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211">
                          <a:moveTo>
                            <a:pt x="57" y="129"/>
                          </a:moveTo>
                          <a:lnTo>
                            <a:pt x="0" y="211"/>
                          </a:lnTo>
                          <a:lnTo>
                            <a:pt x="104" y="0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196" name=""/>
            <p:cNvSpPr/>
            <p:nvPr/>
          </p:nvSpPr>
          <p:spPr>
            <a:xfrm>
              <a:off x="1782720" y="2390760"/>
              <a:ext cx="1111320" cy="3646440"/>
            </a:xfrm>
            <a:custGeom>
              <a:avLst/>
              <a:gdLst/>
              <a:ahLst/>
              <a:rect l="l" t="t" r="r" b="b"/>
              <a:pathLst>
                <a:path w="58" h="190">
                  <a:moveTo>
                    <a:pt x="23" y="119"/>
                  </a:moveTo>
                  <a:lnTo>
                    <a:pt x="0" y="0"/>
                  </a:lnTo>
                  <a:lnTo>
                    <a:pt x="58" y="19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7" name=""/>
          <p:cNvGrpSpPr/>
          <p:nvPr/>
        </p:nvGrpSpPr>
        <p:grpSpPr>
          <a:xfrm>
            <a:off x="1073160" y="2006640"/>
            <a:ext cx="6670800" cy="4221000"/>
            <a:chOff x="1073160" y="2006640"/>
            <a:chExt cx="6670800" cy="4221000"/>
          </a:xfrm>
        </p:grpSpPr>
        <p:sp>
          <p:nvSpPr>
            <p:cNvPr id="1198" name=""/>
            <p:cNvSpPr/>
            <p:nvPr/>
          </p:nvSpPr>
          <p:spPr>
            <a:xfrm>
              <a:off x="1073160" y="2006640"/>
              <a:ext cx="6670800" cy="4221000"/>
            </a:xfrm>
            <a:custGeom>
              <a:avLst/>
              <a:gdLst/>
              <a:ahLst/>
              <a:rect l="l" t="t" r="r" b="b"/>
              <a:pathLst>
                <a:path w="348" h="220">
                  <a:moveTo>
                    <a:pt x="37" y="22"/>
                  </a:moveTo>
                  <a:lnTo>
                    <a:pt x="107" y="9"/>
                  </a:lnTo>
                  <a:lnTo>
                    <a:pt x="204" y="6"/>
                  </a:lnTo>
                  <a:lnTo>
                    <a:pt x="339" y="0"/>
                  </a:lnTo>
                  <a:lnTo>
                    <a:pt x="227" y="60"/>
                  </a:lnTo>
                  <a:lnTo>
                    <a:pt x="129" y="80"/>
                  </a:lnTo>
                  <a:lnTo>
                    <a:pt x="14" y="106"/>
                  </a:lnTo>
                  <a:lnTo>
                    <a:pt x="60" y="138"/>
                  </a:lnTo>
                  <a:lnTo>
                    <a:pt x="124" y="149"/>
                  </a:lnTo>
                  <a:lnTo>
                    <a:pt x="201" y="167"/>
                  </a:lnTo>
                  <a:lnTo>
                    <a:pt x="265" y="116"/>
                  </a:lnTo>
                  <a:lnTo>
                    <a:pt x="334" y="90"/>
                  </a:lnTo>
                  <a:lnTo>
                    <a:pt x="348" y="177"/>
                  </a:lnTo>
                  <a:lnTo>
                    <a:pt x="249" y="211"/>
                  </a:lnTo>
                  <a:lnTo>
                    <a:pt x="93" y="212"/>
                  </a:lnTo>
                  <a:lnTo>
                    <a:pt x="0" y="220"/>
                  </a:ln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205000" y="2025720"/>
              <a:ext cx="5329440" cy="4011480"/>
            </a:xfrm>
            <a:custGeom>
              <a:avLst/>
              <a:gdLst/>
              <a:ahLst/>
              <a:rect l="l" t="t" r="r" b="b"/>
              <a:pathLst>
                <a:path w="278" h="209">
                  <a:moveTo>
                    <a:pt x="193" y="209"/>
                  </a:moveTo>
                  <a:lnTo>
                    <a:pt x="140" y="165"/>
                  </a:lnTo>
                  <a:lnTo>
                    <a:pt x="169" y="58"/>
                  </a:lnTo>
                  <a:lnTo>
                    <a:pt x="143" y="3"/>
                  </a:lnTo>
                  <a:lnTo>
                    <a:pt x="70" y="79"/>
                  </a:lnTo>
                  <a:lnTo>
                    <a:pt x="47" y="6"/>
                  </a:lnTo>
                  <a:lnTo>
                    <a:pt x="0" y="137"/>
                  </a:lnTo>
                  <a:lnTo>
                    <a:pt x="35" y="209"/>
                  </a:lnTo>
                  <a:lnTo>
                    <a:pt x="66" y="146"/>
                  </a:lnTo>
                  <a:lnTo>
                    <a:pt x="204" y="117"/>
                  </a:lnTo>
                  <a:lnTo>
                    <a:pt x="278" y="0"/>
                  </a:lnTo>
                  <a:lnTo>
                    <a:pt x="273" y="89"/>
                  </a:lnTo>
                  <a:lnTo>
                    <a:pt x="193" y="209"/>
                  </a:lnTo>
                  <a:close/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1092240" y="2390760"/>
              <a:ext cx="690480" cy="3836880"/>
            </a:xfrm>
            <a:custGeom>
              <a:avLst/>
              <a:gdLst/>
              <a:ahLst/>
              <a:rect l="l" t="t" r="r" b="b"/>
              <a:pathLst>
                <a:path w="36" h="200">
                  <a:moveTo>
                    <a:pt x="36" y="0"/>
                  </a:moveTo>
                  <a:lnTo>
                    <a:pt x="14" y="88"/>
                  </a:lnTo>
                  <a:lnTo>
                    <a:pt x="0" y="200"/>
                  </a:ln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1" name=""/>
          <p:cNvGrpSpPr/>
          <p:nvPr/>
        </p:nvGrpSpPr>
        <p:grpSpPr>
          <a:xfrm>
            <a:off x="1054080" y="1987560"/>
            <a:ext cx="6651720" cy="4259160"/>
            <a:chOff x="1054080" y="1987560"/>
            <a:chExt cx="6651720" cy="4259160"/>
          </a:xfrm>
        </p:grpSpPr>
        <p:sp>
          <p:nvSpPr>
            <p:cNvPr id="1202" name=""/>
            <p:cNvSpPr/>
            <p:nvPr/>
          </p:nvSpPr>
          <p:spPr>
            <a:xfrm>
              <a:off x="1073160" y="2390760"/>
              <a:ext cx="6364440" cy="3798720"/>
            </a:xfrm>
            <a:custGeom>
              <a:avLst/>
              <a:gdLst/>
              <a:ahLst/>
              <a:rect l="l" t="t" r="r" b="b"/>
              <a:pathLst>
                <a:path w="332" h="198">
                  <a:moveTo>
                    <a:pt x="332" y="72"/>
                  </a:moveTo>
                  <a:lnTo>
                    <a:pt x="228" y="40"/>
                  </a:lnTo>
                  <a:lnTo>
                    <a:pt x="58" y="119"/>
                  </a:lnTo>
                  <a:lnTo>
                    <a:pt x="253" y="191"/>
                  </a:lnTo>
                  <a:lnTo>
                    <a:pt x="228" y="40"/>
                  </a:lnTo>
                  <a:lnTo>
                    <a:pt x="37" y="2"/>
                  </a:lnTo>
                  <a:lnTo>
                    <a:pt x="126" y="127"/>
                  </a:lnTo>
                  <a:lnTo>
                    <a:pt x="0" y="198"/>
                  </a:lnTo>
                  <a:lnTo>
                    <a:pt x="128" y="60"/>
                  </a:lnTo>
                  <a:lnTo>
                    <a:pt x="36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1054080" y="3522600"/>
              <a:ext cx="6651720" cy="2724120"/>
            </a:xfrm>
            <a:custGeom>
              <a:avLst/>
              <a:gdLst/>
              <a:ahLst/>
              <a:rect l="l" t="t" r="r" b="b"/>
              <a:pathLst>
                <a:path w="347" h="142">
                  <a:moveTo>
                    <a:pt x="0" y="142"/>
                  </a:moveTo>
                  <a:lnTo>
                    <a:pt x="201" y="86"/>
                  </a:lnTo>
                  <a:lnTo>
                    <a:pt x="347" y="97"/>
                  </a:lnTo>
                  <a:lnTo>
                    <a:pt x="130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3451320" y="1987560"/>
              <a:ext cx="4101840" cy="4106880"/>
            </a:xfrm>
            <a:custGeom>
              <a:avLst/>
              <a:gdLst/>
              <a:ahLst/>
              <a:rect l="l" t="t" r="r" b="b"/>
              <a:pathLst>
                <a:path w="214" h="214">
                  <a:moveTo>
                    <a:pt x="0" y="147"/>
                  </a:moveTo>
                  <a:lnTo>
                    <a:pt x="214" y="0"/>
                  </a:lnTo>
                  <a:lnTo>
                    <a:pt x="127" y="214"/>
                  </a:lnTo>
                  <a:lnTo>
                    <a:pt x="78" y="8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1379520" y="2179440"/>
              <a:ext cx="4735440" cy="3857760"/>
            </a:xfrm>
            <a:custGeom>
              <a:avLst/>
              <a:gdLst/>
              <a:ahLst/>
              <a:rect l="l" t="t" r="r" b="b"/>
              <a:pathLst>
                <a:path w="247" h="201">
                  <a:moveTo>
                    <a:pt x="0" y="97"/>
                  </a:moveTo>
                  <a:lnTo>
                    <a:pt x="247" y="109"/>
                  </a:lnTo>
                  <a:lnTo>
                    <a:pt x="88" y="0"/>
                  </a:lnTo>
                  <a:lnTo>
                    <a:pt x="78" y="201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3067200" y="2160360"/>
              <a:ext cx="3780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 flipH="1">
              <a:off x="1399680" y="2122560"/>
              <a:ext cx="3544920" cy="189864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3565440" y="3522600"/>
              <a:ext cx="3890880" cy="24912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V="1">
              <a:off x="2894040" y="2025360"/>
              <a:ext cx="4640400" cy="401148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0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1211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7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mise of Mesh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9" name="" descr=""/>
          <p:cNvPicPr/>
          <p:nvPr/>
        </p:nvPicPr>
        <p:blipFill>
          <a:blip r:embed="rId2"/>
          <a:stretch/>
        </p:blipFill>
        <p:spPr>
          <a:xfrm>
            <a:off x="3962520" y="2220840"/>
            <a:ext cx="612720" cy="1371600"/>
          </a:xfrm>
          <a:prstGeom prst="rect">
            <a:avLst/>
          </a:prstGeom>
          <a:ln w="0">
            <a:noFill/>
          </a:ln>
        </p:spPr>
      </p:pic>
      <p:sp>
        <p:nvSpPr>
          <p:cNvPr id="1230" name=""/>
          <p:cNvSpPr/>
          <p:nvPr/>
        </p:nvSpPr>
        <p:spPr>
          <a:xfrm>
            <a:off x="76320" y="1828800"/>
            <a:ext cx="7657920" cy="3543480"/>
          </a:xfrm>
          <a:custGeom>
            <a:avLst/>
            <a:gdLst/>
            <a:ahLst/>
            <a:rect l="l" t="t" r="r" b="b"/>
            <a:pathLst>
              <a:path w="4824" h="2232">
                <a:moveTo>
                  <a:pt x="0" y="336"/>
                </a:moveTo>
                <a:cubicBezTo>
                  <a:pt x="216" y="356"/>
                  <a:pt x="532" y="408"/>
                  <a:pt x="1056" y="384"/>
                </a:cubicBezTo>
                <a:cubicBezTo>
                  <a:pt x="1580" y="360"/>
                  <a:pt x="2688" y="0"/>
                  <a:pt x="3144" y="192"/>
                </a:cubicBezTo>
                <a:cubicBezTo>
                  <a:pt x="3600" y="384"/>
                  <a:pt x="3512" y="1196"/>
                  <a:pt x="3792" y="1536"/>
                </a:cubicBezTo>
                <a:cubicBezTo>
                  <a:pt x="4072" y="1876"/>
                  <a:pt x="4609" y="2087"/>
                  <a:pt x="4824" y="2232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1" name="rmesh" descr=""/>
          <p:cNvPicPr/>
          <p:nvPr/>
        </p:nvPicPr>
        <p:blipFill>
          <a:blip r:embed="rId1"/>
          <a:stretch/>
        </p:blipFill>
        <p:spPr>
          <a:xfrm>
            <a:off x="380880" y="1865160"/>
            <a:ext cx="8153640" cy="4687920"/>
          </a:xfrm>
          <a:prstGeom prst="rect">
            <a:avLst/>
          </a:prstGeom>
          <a:ln w="0">
            <a:noFill/>
          </a:ln>
        </p:spPr>
      </p:pic>
      <p:sp>
        <p:nvSpPr>
          <p:cNvPr id="1232" name=""/>
          <p:cNvSpPr/>
          <p:nvPr/>
        </p:nvSpPr>
        <p:spPr>
          <a:xfrm>
            <a:off x="1295280" y="2646360"/>
            <a:ext cx="54104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 ‘Line of Sigh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1295280" y="3352680"/>
            <a:ext cx="54104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er C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1295280" y="4114800"/>
            <a:ext cx="54104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 - 9’s  Reliability  - ‘QoS’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1295280" y="4876920"/>
            <a:ext cx="541044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ndant Rout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mise of Mesh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1295280" y="1905120"/>
            <a:ext cx="541044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ater Customer Re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8" name="" descr=""/>
          <p:cNvPicPr/>
          <p:nvPr/>
        </p:nvPicPr>
        <p:blipFill>
          <a:blip r:embed="rId2"/>
          <a:stretch/>
        </p:blipFill>
        <p:spPr>
          <a:xfrm>
            <a:off x="10667880" y="525780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1239" name=""/>
          <p:cNvSpPr/>
          <p:nvPr/>
        </p:nvSpPr>
        <p:spPr>
          <a:xfrm>
            <a:off x="1295280" y="5638680"/>
            <a:ext cx="54104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t Low Cost Install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 txBox="1"/>
          <p:nvPr/>
        </p:nvSpPr>
        <p:spPr>
          <a:xfrm>
            <a:off x="609480" y="2209680"/>
            <a:ext cx="762012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nd Much Mo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1" name="green%20bay%20by%20air" descr=""/>
          <p:cNvPicPr/>
          <p:nvPr/>
        </p:nvPicPr>
        <p:blipFill>
          <a:blip r:embed="rId1"/>
          <a:stretch/>
        </p:blipFill>
        <p:spPr>
          <a:xfrm>
            <a:off x="-914400" y="0"/>
            <a:ext cx="10439280" cy="6956280"/>
          </a:xfrm>
          <a:prstGeom prst="rect">
            <a:avLst/>
          </a:prstGeom>
          <a:ln w="0">
            <a:noFill/>
          </a:ln>
        </p:spPr>
      </p:pic>
      <p:sp>
        <p:nvSpPr>
          <p:cNvPr id="1242" name=""/>
          <p:cNvSpPr txBox="1"/>
          <p:nvPr/>
        </p:nvSpPr>
        <p:spPr>
          <a:xfrm>
            <a:off x="838080" y="476280"/>
            <a:ext cx="7620120" cy="1352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e Beleive MeshWork's 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for Nsight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3" name="cowclose" descr=""/>
          <p:cNvPicPr/>
          <p:nvPr/>
        </p:nvPicPr>
        <p:blipFill>
          <a:blip r:embed="rId1"/>
          <a:stretch/>
        </p:blipFill>
        <p:spPr>
          <a:xfrm>
            <a:off x="488880" y="0"/>
            <a:ext cx="4159440" cy="6019920"/>
          </a:xfrm>
          <a:prstGeom prst="rect">
            <a:avLst/>
          </a:prstGeom>
          <a:ln w="0">
            <a:noFill/>
          </a:ln>
        </p:spPr>
      </p:pic>
      <p:sp>
        <p:nvSpPr>
          <p:cNvPr id="1244" name=""/>
          <p:cNvSpPr/>
          <p:nvPr/>
        </p:nvSpPr>
        <p:spPr>
          <a:xfrm>
            <a:off x="4683600" y="532800"/>
            <a:ext cx="4153680" cy="55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from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Heartlan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Amer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Wisconsin, US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America’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Dairyl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196360" y="6018840"/>
            <a:ext cx="40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b’s e-mail - ceo@netnet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A TIER 2 - 3 CITY LOOK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GREENBAY1" descr=""/>
          <p:cNvPicPr/>
          <p:nvPr/>
        </p:nvPicPr>
        <p:blipFill>
          <a:blip r:embed="rId1"/>
          <a:stretch/>
        </p:blipFill>
        <p:spPr>
          <a:xfrm>
            <a:off x="2286000" y="1924200"/>
            <a:ext cx="6249960" cy="46875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80880" y="2286000"/>
            <a:ext cx="1828800" cy="39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y do have a lot of residential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pocket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SME</a:t>
            </a:r>
            <a:r>
              <a:rPr b="0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1905120"/>
            <a:ext cx="6248520" cy="3962160"/>
          </a:xfrm>
          <a:custGeom>
            <a:avLst/>
            <a:gdLst/>
            <a:ahLst/>
            <a:rect l="l" t="t" r="r" b="b"/>
            <a:pathLst>
              <a:path w="3936" h="2496">
                <a:moveTo>
                  <a:pt x="0" y="0"/>
                </a:moveTo>
                <a:lnTo>
                  <a:pt x="3936" y="0"/>
                </a:lnTo>
                <a:lnTo>
                  <a:pt x="3936" y="1584"/>
                </a:lnTo>
                <a:lnTo>
                  <a:pt x="3312" y="2496"/>
                </a:lnTo>
                <a:lnTo>
                  <a:pt x="1344" y="1536"/>
                </a:lnTo>
                <a:lnTo>
                  <a:pt x="816" y="720"/>
                </a:lnTo>
                <a:lnTo>
                  <a:pt x="480" y="1104"/>
                </a:lnTo>
                <a:lnTo>
                  <a:pt x="3" y="8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3733920"/>
            <a:ext cx="1609560" cy="2590560"/>
          </a:xfrm>
          <a:custGeom>
            <a:avLst/>
            <a:gdLst/>
            <a:ahLst/>
            <a:rect l="l" t="t" r="r" b="b"/>
            <a:pathLst>
              <a:path w="1014" h="1632">
                <a:moveTo>
                  <a:pt x="0" y="0"/>
                </a:moveTo>
                <a:lnTo>
                  <a:pt x="1014" y="480"/>
                </a:lnTo>
                <a:lnTo>
                  <a:pt x="576" y="1488"/>
                </a:lnTo>
                <a:lnTo>
                  <a:pt x="192" y="1296"/>
                </a:lnTo>
                <a:lnTo>
                  <a:pt x="0" y="16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90760" y="5029200"/>
            <a:ext cx="1662120" cy="1581120"/>
          </a:xfrm>
          <a:custGeom>
            <a:avLst/>
            <a:gdLst/>
            <a:ahLst/>
            <a:rect l="l" t="t" r="r" b="b"/>
            <a:pathLst>
              <a:path w="1047" h="996">
                <a:moveTo>
                  <a:pt x="423" y="0"/>
                </a:moveTo>
                <a:lnTo>
                  <a:pt x="0" y="993"/>
                </a:lnTo>
                <a:lnTo>
                  <a:pt x="702" y="996"/>
                </a:lnTo>
                <a:lnTo>
                  <a:pt x="1047" y="288"/>
                </a:lnTo>
                <a:lnTo>
                  <a:pt x="423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1320" y="3048120"/>
            <a:ext cx="6253200" cy="3581280"/>
          </a:xfrm>
          <a:custGeom>
            <a:avLst/>
            <a:gdLst/>
            <a:ahLst/>
            <a:rect l="l" t="t" r="r" b="b"/>
            <a:pathLst>
              <a:path w="3939" h="2256">
                <a:moveTo>
                  <a:pt x="9" y="120"/>
                </a:moveTo>
                <a:lnTo>
                  <a:pt x="483" y="384"/>
                </a:lnTo>
                <a:lnTo>
                  <a:pt x="819" y="0"/>
                </a:lnTo>
                <a:lnTo>
                  <a:pt x="1347" y="816"/>
                </a:lnTo>
                <a:lnTo>
                  <a:pt x="3315" y="1776"/>
                </a:lnTo>
                <a:lnTo>
                  <a:pt x="3939" y="864"/>
                </a:lnTo>
                <a:lnTo>
                  <a:pt x="3939" y="2256"/>
                </a:lnTo>
                <a:lnTo>
                  <a:pt x="1278" y="2241"/>
                </a:lnTo>
                <a:lnTo>
                  <a:pt x="1683" y="1536"/>
                </a:lnTo>
                <a:lnTo>
                  <a:pt x="1059" y="1248"/>
                </a:lnTo>
                <a:lnTo>
                  <a:pt x="633" y="2241"/>
                </a:lnTo>
                <a:lnTo>
                  <a:pt x="0" y="2241"/>
                </a:lnTo>
                <a:lnTo>
                  <a:pt x="3" y="2064"/>
                </a:lnTo>
                <a:lnTo>
                  <a:pt x="195" y="1728"/>
                </a:lnTo>
                <a:lnTo>
                  <a:pt x="579" y="1920"/>
                </a:lnTo>
                <a:lnTo>
                  <a:pt x="1011" y="912"/>
                </a:lnTo>
                <a:lnTo>
                  <a:pt x="3" y="432"/>
                </a:lnTo>
                <a:lnTo>
                  <a:pt x="9" y="12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752480" y="4038480"/>
            <a:ext cx="1752840" cy="9907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52480" y="4952880"/>
            <a:ext cx="4191120" cy="13716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cellcom" descr=""/>
          <p:cNvPicPr/>
          <p:nvPr/>
        </p:nvPicPr>
        <p:blipFill>
          <a:blip r:embed="rId1"/>
          <a:stretch/>
        </p:blipFill>
        <p:spPr>
          <a:xfrm>
            <a:off x="2057400" y="1905120"/>
            <a:ext cx="6324480" cy="50590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A TIER 2 - 3 CITY LOOK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2286000"/>
            <a:ext cx="1600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Not very many tall build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cellcom" descr=""/>
          <p:cNvPicPr/>
          <p:nvPr/>
        </p:nvPicPr>
        <p:blipFill>
          <a:blip r:embed="rId1"/>
          <a:stretch/>
        </p:blipFill>
        <p:spPr>
          <a:xfrm>
            <a:off x="2057400" y="1905120"/>
            <a:ext cx="6324480" cy="50590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A TIER 2 - 3 CITY LOOK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corporate" descr=""/>
          <p:cNvPicPr/>
          <p:nvPr/>
        </p:nvPicPr>
        <p:blipFill>
          <a:blip r:embed="rId2"/>
          <a:stretch/>
        </p:blipFill>
        <p:spPr>
          <a:xfrm>
            <a:off x="1600200" y="2243160"/>
            <a:ext cx="4343400" cy="3697200"/>
          </a:xfrm>
          <a:prstGeom prst="rect">
            <a:avLst/>
          </a:prstGeom>
          <a:ln w="0">
            <a:noFill/>
          </a:ln>
        </p:spPr>
      </p:pic>
      <p:pic>
        <p:nvPicPr>
          <p:cNvPr id="82" name="oldhouse2" descr=""/>
          <p:cNvPicPr/>
          <p:nvPr/>
        </p:nvPicPr>
        <p:blipFill>
          <a:blip r:embed="rId3"/>
          <a:stretch/>
        </p:blipFill>
        <p:spPr>
          <a:xfrm>
            <a:off x="4572000" y="1981080"/>
            <a:ext cx="3200400" cy="30196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343400" y="1676520"/>
            <a:ext cx="2133720" cy="365760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809880" y="2895480"/>
            <a:ext cx="325764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77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Trees block LMD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209680"/>
            <a:ext cx="1295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ost are one and two stories t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Blind Spot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dia3" descr=""/>
          <p:cNvPicPr/>
          <p:nvPr/>
        </p:nvPicPr>
        <p:blipFill>
          <a:blip r:embed="rId1"/>
          <a:stretch/>
        </p:blipFill>
        <p:spPr>
          <a:xfrm>
            <a:off x="533520" y="1911240"/>
            <a:ext cx="8076960" cy="42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E LOVE OUR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green%20bay%20section%20air" descr=""/>
          <p:cNvPicPr/>
          <p:nvPr/>
        </p:nvPicPr>
        <p:blipFill>
          <a:blip r:embed="rId1"/>
          <a:stretch/>
        </p:blipFill>
        <p:spPr>
          <a:xfrm>
            <a:off x="2133720" y="1905120"/>
            <a:ext cx="6400800" cy="46479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80880" y="2209680"/>
            <a:ext cx="167652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mall towns   love       our     </a:t>
            </a:r>
            <a:r>
              <a:rPr b="1" i="1" lang="en-US" sz="3600" spc="-1" strike="noStrike" u="sng">
                <a:solidFill>
                  <a:srgbClr val="ff3300"/>
                </a:solidFill>
                <a:uFillTx/>
                <a:latin typeface="Times New Roman"/>
              </a:rPr>
              <a:t>Tre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nd we have lots of trees in Wiscons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4T15:29:58Z</dcterms:created>
  <dc:creator>Cellcom</dc:creator>
  <dc:description/>
  <dc:language>en-US</dc:language>
  <cp:lastModifiedBy>Cellcom</cp:lastModifiedBy>
  <dcterms:modified xsi:type="dcterms:W3CDTF">2002-02-06T13:52:17Z</dcterms:modified>
  <cp:revision>7</cp:revision>
  <dc:subject/>
  <dc:title>No Slide Title</dc:title>
</cp:coreProperties>
</file>