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3B41C-261E-4F07-B707-D9585218C7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715E9-9FF0-4D2B-9C45-ACD83D1EB5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1E938-8594-4BAE-9F54-3452E5993E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05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3344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77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05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3344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C3AF3-17FC-4B80-BD60-26CF376175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77800" y="658800"/>
            <a:ext cx="777240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D1829-DA40-40FD-A65F-D301B40C13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05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3344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77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05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83344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A1E26-6E23-4C5A-9277-143685BC7B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5D3CC-3A03-496D-9407-6B7663B59F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2B294-7463-4CD0-9E2E-971C60AA2A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77800" y="658800"/>
            <a:ext cx="777240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F9AA8-0A40-4F8B-873F-ED9597419E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17495-09E1-4620-A19A-3863D837A2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C9E0C-8417-486A-BAC8-067C6D9B4D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39507-A761-469B-8D56-ECBD5E3CD1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120" y="6413400"/>
            <a:ext cx="325440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81120" y="6315120"/>
            <a:ext cx="7778520" cy="7452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253120" y="6413400"/>
            <a:ext cx="320652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124080" y="6339960"/>
            <a:ext cx="2895840" cy="2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66cc"/>
                </a:solidFill>
                <a:latin typeface="Arial Condensed Bold"/>
              </a:rPr>
              <a:t>BWWF ‘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622920" y="6491160"/>
            <a:ext cx="179712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E301-5229-497F-92DF-7C0F8CE085AA}" type="slidenum">
              <a:rPr b="0" i="1" lang="en-US" sz="1200" spc="-1" strike="noStrike">
                <a:solidFill>
                  <a:srgbClr val="3366cc"/>
                </a:solidFill>
                <a:latin typeface="Arial Condense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433440" y="687240"/>
            <a:ext cx="84240" cy="3316320"/>
            <a:chOff x="433440" y="687240"/>
            <a:chExt cx="84240" cy="3316320"/>
          </a:xfrm>
        </p:grpSpPr>
        <p:sp>
          <p:nvSpPr>
            <p:cNvPr id="8" name=""/>
            <p:cNvSpPr/>
            <p:nvPr/>
          </p:nvSpPr>
          <p:spPr>
            <a:xfrm rot="16200000">
              <a:off x="-1176840" y="2307240"/>
              <a:ext cx="3314880" cy="7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433440" y="692280"/>
              <a:ext cx="0" cy="331128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565200" y="1187280"/>
            <a:ext cx="7804080" cy="0"/>
          </a:xfrm>
          <a:prstGeom prst="line">
            <a:avLst/>
          </a:prstGeom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Logo%20med" descr=""/>
          <p:cNvPicPr/>
          <p:nvPr/>
        </p:nvPicPr>
        <p:blipFill>
          <a:blip r:embed="rId2"/>
          <a:stretch/>
        </p:blipFill>
        <p:spPr>
          <a:xfrm>
            <a:off x="7310520" y="309600"/>
            <a:ext cx="1442880" cy="56196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596880" y="64371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cc"/>
                </a:solidFill>
                <a:latin typeface="Arial Condensed Bold"/>
              </a:rPr>
              <a:t>Feb 12-14, 2002, Anaheim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1120" y="6413400"/>
            <a:ext cx="325440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647800"/>
            <a:ext cx="77724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3"/>
          </p:nvPr>
        </p:nvSpPr>
        <p:spPr>
          <a:xfrm>
            <a:off x="3117600" y="6324480"/>
            <a:ext cx="2895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66cc"/>
                </a:solidFill>
                <a:latin typeface="Arial Condensed Bold"/>
              </a:rPr>
              <a:t>BWWF ‘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1120" y="2540160"/>
            <a:ext cx="7778520" cy="745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3120" y="6413400"/>
            <a:ext cx="320652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%20med" descr=""/>
          <p:cNvPicPr/>
          <p:nvPr/>
        </p:nvPicPr>
        <p:blipFill>
          <a:blip r:embed="rId2"/>
          <a:stretch/>
        </p:blipFill>
        <p:spPr>
          <a:xfrm>
            <a:off x="6138720" y="254160"/>
            <a:ext cx="2262240" cy="880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96880" y="6437160"/>
            <a:ext cx="307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cc"/>
                </a:solidFill>
                <a:latin typeface="Arial Condensed Bold"/>
              </a:rPr>
              <a:t>Feb 12-14, 2002, Anaheim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657440"/>
            <a:ext cx="8153280" cy="16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 Black"/>
              </a:rPr>
              <a:t>Non Line-of-Sight in Microwave Bands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81160" y="4235040"/>
            <a:ext cx="6400800" cy="11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Palatino"/>
              </a:rPr>
              <a:t>Multicell Network Architecture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 Black"/>
              </a:rPr>
              <a:t>Metro Coverage Design Example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3000" y="1277640"/>
            <a:ext cx="34542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ctorized cellular layou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quirements me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LOS cover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requency reus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r this marke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Use existing site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o new constructi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070520" y="1278000"/>
            <a:ext cx="4279680" cy="497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8FE01-8B32-4932-9775-57EB4CE8AA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NLOS Cellular Reuse Analysi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08160" y="1328760"/>
            <a:ext cx="2946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TD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 RF channels, scalable cellular coverage &amp; capacity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In-building, user installable CP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ell area &gt; PC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ost users capable of higher-order modulati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68160" y="1332000"/>
          <a:ext cx="5000760" cy="424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332000"/>
                    <a:ext cx="5000760" cy="42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330560" y="520524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P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587600" y="4673160"/>
            <a:ext cx="35568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15560" y="52052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Q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273400" y="4203720"/>
            <a:ext cx="88920" cy="10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76160" y="52052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4 Q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2755440" y="3530160"/>
            <a:ext cx="16524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6E9B2-7F8B-41C1-8707-80DDE07333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Adaptive Modulation Benefit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1104840" y="1270080"/>
            <a:ext cx="756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727280" y="1422360"/>
          <a:ext cx="6210360" cy="2282760"/>
        </p:xfrm>
        <a:graphic>
          <a:graphicData uri="http://schemas.openxmlformats.org/drawingml/2006/table">
            <a:tbl>
              <a:tblPr/>
              <a:tblGrid>
                <a:gridCol w="1000080"/>
                <a:gridCol w="1222200"/>
                <a:gridCol w="1339920"/>
                <a:gridCol w="1487520"/>
                <a:gridCol w="1160640"/>
              </a:tblGrid>
              <a:tr h="1008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OFDM Subcarrier Modulations Suppor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Average available transmit rate, bps/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QP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16-Q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64-Q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Down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Up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041480" y="4406760"/>
            <a:ext cx="711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20880" y="3889440"/>
            <a:ext cx="689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NLOS C/(N+I) analysi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% capacity increase with two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% capacity increase with three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50960" y="3249720"/>
            <a:ext cx="41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C17A7-23E5-4A03-B8A5-BD240CCFB9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 Black"/>
              </a:rPr>
              <a:t>Multiple Access with NLOS OFDM</a:t>
            </a:r>
            <a:endParaRPr b="0" lang="en-US" sz="2400" spc="-1" strike="noStrike">
              <a:solidFill>
                <a:srgbClr val="3366cc"/>
              </a:solidFill>
              <a:latin typeface="Arial Black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483000" y="1641600"/>
          <a:ext cx="5124600" cy="32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83000" y="1641600"/>
                    <a:ext cx="5124600" cy="32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8960" y="1645920"/>
            <a:ext cx="2832120" cy="21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al overhead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t-switched,      random acces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utilization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ellent stability in bursty data traffi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AB861-490D-4F34-89F6-471A1A04F6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NLOS OFDM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7800" y="12902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OFDM advant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mple equalization, no ISI in multipath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atural fit for NLO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upports adaptive modul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457200" indent="-45720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ireless wide-area OFDM syste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, LAN-like acce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ractical cellular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er-installable CP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A4C8B-C1D4-454A-BBF1-742595EF19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ontact Information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extNet Wireless,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9555 James Ave. South, Suite 270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Minneapolis, MN 55431  US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ww.nextnetwireless.co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hone: 952-929-4008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-mail: info@nextnetwireless.co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9A188-1A75-4123-AA5D-C8088B3944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Second Generation Goal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on–line of sight (NLOS) 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ach all customers in coverage are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er-installable subscriber equipment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roadband wide-area net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AN-like throughput &amp; multiple acce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 for residential and business u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fficient Frequency Reuse - Bits / Hz / Acre / $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lexible system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C2134-9BCF-4129-817F-F301FC7CB5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hallenge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gnal power at the recei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roughput / Capac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performance with low number of channel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calable cellular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elay spread – multipath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LOS oper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mplexity and cost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7FD31-FAF6-4AE1-A9A8-0B8978C2A9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hallenge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gnal power at the recei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ownstrea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Transmitter Pow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pstrea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Transmitter Pow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68205-5883-46A9-8E98-61E693326D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416400" y="151776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 Black"/>
              </a:rPr>
              <a:t>NLOS Throughput vs. Distance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23600" y="1303200"/>
            <a:ext cx="3187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gulator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ath lo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pper bound for throughput varies with distance from 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4" name=""/>
          <p:cNvSpPr/>
          <p:nvPr/>
        </p:nvSpPr>
        <p:spPr>
          <a:xfrm>
            <a:off x="4855680" y="2278080"/>
            <a:ext cx="11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rec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scr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40120" y="4286160"/>
            <a:ext cx="152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mn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scr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43520" y="263988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DM &amp; 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8840" y="44308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S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27560" y="1324080"/>
            <a:ext cx="35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urban Path Loss Mode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B8E5C-2E6D-45E3-81B4-198C2B083C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35160" y="1467000"/>
            <a:ext cx="5651640" cy="41907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ell Capacity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77800" y="1315800"/>
            <a:ext cx="30988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ell capacity a function of cell size, modul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esign choices lead to different capacity and coverage characteristic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2" name=""/>
          <p:cNvSpPr/>
          <p:nvPr/>
        </p:nvSpPr>
        <p:spPr>
          <a:xfrm>
            <a:off x="5205960" y="2127240"/>
            <a:ext cx="155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DM/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95240" y="3765600"/>
            <a:ext cx="95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A6C3D-483B-499A-84F0-796746CA52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7800" y="48096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ell </a:t>
            </a:r>
            <a:br>
              <a:rPr sz="3200"/>
            </a:b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overage/Capacity Comparison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211400" y="1943280"/>
            <a:ext cx="6708600" cy="558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89240" y="2043000"/>
            <a:ext cx="6200640" cy="38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4400" y="3822840"/>
            <a:ext cx="3179880" cy="558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06840" y="3935520"/>
            <a:ext cx="1935000" cy="358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543640" y="2238480"/>
            <a:ext cx="2047680" cy="18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162480" y="2224080"/>
            <a:ext cx="1763640" cy="18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09600" y="2227320"/>
            <a:ext cx="177660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90680" y="2238480"/>
            <a:ext cx="2217600" cy="187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5240" y="1581120"/>
            <a:ext cx="0" cy="339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6080" y="1582560"/>
            <a:ext cx="0" cy="59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39840" y="1441440"/>
            <a:ext cx="13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to 32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1582560"/>
            <a:ext cx="1000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438000" y="1582560"/>
            <a:ext cx="1140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13320" y="4191120"/>
            <a:ext cx="0" cy="51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984400" y="419220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09920" y="4565520"/>
            <a:ext cx="13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- 2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81320" y="4851360"/>
            <a:ext cx="115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– 3.5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984040" y="49798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32440" y="497988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614840" y="470700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71760" y="4707000"/>
            <a:ext cx="241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6440" y="206388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7800" y="394956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30440" y="2076480"/>
            <a:ext cx="14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97280" y="3962520"/>
            <a:ext cx="9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21240" y="3962520"/>
            <a:ext cx="98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2076480"/>
            <a:ext cx="10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82560" y="5761080"/>
            <a:ext cx="2541600" cy="517680"/>
            <a:chOff x="682560" y="5761080"/>
            <a:chExt cx="2541600" cy="517680"/>
          </a:xfrm>
        </p:grpSpPr>
        <p:grpSp>
          <p:nvGrpSpPr>
            <p:cNvPr id="143" name=""/>
            <p:cNvGrpSpPr/>
            <p:nvPr/>
          </p:nvGrpSpPr>
          <p:grpSpPr>
            <a:xfrm>
              <a:off x="682560" y="5761080"/>
              <a:ext cx="2541600" cy="276480"/>
              <a:chOff x="682560" y="5761080"/>
              <a:chExt cx="2541600" cy="276480"/>
            </a:xfrm>
          </p:grpSpPr>
          <p:sp>
            <p:nvSpPr>
              <p:cNvPr id="144" name=""/>
              <p:cNvSpPr/>
              <p:nvPr/>
            </p:nvSpPr>
            <p:spPr>
              <a:xfrm>
                <a:off x="682560" y="5829480"/>
                <a:ext cx="317520" cy="1508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09800" y="5761080"/>
                <a:ext cx="2214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 Directional  Antenna C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695520" y="6002280"/>
              <a:ext cx="2210760" cy="276480"/>
              <a:chOff x="695520" y="6002280"/>
              <a:chExt cx="2210760" cy="276480"/>
            </a:xfrm>
          </p:grpSpPr>
          <p:sp>
            <p:nvSpPr>
              <p:cNvPr id="147" name=""/>
              <p:cNvSpPr/>
              <p:nvPr/>
            </p:nvSpPr>
            <p:spPr>
              <a:xfrm>
                <a:off x="695520" y="6070320"/>
                <a:ext cx="317160" cy="150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022400" y="6002280"/>
                <a:ext cx="1883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 Omni Antenna C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"/>
          <p:cNvSpPr/>
          <p:nvPr/>
        </p:nvSpPr>
        <p:spPr>
          <a:xfrm>
            <a:off x="5197320" y="5456160"/>
            <a:ext cx="20923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LOS Ch Throughput (D/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 / .870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470 / .213 Mb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00720" y="1905120"/>
            <a:ext cx="139680" cy="349200"/>
          </a:xfrm>
          <a:prstGeom prst="can">
            <a:avLst>
              <a:gd name="adj" fmla="val 122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57440" y="5481720"/>
            <a:ext cx="1679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LOS Co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13520" y="1428840"/>
            <a:ext cx="183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t Antennas (52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659480" y="1552320"/>
            <a:ext cx="585720" cy="33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20680" y="2228760"/>
            <a:ext cx="0" cy="223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0560" y="222264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41480" y="4114800"/>
            <a:ext cx="187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8880" y="4440240"/>
            <a:ext cx="148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criber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1461E-0A90-4919-AEFE-DDEF0268C9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OFDM Benefit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ide area NLOS 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pectrum Efficienc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ellular reuse with limited number of channel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an-like access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48701-10C1-4ECB-92A0-D9EC67EB96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Wide-Area Coverage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7440" y="1277640"/>
            <a:ext cx="35686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mall town/rural syste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10 dBi omni base antenna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13 dBi subscriber antenna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easured link margin for QPSK OFD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Yellow             &gt; 21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d             15 to 21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Light blue   10 to 15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Green            5 to 10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398840" y="1697040"/>
            <a:ext cx="3841920" cy="406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4F6FF-9D93-4C95-8095-B47D9C5726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13:51:25Z</dcterms:created>
  <dc:creator>Eric Dunn</dc:creator>
  <dc:description>Presented at WCA 2002 conference, Jan 2002, San Jose, California</dc:description>
  <dc:language>en-US</dc:language>
  <cp:lastModifiedBy>Property of</cp:lastModifiedBy>
  <cp:lastPrinted>1999-10-14T16:22:24Z</cp:lastPrinted>
  <dcterms:modified xsi:type="dcterms:W3CDTF">2002-02-14T22:00:10Z</dcterms:modified>
  <cp:revision>439</cp:revision>
  <dc:subject/>
  <dc:title>Advantages of OFDM for Mixed Service Second Generation NLOS Broadband Wireless Access</dc:title>
</cp:coreProperties>
</file>