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DC17-C59E-4809-8042-54918202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CC2-9D44-4A00-A9F8-C45385BE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A10-D59C-4DE8-890B-8F368DE9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3B6-5896-4E92-938B-770231D0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037F-FEE7-406B-8DCB-DD038A1B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B17C-13D4-42EB-B026-6E661563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0C77-F7B4-4989-87B1-893E8C97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0EF2-4747-41D5-894E-77B362C8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8A57-06F6-415B-9736-FC60F1B9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FDD0-62CE-436B-8550-37A49073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EABB-4273-4F2C-BC48-5EA7AF0E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BA4-2DCE-41E0-B54B-D7F78F75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906C-5D37-4CCB-AB9A-D6945325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CA72-FD57-4CFA-876E-441FBEA4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A312-9613-4728-868E-1B703C58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C80A-0168-411E-ABF4-2426A91E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6855-D730-44ED-A663-16C7898F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0AF8-64F7-40D2-B708-49382073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6F2D-6900-4A3D-BE4E-9B29C1D4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D77C-6E61-4D1B-B7BE-EA93A400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62FE-9B1E-4390-BCE9-EC076113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0DA6-FD84-4D5F-80B7-AE055FC1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DB8-6274-4F58-9E45-C9D75EDA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8764-EE63-494B-9283-6316F428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605808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0689-D767-4013-A1C3-F688D0FF206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009C-BF0C-4308-8D9E-A2EB1BBC49B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xt Generation WLAN Cli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ram Solo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ce Presid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ced Communications Produc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CTEL, In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DR / SR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8080" y="2819520"/>
            <a:ext cx="3353040" cy="3352680"/>
            <a:chOff x="838080" y="2819520"/>
            <a:chExt cx="3353040" cy="3352680"/>
          </a:xfrm>
        </p:grpSpPr>
        <p:sp>
          <p:nvSpPr>
            <p:cNvPr id="364" name=""/>
            <p:cNvSpPr/>
            <p:nvPr/>
          </p:nvSpPr>
          <p:spPr>
            <a:xfrm>
              <a:off x="83808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0936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93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36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93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0936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93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36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93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808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36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3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936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93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936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93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36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93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936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93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936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93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36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93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36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93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7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7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7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9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2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5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7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07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856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85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856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85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856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85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856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85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85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856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85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56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5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856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85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856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85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856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85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56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85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856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485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936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93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936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3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936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93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936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093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936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3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36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93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936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936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3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5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5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2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3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3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9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9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1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1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4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4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856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485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856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485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856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85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856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5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856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485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856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85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56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85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4856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85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35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5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7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3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63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0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0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91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34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34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8064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064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48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05520" y="2819520"/>
            <a:ext cx="3352680" cy="3352680"/>
            <a:chOff x="5105520" y="2819520"/>
            <a:chExt cx="3352680" cy="3352680"/>
          </a:xfrm>
        </p:grpSpPr>
        <p:sp>
          <p:nvSpPr>
            <p:cNvPr id="548" name=""/>
            <p:cNvSpPr/>
            <p:nvPr/>
          </p:nvSpPr>
          <p:spPr>
            <a:xfrm>
              <a:off x="510552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06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7680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7680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52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7680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80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7680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7680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552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680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7680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0552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680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680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680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7680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680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680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680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680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680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7680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7680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7680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7680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7680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0552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680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680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06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3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3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1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6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8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17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17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6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6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06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7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1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6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4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8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8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17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6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6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1564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1564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1564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564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564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1564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1564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564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564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564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1564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1564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564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564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564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564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564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1564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564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564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564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1564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1564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564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0552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680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7680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680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7680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52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7680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680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7680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0552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680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80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7680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7680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680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7680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0552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680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7680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45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45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3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734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34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1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588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8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014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14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564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1564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564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564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1564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1564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564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1564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1564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564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1564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564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1564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1564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1564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564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45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3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734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734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1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1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88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88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014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014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808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08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6192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743200" y="4343400"/>
            <a:ext cx="990720" cy="1295280"/>
          </a:xfrm>
          <a:prstGeom prst="rect">
            <a:avLst/>
          </a:prstGeom>
          <a:solidFill>
            <a:srgbClr val="ff995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seb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4343400"/>
            <a:ext cx="990360" cy="1295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IS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3581280"/>
            <a:ext cx="2286000" cy="457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42280" y="3032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88720" y="3048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o Front 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7200" y="40989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4 – 5.8 G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3886200"/>
            <a:ext cx="762120" cy="11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46324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8 – 5.8 GHz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83760" y="2362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DR - 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57960" y="6172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R – IF /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038120" y="32763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4038120" y="53337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5960 h 304920"/>
              <a:gd name="textAreaBottom" fmla="*/ 2286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licensed Bands, Interfer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“unlicensed bands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CC’s NPRM 99-2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rces of Inter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 baseband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r Experi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an channe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SI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Addres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patibi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P+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ervice discovery / smar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d to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0315559" descr=""/>
          <p:cNvPicPr/>
          <p:nvPr/>
        </p:nvPicPr>
        <p:blipFill>
          <a:blip r:embed="rId1"/>
          <a:stretch/>
        </p:blipFill>
        <p:spPr>
          <a:xfrm>
            <a:off x="5105520" y="21906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ble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lti-mode teleph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mple ope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ing bands (a, b, 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multiple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mode,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covery &amp;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1440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2428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220968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lifera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802.11e, f, h, i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gradeable (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, 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wing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roved sig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ing, 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2428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amless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, zero confi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8195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380988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480060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57913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aming – cellular /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mless user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cost of deployment / TCO – enterp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band RF front end (1.8GHz to 5.9G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Defined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962520" y="2057400"/>
                <a:ext cx="109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506760" y="4191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=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1760" y="49528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 =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75120" y="3124080"/>
                <a:ext cx="10666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81360" y="5562720"/>
                <a:ext cx="3429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ne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owled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094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53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5320" y="4191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532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5320" y="5829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marketers mak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money than engin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Generation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requencies, PHY, and 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Security, QoS, Upgrade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Unlicensed bands and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User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LA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bilit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ting W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ail, 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m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/ 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38280" y="1981080"/>
          <a:ext cx="655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655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191120" y="649116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ource: In-Stat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lue to the different buy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2133720"/>
          <a:ext cx="7772400" cy="4314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Use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verage / Mo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IT Manager (Buy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er T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ture Standard Guarante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opera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C OEM (Direct Custom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ign-in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Cost of Ownershi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 Level Requi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sumer (non-Enterprise Us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ference I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02.11 Family of Standar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447920"/>
            <a:ext cx="1066680" cy="5105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-2 Mbps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H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447920"/>
            <a:ext cx="6248520" cy="1295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ove 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2743200"/>
            <a:ext cx="624852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 Layer (applies to all PH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038480"/>
            <a:ext cx="6248520" cy="1295640"/>
          </a:xfrm>
          <a:prstGeom prst="rect">
            <a:avLst/>
          </a:prstGeom>
          <a:solidFill>
            <a:srgbClr val="ff9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334120"/>
            <a:ext cx="6248520" cy="1295280"/>
          </a:xfrm>
          <a:prstGeom prst="rect">
            <a:avLst/>
          </a:pr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051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1240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44197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571500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17524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PP - Ac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Roam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3048120"/>
            <a:ext cx="144756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5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Mbps C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Mbps PBCC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6386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4Mbps 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perLAN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17524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43240" y="472428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943240" y="47239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191120"/>
            <a:ext cx="609588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698240" y="51804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equencies, PHY, and 802.11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“hot-spo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consu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20 log(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feren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943600" y="4724280"/>
            <a:ext cx="2895480" cy="1752840"/>
            <a:chOff x="5943600" y="4724280"/>
            <a:chExt cx="2895480" cy="1752840"/>
          </a:xfrm>
        </p:grpSpPr>
        <p:sp>
          <p:nvSpPr>
            <p:cNvPr id="340" name=""/>
            <p:cNvSpPr/>
            <p:nvPr/>
          </p:nvSpPr>
          <p:spPr>
            <a:xfrm>
              <a:off x="5943600" y="4724280"/>
              <a:ext cx="2895480" cy="1752840"/>
            </a:xfrm>
            <a:prstGeom prst="ellipse">
              <a:avLst/>
            </a:prstGeom>
            <a:solidFill>
              <a:srgbClr val="ffc8a3"/>
            </a:solidFill>
            <a:ln w="9360">
              <a:solidFill>
                <a:srgbClr val="ffc8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952880"/>
              <a:ext cx="1219320" cy="609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715000"/>
              <a:ext cx="1218960" cy="609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iden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43800" y="5334120"/>
              <a:ext cx="1218960" cy="609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t Spo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3520" y="2146320"/>
            <a:ext cx="2751480" cy="2502720"/>
            <a:chOff x="6023520" y="2146320"/>
            <a:chExt cx="2751480" cy="2502720"/>
          </a:xfrm>
        </p:grpSpPr>
        <p:sp>
          <p:nvSpPr>
            <p:cNvPr id="345" name=""/>
            <p:cNvSpPr/>
            <p:nvPr/>
          </p:nvSpPr>
          <p:spPr>
            <a:xfrm>
              <a:off x="6248520" y="4311720"/>
              <a:ext cx="2438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48520" y="2482920"/>
              <a:ext cx="0" cy="1828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787840"/>
              <a:ext cx="990360" cy="1523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78560"/>
              <a:ext cx="2057400" cy="5331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2711520"/>
              <a:ext cx="838080" cy="121932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3930840"/>
              <a:ext cx="1371600" cy="38088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50520" y="38991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802.11b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6280" y="25592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802.11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347364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53"/>
                  </a:solidFill>
                  <a:latin typeface="Arial"/>
                </a:rPr>
                <a:t>Dual Mod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3520" y="2146320"/>
              <a:ext cx="13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hroughpu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43117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ulti-Mode Cli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environment –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risk of standard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 discovery / smar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 / b / g (baseband/a, radio/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 compatibility – Wi-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ISS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curity, QoS, Upgradeabil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i –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P, WEP2, A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e – Quality of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media / conver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evolution is an adoption inhibitor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vs.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ore’s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0:42:06Z</dcterms:created>
  <dc:creator>Yoram Solomon</dc:creator>
  <dc:description/>
  <dc:language>en-US</dc:language>
  <cp:lastModifiedBy>Yoram Solomon</cp:lastModifiedBy>
  <dcterms:modified xsi:type="dcterms:W3CDTF">2002-02-12T23:49:28Z</dcterms:modified>
  <cp:revision>56</cp:revision>
  <dc:subject/>
  <dc:title>PowerPoint Presentation</dc:title>
</cp:coreProperties>
</file>