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408-C942-4B4F-B850-1306570A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0A9-A479-423A-B35A-845822F2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EAC-CF98-4FFF-AA8B-05016E13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A5A-FCC5-4A62-AAAC-33EF32C6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3D79-F02B-45C2-997C-DD8FD8AC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FB8F-4BE0-445B-9152-626071CB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E0D3-958D-43F3-B84C-47C72357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412C-53D1-4609-9144-B9311AA0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3DA1-04A5-4744-BA79-DE4F3035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D54B-BD63-4EB5-AC06-0A248F05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F297-DC98-4D95-B836-A035A8F7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E24F-DA45-41C3-B2DA-5705FB30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88F0-E81A-4F8F-8492-F6B2FFEA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5917-4BEA-477A-A996-6A3A2AFF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8A09-63BA-4E39-A6D7-61013557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6578-0F24-4FFD-B4A7-8ED5A9C1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B23D-A061-41E8-8682-9CDA6361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35D-9390-4067-AE44-AD2FFE06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CD0-5260-4B8D-82FA-B7CE12DD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30B4-6F68-4789-86B3-F1EDF58B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2AB-C374-49AA-99C0-DCED57FD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B9C-0721-4A59-A59C-B3C95D07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177-CF9E-4ACA-9939-CC098FA0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EF7-C66E-4383-B63F-9CA0C82B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DE63-50C4-40FA-91AC-C70868CA2F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7D22-0203-4029-9747-FA6949793C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holar.google.com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rneasia.net/" TargetMode="External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ing a knowledge base for telecom reform in East, South &amp; Southeast Asia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160" y="342864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han Samarajiva and Sujata Ga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lirneasia.ne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29200" y="5029200"/>
            <a:ext cx="32767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38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To improve the lives of the people of Asia by facilitating their use of  information and communication technologies; by catalyzing the reform of the laws, policies and regulations to enable those uses; by building Asia-based human capacity through research, training, consulting and advoca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capac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fu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stering networks because of belief tha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twork &gt; sum of 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tory building makes for greater sustainability and fit fo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ansaction costs must be kept in mi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bjective is sector performance, through improved capac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network building in and of it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 to develop research network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existing research organizations as building b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w transaction cos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rganizations may be inept/rapacio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sential to determine whether organization is of good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3560" indent="-3675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st way: productivity of its researche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 from researc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to find the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evine/snowba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ma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44200" indent="-4057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b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production in the age of the world wide web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a tree falls in the forest and no one hears it, does it make a sound?”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shop George Berkeley (1685-175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es a place in cyberspace exist if no one visits it?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her Dyson (1951-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f research is done but the results are unavailable on the web, was it actually don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bjective of knowledge-mapping researc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ize the knowledge b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tured best through </a:t>
            </a: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net presence should be tempered by peer-review crite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Presence and Quality as dri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ied through university directories, Social Science Citation Index, and Scholar.goo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universities in the directory of universities compiled by the International Association of Universities, a UNESCO organiz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earch Universities in As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list of 150 universities surveyed in the ‘Asia’s Best Universities 2000 Survey’ by </a:t>
            </a: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siaweek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cial Science Citation Index; ISI Citation Database (SSCI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ocuments published between 2000-2005 containing the word telecom or its variation (telecom*) AND ‘asia’ in the title or abstract, and the name of one of the 22 ‘Asian’ countries in the  addr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cholar.google.co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rst 200 documents returned for a search with keywords “telecom * ‘country,” for each of the 22 countries in South, Southeast and East Asia. Initial search yielded 2000+ records. Documents relevant to telecom infrastructure reforms were handpicked from initial sample to yield 717 records. Of these, 105 contained at least one ‘Asia’-based autho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mitations and bi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ases in directories and SS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ta version of scholar.goog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glish language documents on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is the language of scienc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ine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b crawler may not catch policy relevant documents from non-academic cit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 better than alternati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verage:  22 countri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hina, Japan, Hong Kong SAR, Singapore, South Korea, Taiwan RO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fghanistan, Bangladesh, Bhutan, India, Maldives, 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UTH EAST AS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ambodia, 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earch universities in East, South, and Southeast As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1337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119 universities in a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International Assoc. of Universities direc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1 research universit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 Wee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urvey,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ives an estimate of the size of overall knowledge-generation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leashing the power of ICTs in Asia: the need for re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as input to the reform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RNE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s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’s mi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facilitate knowledge networ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nowledge mapping research on telecom reform expertise in As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51 research universities in region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79400" y="1752480"/>
          <a:ext cx="757548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9400" y="1752480"/>
                    <a:ext cx="757548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" y="0"/>
            <a:ext cx="92203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esearch universities as knowledge bas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50 universities; Six countries off the ‘map’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19 names; 12 countries off the ‘map’)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Nepal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kistan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ri Lank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onesia, Laos, Malaysia, Myanmar, Philippines, Thailand, 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cholar.google as Knowledge base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48 names; All but 5 countries back on the ‘map’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a, Japan, Hong Kong, Singapore, South Korea, Taiw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ghanista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angladesh, Bhutan, Ind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dives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pal, Pakistan, Sri Lan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bod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Indone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os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laysia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anm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Philippines, Thailand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etn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sence = Scholar.Google + SS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ields a total of 377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l except 29 names out of 367 captured by scholar.google; As scholar.google or other search engines improve, coverage should improv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5 count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a = 94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th Korea = 86 nam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SCI and Google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’s Google presence &gt;&gt;&gt;&gt; SSCI presence; Korea’s insuffic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120" y="1905120"/>
          <a:ext cx="7238880" cy="434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05120"/>
                    <a:ext cx="72388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ance by indexed journals and online citations as marks of qualit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ality Assessme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f the set of 377 author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19 have published in peer-reviewed international journals (SSC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5 are cited in scholar.goo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 are known through the ‘Grapevine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ble to evaluate 143 at this poi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in Scholar.Google 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most citations are from developed countries and own countr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ted authors, Indi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0 of the 94 Indian authors have publications cited in scholar.goog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50% of these authors are from research universities  (3 IITs; 1 IIM; &amp; Jawaharlal Nehru U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universities (5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ustry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ment (2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(27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lineate the knowledge base:  universities and other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research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ncited author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g time necessar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-profile publication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i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:  Retain in ro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Verdana"/>
              </a:rPr>
              <a:t>CONNECTIVITY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olarly relationships as shown by co-authorships and co-cit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6104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</a:t>
            </a:r>
            <a:br>
              <a:rPr sz="38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377 ‘Asian’ authors; 614 co-authorships; Most co-authorships are within country; Secondly with developed countri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9040" y="1752480"/>
          <a:ext cx="7754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752480"/>
                    <a:ext cx="7754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304920"/>
            <a:ext cx="8305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 by country</a:t>
            </a:r>
            <a:br>
              <a:rPr sz="38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a-Asia co-authorships periphe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3520" y="1828800"/>
            <a:ext cx="6705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9051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a roster of Asia-based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to monitor scholar.google and add names to the ro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 links with the graduate programs at the IITs and add new graduates to the ro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nd out a solicitation annaually or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 their help with LIRN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he roster’s internet presence through LIRNeasia site,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“internet presence” and “quality of work” at the individual level drive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153640" cy="480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8483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, India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an authors with 2 or more collabo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nsalves, IIT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IT Madras (&amp; Tenet); Anna Univer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nghi, IITK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kha Jain, IIM Ahmedabad; 2 expats from a US Company &amp; UC, Berkeley, respectiv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ridha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at, GMU, USA; Virginia Tech, U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-authorships 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676520"/>
            <a:ext cx="8534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havior as expected from agents in knowled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ximity matters (Monge &amp; Contractor (2003); Bozeman (2002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uality drives collaborations, Wagner (2004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er impact factor through collaborations with developed countries (Gamage, ongoing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sian authors, ‘others in Asia’ are neither proximate nor likely to increase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co-authorship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0010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tations 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26 citations, not counting self-cit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03440" y="1752480"/>
          <a:ext cx="772776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1752480"/>
                    <a:ext cx="77277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itations by ‘Asian’ and other developing country autho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772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 citations too presence and quality are the driver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ximity matters (second highest citations through own country authors); but citations by ‘other’ countries could be further increased through better Internet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cholar.google presence with added SSCI credibility receives higher citations per publication than those with scholar.google pres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higher quality work and better internet presence intra-Asia citations may incr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y are we kicking own goal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governments/people agree tha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-readiness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ing service-sector employm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ing firms participating in global economy more efficient is a good th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sed lines are critically important to all of the above, pl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et . . . 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National Leased Line Tariffs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uth Asian Case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2514600"/>
          <a:ext cx="4267080" cy="281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42670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800600" y="2514600"/>
          <a:ext cx="4038480" cy="2819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2514600"/>
                    <a:ext cx="40384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09480" y="1905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Annual Tariffs (US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hat about Indonesia? 2Mbps/2km &amp; 200km, compared with Ind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486400"/>
            <a:ext cx="8458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Data compiled from Lokanathan,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ea typeface="Arial"/>
                <a:hlinkClick r:id="rId2"/>
              </a:rPr>
              <a:t>www.lirneasia.n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, EU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  <a:ea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report, interview with Indonesian ISP &amp; Network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286000"/>
          <a:ext cx="5867280" cy="2438280"/>
        </p:xfrm>
        <a:graphic>
          <a:graphicData uri="http://schemas.openxmlformats.org/drawingml/2006/table">
            <a:tbl>
              <a:tblPr/>
              <a:tblGrid>
                <a:gridCol w="2286000"/>
                <a:gridCol w="1447920"/>
                <a:gridCol w="213336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Mbps link/y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0k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ones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18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US$45,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3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7,6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U Benchmark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Denmark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4,8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S$9,2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leashing power of ICTs, especially in developing As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ed capacity to absorb technology; to innovate; to re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rriers to be rem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veloped Asia has, for the most part; but developing Asia does not .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ining can help, bu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ucation more important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earch is foundation for all of the above in rapidly changing s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lecom sector is one of the most dynam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chnologie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rkets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licy (and its implementation, regulation) must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current technologies that we could not think about 10 years (or even 5 years)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Fi and WiMa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tionale for research and continuous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market phenomena that we could not think about 15 years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-paid mobi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w, more than 80% in most countr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s of policies, regulatory requirements that no longer make s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ulating mobile prices in mos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.g., 64 packages from 4 operator in Sri Lan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approval of equipment in each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quiring frequency licenses for every frequency and frequency-emitting appar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8:38:33Z</dcterms:created>
  <dc:creator>Rohan Samarajiva</dc:creator>
  <dc:description/>
  <dc:language>en-US</dc:language>
  <cp:lastModifiedBy>TMD Tennakoon</cp:lastModifiedBy>
  <dcterms:modified xsi:type="dcterms:W3CDTF">2005-09-30T06:19:07Z</dcterms:modified>
  <cp:revision>117</cp:revision>
  <dc:subject/>
  <dc:title>S&amp;T Inpu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92191917</vt:r8>
  </property>
  <property fmtid="{D5CDD505-2E9C-101B-9397-08002B2CF9AE}" pid="3" name="_AuthorEmail">
    <vt:lpwstr>samarajiva@lirne.net</vt:lpwstr>
  </property>
  <property fmtid="{D5CDD505-2E9C-101B-9397-08002B2CF9AE}" pid="4" name="_AuthorEmailDisplayName">
    <vt:lpwstr>Rohan Samarajiva</vt:lpwstr>
  </property>
  <property fmtid="{D5CDD505-2E9C-101B-9397-08002B2CF9AE}" pid="5" name="_EmailSubject">
    <vt:lpwstr>Slides for your changes</vt:lpwstr>
  </property>
  <property fmtid="{D5CDD505-2E9C-101B-9397-08002B2CF9AE}" pid="6" name="_ReviewingToolsShownOnce">
    <vt:lpwstr/>
  </property>
</Properties>
</file>