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.wmf" ContentType="image/x-wmf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5680-AB6D-4E81-81FB-09EFD9F0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14C8-3072-464C-9B4E-5C0B34C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F71-D756-4BBF-ABA0-27644DEF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75E-5038-43B3-9E2B-208FCCC6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70B6-C7E8-43E4-99E2-E5C5A145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7871-B38B-4C3F-BD32-0DA0C143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4536-E209-4BD9-A50A-A37D9AA8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B571-1DFD-4EB2-BA1D-CB70FB06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0580-F1E2-4B61-BEB5-D476FF8B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8119-5EF7-450E-886A-5AFC1A40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022-870F-4464-A172-3C51104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DF2B-A666-4154-A43C-995462F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4F96-2587-4FC4-B0AA-F4858FDE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4242-0F51-4501-8D06-53697543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38B9-81D9-488A-BF1C-7256362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EF54-0E22-4CC6-A2B5-3D57B7BB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EC5D-C274-420B-8F0B-D936BA16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456-0901-4E4A-AA23-132C87E6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CA5-AAAF-4E80-BE63-A5A5A434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18E7-6F5A-40C3-ABEA-BCF21FEC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504-F876-4758-989B-0275422E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FD8-519F-4712-ADC4-D725C287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D39-E1F1-4598-9216-D567C8F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4C3-B92A-41D6-B717-42212B28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8A3-7CBD-47B4-AEDF-FCE7C5FDD8A9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1E7-EA39-404E-B355-9489B5617AC6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22.wmf"/><Relationship Id="rId3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Tahoma"/>
              </a:rPr>
              <a:t>Presented at APAN Digital Library Tutorial Session, August 2001, Malaysia</a:t>
            </a:r>
            <a:endParaRPr b="0" lang="en-US" sz="18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ive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c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unching =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e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Initia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 Bottom-up initia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from the grass root (started from the university, library, and research institution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anag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Indonesia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central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gital library 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Forum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is a forum which discus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tadata Standar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nformation exchang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cenario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digital library network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artnersh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the communit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cializ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f digital library progra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artner/Consortioum mee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whe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ariat at KMRG, ITB Centr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ed by a general secretary (Ismail Fahmi, 2000 – now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n join the mailing list, send blank email to 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e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networks withi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is a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in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twor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-Network, using GDL (Ganesha Digital Library) software, developed by KMRG IT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U-VL, using New Spektra software, developed by UK Petra Surabay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digital library network (heritage, agriculture, etc)… (futu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Hub server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 Top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network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is in develop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 bed of the Metadata interoperabil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35864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table-partner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552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Distribution Map of GDL-Network Partn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map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7612200" cy="3679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 of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users that have registered at GDL serv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the total members registered at GDL Hub is abou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2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s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knowled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Members of GDL-Network (by partner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1358640" y="17161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table-member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0646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Count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table-country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6115320" cy="4892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42800" y="1639800"/>
            <a:ext cx="16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Members’ Jo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table-jobs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240440" cy="435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358640" y="14112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ble of the Cont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table-types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297320" cy="466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82320" y="148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305080" y="2844720"/>
            <a:ext cx="46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gether develop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51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59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62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65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68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71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74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77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80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83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8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310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25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7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41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43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4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5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47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9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51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52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62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63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73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74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84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95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96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406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407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17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18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21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24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30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31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41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42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52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53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63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6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6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87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0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9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Sharing &amp; Replication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17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18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9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2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4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51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52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53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55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56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57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74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6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8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7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0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8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2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4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8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6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8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8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0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9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2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94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95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98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02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706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712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17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32600" y="6211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863400" y="411480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472880" y="1676520"/>
            <a:ext cx="16848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24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enario of Ac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47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60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62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1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2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76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78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7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0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8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86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87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90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93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99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03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807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808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18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20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21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23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24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68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0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7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72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6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3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Philos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joi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8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911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3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15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16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19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22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28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32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34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6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38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39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49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50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60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2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64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6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tion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767960" y="2786040"/>
            <a:ext cx="533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men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t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 GDL-Net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ves to join for 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existing GDL server (Central Library), http://digi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GDL server at Department, http://digilib.DEPT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527840" y="5410080"/>
            <a:ext cx="43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xample , Sub-category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iology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528560" y="54100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otry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partment’s Directory … [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e detai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366480" y="57312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of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 GDL Server at Depar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GDL Software, download for free at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or order CD-ROM to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@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lib.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itb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ll the registration form and send to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by department’s administr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ical support, contact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the abstract and full content to department’s local server, and share to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ct from GDL-Hub server onlin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The 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to partner’s knowledgebas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2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nline Catalo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Different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containing electronic resources (document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only bibliographic data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catalog usually related to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Student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an Joi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ep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ree registration to become a member, at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DLHUB,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r at other GDL Servers ( of partner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pload &amp; share the abstract and full content of the paper, reports, these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ember’s Personal Directory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your.com/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Th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 server will share them automatically to IndonesiDL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’s contribution can be accessed wide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2802240" y="3063960"/>
            <a:ext cx="361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donesiaDLN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support the regional autonomy development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 or Agricultural information network, integrated with IndonesiaDL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knowledge assets from IndonesiaDLN using other media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uman Right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2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3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3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UR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out GDL-Network, registration, join, software, patch, download, etc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/faqgdl.ph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 KMRG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</a:rPr>
              <a:t>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2559240" y="2565360"/>
            <a:ext cx="373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hrough a national networked digital libra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every institutions can manage their own digital libra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unif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ll knowledge will be disseminated (mirror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using international accepted metadata standard (Dublin Co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tion that will be collected and managed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cle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pping, Heritage, Multimedia, expertise directory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i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osque, Religion i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zen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8-09T09:02:21Z</dcterms:modified>
  <cp:revision>81</cp:revision>
  <dc:subject/>
  <dc:title>Digital Library Network dan  Riset Nasional</dc:title>
</cp:coreProperties>
</file>