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B39-2EEF-4792-895D-8D90C19D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BAE1-1FF6-4FA5-AD34-A1F07282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8DF-44F2-4EC1-A92F-2333846D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8593-3356-4A1A-B02C-81122A1E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DF4-661E-4049-9604-49149EFC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EBC-A06F-4ED1-BE38-6DF5D0CD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BCE-994B-48D4-A4C6-DF2AEA40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AE5-C3A9-48B8-A1DA-5A594E8D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83D2-AFB7-4F9D-96A3-41BEA8DE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B39-05FD-4F40-A348-BC451E8C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217-E3A2-4836-9301-8BCC685D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F20-C408-4325-A1D8-CF977394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8B83-2187-4293-A030-D8F8356D2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Libr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menterian Lingkungan Hid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mail Fah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 Management Research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itut Teknologi Ban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b Server IndonesiaD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dlhub.indonesiadl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dl-klh" descr=""/>
          <p:cNvPicPr/>
          <p:nvPr/>
        </p:nvPicPr>
        <p:blipFill>
          <a:blip r:embed="rId1"/>
          <a:stretch/>
        </p:blipFill>
        <p:spPr>
          <a:xfrm>
            <a:off x="507960" y="668160"/>
            <a:ext cx="8126280" cy="5521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7560" y="1295280"/>
            <a:ext cx="2722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in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artikel dalam 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4:51:13Z</dcterms:created>
  <dc:creator>Ismail Fahmi</dc:creator>
  <dc:description/>
  <dc:language>en-US</dc:language>
  <cp:lastModifiedBy>Ismail Fahmi</cp:lastModifiedBy>
  <dcterms:modified xsi:type="dcterms:W3CDTF">2002-07-27T15:01:10Z</dcterms:modified>
  <cp:revision>2</cp:revision>
  <dc:subject/>
  <dc:title>Digital Library Kementerian Lingkungan Hidup</dc:title>
</cp:coreProperties>
</file>