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B28-F463-41A2-9148-4A862FDF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50E-0419-4BEC-AA0C-CED079A4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D95-CA08-4D84-9958-E06249A9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EE5-8C16-46A5-B50C-4EF2E104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B87-C6FE-43A2-9EBD-1D143004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68E-B1BC-4702-83FF-F76B9013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3CF-EDDE-4206-B780-9AE7C9A6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7F5-0802-420C-BF23-639815AE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752-4946-4731-8A60-32C13116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1691-3666-4E67-B8AA-9BAC196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4E9-54A0-4B2E-9AF2-791CB3B9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A83-7FCB-4BFF-81A6-C85DCBD3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D066-BD59-4F03-B932-4567C9A5C4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5333760"/>
            <a:ext cx="6477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net Linking for Amateur Rad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LinkingExample" descr=""/>
          <p:cNvPicPr/>
          <p:nvPr/>
        </p:nvPicPr>
        <p:blipFill>
          <a:blip r:embed="rId1"/>
          <a:stretch/>
        </p:blipFill>
        <p:spPr>
          <a:xfrm>
            <a:off x="1600200" y="1073160"/>
            <a:ext cx="594360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EchoLink</a:t>
            </a:r>
            <a:endParaRPr b="0" lang="en-US" sz="7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Repeat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2" name="EchoLink_Mike_Joe_Sam_Repeat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ringing it all Togeth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5" name="EchoLink3_TheWholeGroup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928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art 97 Link Require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mplex link and Repeater link as depicted here require a control operato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Link is installed at the repeater side, it becomes a part of the repeater, and can then run in “automatic control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nd now -- The Software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86040" y="2362320"/>
            <a:ext cx="3048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is the main Screen, listing the Stations currently on the Link, by Country, Call Zone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ttom of the Screen shows the current Transmit and Receive Audio levels in a colored bar graph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echolink_screenshot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502920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sic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81480" y="2437920"/>
            <a:ext cx="3353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thing to do after installing the software is to configure your Station Set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EL_InitialSetup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343400" cy="32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 first time you use Echolink, you will have to wait to be validated, before you are connected to the EchoLink ser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udio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0968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ludes your Audio details, for the PC Speakers and Micro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ELaudio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935600" cy="3662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nnection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362320"/>
            <a:ext cx="297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creen allows you to configure the various Internet connections you are willing to ac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ELpreferances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876920" cy="357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85800" y="1676520"/>
            <a:ext cx="7162200" cy="2390760"/>
            <a:chOff x="685800" y="1676520"/>
            <a:chExt cx="7162200" cy="23907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32079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3911400" y="2571840"/>
              <a:ext cx="3936600" cy="824040"/>
              <a:chOff x="3911400" y="2571840"/>
              <a:chExt cx="3936600" cy="824040"/>
            </a:xfrm>
          </p:grpSpPr>
          <p:sp>
            <p:nvSpPr>
              <p:cNvPr id="101" name=""/>
              <p:cNvSpPr/>
              <p:nvPr/>
            </p:nvSpPr>
            <p:spPr>
              <a:xfrm>
                <a:off x="5387760" y="2571840"/>
                <a:ext cx="2460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Out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11400" y="2693160"/>
                <a:ext cx="1476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600200" y="3657600"/>
            <a:ext cx="6838560" cy="2286000"/>
            <a:chOff x="1600200" y="3657600"/>
            <a:chExt cx="6838560" cy="2286000"/>
          </a:xfrm>
        </p:grpSpPr>
        <p:grpSp>
          <p:nvGrpSpPr>
            <p:cNvPr id="104" name=""/>
            <p:cNvGrpSpPr/>
            <p:nvPr/>
          </p:nvGrpSpPr>
          <p:grpSpPr>
            <a:xfrm>
              <a:off x="1600200" y="4296600"/>
              <a:ext cx="3756600" cy="824040"/>
              <a:chOff x="1600200" y="4296600"/>
              <a:chExt cx="3756600" cy="824040"/>
            </a:xfrm>
          </p:grpSpPr>
          <p:sp>
            <p:nvSpPr>
              <p:cNvPr id="105" name=""/>
              <p:cNvSpPr/>
              <p:nvPr/>
            </p:nvSpPr>
            <p:spPr>
              <a:xfrm>
                <a:off x="1600200" y="4296600"/>
                <a:ext cx="2306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In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72960" y="4487040"/>
                <a:ext cx="13838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431320" y="3657600"/>
              <a:ext cx="300744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609480" y="144792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Pc Audio Scree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Receiv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828800"/>
            <a:ext cx="2210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Op Mode is used when interfacing a Transceiver, and requires additional setup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ELsysop_RX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Transmi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676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828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ELsysop_TX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44356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248520" y="2209680"/>
            <a:ext cx="236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choices for triggering the PTT interface to the Ri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General Topics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EchoLin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Mo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ing EchoLink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to Computer via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iver to Computer to the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Radio Interfa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nking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Amateur Radi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Identific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ELsysop_Ident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4876920" cy="365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22096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CW and Voice ID are available, along with the method and time interval for the ID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990720" y="1752480"/>
            <a:ext cx="2971800" cy="1828440"/>
            <a:chOff x="990720" y="1752480"/>
            <a:chExt cx="2971800" cy="18284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990720" y="2099160"/>
              <a:ext cx="2971800" cy="14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62960" y="1752480"/>
              <a:ext cx="196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25480" y="1752480"/>
            <a:ext cx="3100320" cy="3200400"/>
            <a:chOff x="5325480" y="1752480"/>
            <a:chExt cx="3100320" cy="320040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5425920" y="2243160"/>
              <a:ext cx="2837160" cy="27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25480" y="1752480"/>
              <a:ext cx="310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uter and Softwa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752480" y="3733920"/>
            <a:ext cx="2819520" cy="2133360"/>
            <a:chOff x="1752480" y="3733920"/>
            <a:chExt cx="2819520" cy="213336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1752480" y="4115160"/>
              <a:ext cx="28195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529000" y="3733920"/>
              <a:ext cx="127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What’s Needed for SysOp Mode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king Your Own Interfac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eo patch cord with 1/8” plugs from receiver audio to PC “Line-In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ch cord from PC “Mic-Out” to Transmitter Audio input (should be attenuated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 PTT circuitry from COM po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interface_rts_ttl" descr=""/>
          <p:cNvPicPr/>
          <p:nvPr/>
        </p:nvPicPr>
        <p:blipFill>
          <a:blip r:embed="rId1"/>
          <a:stretch/>
        </p:blipFill>
        <p:spPr>
          <a:xfrm>
            <a:off x="2438280" y="4648320"/>
            <a:ext cx="403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t, a “Good” Interface should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e the computer audio from transcei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uate the speaker/line level out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atching of audio to mic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 of all grou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easy to hook up, and leave in-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Soundcard Interfac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44" name="Rigblasters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200400" cy="1809720"/>
          </a:xfrm>
          <a:prstGeom prst="rect">
            <a:avLst/>
          </a:prstGeom>
          <a:ln w="0">
            <a:noFill/>
          </a:ln>
        </p:spPr>
      </p:pic>
      <p:pic>
        <p:nvPicPr>
          <p:cNvPr id="145" name="echolinkWB2REM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2328840" cy="1509840"/>
          </a:xfrm>
          <a:prstGeom prst="rect">
            <a:avLst/>
          </a:prstGeom>
          <a:ln w="0">
            <a:noFill/>
          </a:ln>
        </p:spPr>
      </p:pic>
      <p:pic>
        <p:nvPicPr>
          <p:cNvPr id="146" name="interface_VA3TO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276720" cy="1409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1055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blaster is the more common interface, with jumpers to configure any brand of microphone and r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038480" y="2057400"/>
            <a:ext cx="28958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0574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IGblas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West Mountain radio is probably the most versa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952880" y="41148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ncludes a software CD for most popular Soundcard programs including PSK, SSTV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1240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“jumper” configurations to interface to “Any” radio microphone wiring sche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562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 Mountain Radio provides excellent Internet, email and phone supp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good Choice for the Interfa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IGblaster Featur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o-isolation prevents ground loo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able PC speaker level output to mic in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s directly into the mic jack on your transceiver with an included 8 pin round to RJ45 adap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ncludes a Serial cable, along with stereo speaker and microphone input c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s the existing jacks on computer and ri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be used with almost any brand and model of radio, using internal microphone jump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stay in-line at all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different models avail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Other VoIP Applica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ow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pecialized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res I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- Special Yaesu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No Call Sign Validation (allows SWL connect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ux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inux – Specialized Interface – Strictly Repeater to Repe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3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Most Popula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choLin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Individual User Connec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can be homebrew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-going support expens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operating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523880"/>
            <a:ext cx="3429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 R L 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s Repeaters – not individual u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proprietary interface board at $1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of $30.00 year donation sugges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operating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s and C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Hams traveling away to stay in contact with Hams back home through a Repeater link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Technician licensees a chance to experience DX Contact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SL’s are not valid for things like DXC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“middle” connection is the Internet, and this is a “wired” connection – not wireless RF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is EchoLink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hoLink uses VoIP (Voice Over Internet Protocol) to allow licensed Amateur Radio Operators to communicate with other Amateurs via the Internet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primarily a Windows based application and is offered free of charge at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http://www.echolink.org.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also a new EchoLinux and EchoMac available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s developed by Jonathan Taylor (K1RFD) in 2002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 received Hamvention 2003 Special Achievement A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ut Again –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“Is it Ham Radio?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long as there is a Simplex or Repeater Link involved it is a new “mode” – It is that simple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ldwide Regulatory agencies like the FCC, ART, IBPT, OFCOM, SRR, etc. have recognized it as another Ham “tool” like SSTV or PSK31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ing these “links” you must still ID and follow all regulations, including International rules and Third party agreement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we don’t keep using our Radios in as many modes as we can, we are going to lose some of the band allocations we have worked so hard f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Com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allows us to expand upon our different Ham activities, and gives Amateur Radio a new dimension with a new technology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 your Transceiver up to it and use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new technologies like Cell Phones, RFID, (BPL?), are competing for our bandwidth, so lets utilize it with all the modes available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 U T  Remember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Amateur Radio has grown to embrace new technologies and has now become more than just “Radio” , it is really 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without “Radio”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"/>
                            </p:stCondLst>
                            <p:childTnLst>
                              <p:par>
                                <p:cTn id="4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Graphics of the various Modes are from the “Ops Tips” page of West Mountain Radio’s Web site, and used with their permi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estmountainradio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2057400"/>
            <a:ext cx="3124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Modes are Available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operated strictly between two computers connected to the Internet using the PC soundcard with Speakers and a Microphon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standard FM transceiver as a “simplex link” from your home QTH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VHF or UHF repeater for more covera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choLink “User Mode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s this really Ham Radio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0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t Depends upon how you “use” it!!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User PC to PC involves no 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just another Internet “Chat Room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mplex-Link or Repeater connection now makes it a “new” Amateur Radio Mo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“Simplex-Link”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6" name="EchoLink_Mike_Joe_Sam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xpanding the “Link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9" name="EchoLink_Mike_Joe_Sam_BackYard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15:21:03Z</dcterms:created>
  <dc:creator>Bob Wiseman</dc:creator>
  <dc:description/>
  <dc:language>en-US</dc:language>
  <cp:lastModifiedBy>Bob Wiseman</cp:lastModifiedBy>
  <dcterms:modified xsi:type="dcterms:W3CDTF">2005-02-04T14:23:19Z</dcterms:modified>
  <cp:revision>174</cp:revision>
  <dc:subject/>
  <dc:title>APRS</dc:title>
</cp:coreProperties>
</file>